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cashreg.wav" ContentType="audio/x-wav"/>
  <Override PartName="/ppt/media/image2.wmf" ContentType="image/x-wmf"/>
  <Override PartName="/ppt/media/image3.wmf" ContentType="image/x-wmf"/>
  <Override PartName="/ppt/media/voltage.wav" ContentType="audio/x-wav"/>
  <Override PartName="/ppt/media/image4.wmf" ContentType="image/x-wmf"/>
  <Override PartName="/ppt/media/image5.wmf" ContentType="image/x-wmf"/>
  <Override PartName="/ppt/media/explode.wav" ContentType="audio/x-wav"/>
  <Override PartName="/ppt/media/suction.wav" ContentType="audio/x-wav"/>
  <Override PartName="/ppt/media/image7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136-2C1B-40AF-B6C3-E2CBC6EB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5B6-62A3-4430-8E02-F5E14AE1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404-0F28-47BE-916D-D120364C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DD7-C181-4083-887E-44A145B9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51D4-71F4-4EE1-86FB-BFE3B7D7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1E96-B532-48A3-A2B5-67C293BE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AC44-E440-4188-BABC-16FFDC5B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49E8-5776-4BF9-AE83-437766D0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648E-1226-43E2-983C-0CB68629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E12B-115C-43B2-8188-58F67893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3AFF-1997-49D9-B1C4-A684E5A0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EAB-BAD9-44ED-A362-1D27D216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7278-F6C8-4143-904D-01EAF16E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B03C-D2B8-4124-BF4A-136FD84B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EB5D-C75A-47E0-8292-A5447F63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8DBC-C0A2-4AC0-910B-202B8450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9D81-4A67-4811-BF98-20B0E5C8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6459-C1F2-4893-87C7-9781CBA9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EB1-99C9-4AB6-889A-AEBD40F4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20E-33A1-413D-895D-8AA650EE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34C-6E2E-4A02-B72A-2A2A448D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EDF-B5A8-4AEE-B7E9-B097A906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AB9-B6E3-4E2C-94E9-2AD7D5FB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1F0-EB56-43AC-854A-B2A7CFA4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2807-D1A5-439A-A04F-2A1527DFAEE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013F-8625-4BA2-871A-C1299902771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audio" Target="../media/suction.wav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13 +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 – (-3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 ÷ 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9(-4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2714760" y="2089080"/>
            <a:ext cx="160200" cy="81000"/>
          </a:xfrm>
          <a:custGeom>
            <a:avLst/>
            <a:gdLst/>
            <a:ahLst/>
            <a:rect l="l" t="t" r="r" b="b"/>
            <a:pathLst>
              <a:path w="447" h="225">
                <a:moveTo>
                  <a:pt x="7541" y="5829"/>
                </a:moveTo>
                <a:cubicBezTo>
                  <a:pt x="7653" y="5829"/>
                  <a:pt x="7752" y="5808"/>
                  <a:pt x="7863" y="5804"/>
                </a:cubicBezTo>
                <a:cubicBezTo>
                  <a:pt x="7880" y="5804"/>
                  <a:pt x="7896" y="5804"/>
                  <a:pt x="7913" y="5804"/>
                </a:cubicBezTo>
              </a:path>
              <a:path w="447" h="225">
                <a:moveTo>
                  <a:pt x="7615" y="6028"/>
                </a:moveTo>
                <a:cubicBezTo>
                  <a:pt x="7739" y="6028"/>
                  <a:pt x="7863" y="6028"/>
                  <a:pt x="7987" y="602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0160" y="1839960"/>
            <a:ext cx="2268720" cy="803160"/>
          </a:xfrm>
          <a:custGeom>
            <a:avLst/>
            <a:gdLst/>
            <a:ahLst/>
            <a:rect l="l" t="t" r="r" b="b"/>
            <a:pathLst>
              <a:path w="6301" h="2233">
                <a:moveTo>
                  <a:pt x="9426" y="5606"/>
                </a:moveTo>
                <a:cubicBezTo>
                  <a:pt x="9462" y="5769"/>
                  <a:pt x="9503" y="5936"/>
                  <a:pt x="9525" y="6102"/>
                </a:cubicBezTo>
                <a:cubicBezTo>
                  <a:pt x="9525" y="6152"/>
                  <a:pt x="9525" y="6168"/>
                  <a:pt x="9525" y="6201"/>
                </a:cubicBezTo>
              </a:path>
              <a:path w="6301" h="2233">
                <a:moveTo>
                  <a:pt x="9748" y="5581"/>
                </a:moveTo>
                <a:cubicBezTo>
                  <a:pt x="9809" y="5532"/>
                  <a:pt x="9918" y="5497"/>
                  <a:pt x="9996" y="5531"/>
                </a:cubicBezTo>
                <a:cubicBezTo>
                  <a:pt x="10013" y="5548"/>
                  <a:pt x="10029" y="5564"/>
                  <a:pt x="10046" y="5581"/>
                </a:cubicBezTo>
                <a:cubicBezTo>
                  <a:pt x="10027" y="5625"/>
                  <a:pt x="9965" y="5805"/>
                  <a:pt x="9897" y="5804"/>
                </a:cubicBezTo>
                <a:cubicBezTo>
                  <a:pt x="9897" y="5796"/>
                  <a:pt x="9897" y="5787"/>
                  <a:pt x="9897" y="5779"/>
                </a:cubicBezTo>
                <a:cubicBezTo>
                  <a:pt x="10005" y="5764"/>
                  <a:pt x="10134" y="5728"/>
                  <a:pt x="10220" y="5829"/>
                </a:cubicBezTo>
                <a:cubicBezTo>
                  <a:pt x="10339" y="5968"/>
                  <a:pt x="10095" y="6118"/>
                  <a:pt x="9996" y="6152"/>
                </a:cubicBezTo>
                <a:cubicBezTo>
                  <a:pt x="9859" y="6199"/>
                  <a:pt x="9822" y="6188"/>
                  <a:pt x="9748" y="6102"/>
                </a:cubicBezTo>
              </a:path>
              <a:path w="6301" h="2233">
                <a:moveTo>
                  <a:pt x="10468" y="5928"/>
                </a:moveTo>
                <a:cubicBezTo>
                  <a:pt x="10468" y="5920"/>
                  <a:pt x="10468" y="5912"/>
                  <a:pt x="10468" y="5904"/>
                </a:cubicBezTo>
              </a:path>
              <a:path w="6301" h="2233">
                <a:moveTo>
                  <a:pt x="8979" y="5953"/>
                </a:moveTo>
                <a:cubicBezTo>
                  <a:pt x="9045" y="5953"/>
                  <a:pt x="9112" y="5953"/>
                  <a:pt x="9178" y="5953"/>
                </a:cubicBezTo>
              </a:path>
              <a:path w="6301" h="2233">
                <a:moveTo>
                  <a:pt x="8830" y="5531"/>
                </a:moveTo>
                <a:cubicBezTo>
                  <a:pt x="8889" y="5728"/>
                  <a:pt x="8840" y="5964"/>
                  <a:pt x="8830" y="6176"/>
                </a:cubicBezTo>
                <a:cubicBezTo>
                  <a:pt x="8825" y="6293"/>
                  <a:pt x="8806" y="6408"/>
                  <a:pt x="8806" y="6524"/>
                </a:cubicBezTo>
              </a:path>
              <a:path w="6301" h="2233">
                <a:moveTo>
                  <a:pt x="10269" y="5234"/>
                </a:moveTo>
                <a:cubicBezTo>
                  <a:pt x="10345" y="5348"/>
                  <a:pt x="10350" y="5496"/>
                  <a:pt x="10368" y="5631"/>
                </a:cubicBezTo>
                <a:cubicBezTo>
                  <a:pt x="10395" y="5831"/>
                  <a:pt x="10393" y="6025"/>
                  <a:pt x="10393" y="6226"/>
                </a:cubicBezTo>
                <a:cubicBezTo>
                  <a:pt x="10393" y="6251"/>
                  <a:pt x="10393" y="6259"/>
                  <a:pt x="10393" y="6276"/>
                </a:cubicBezTo>
              </a:path>
              <a:path w="6301" h="2233">
                <a:moveTo>
                  <a:pt x="9649" y="6846"/>
                </a:moveTo>
                <a:cubicBezTo>
                  <a:pt x="9669" y="6945"/>
                  <a:pt x="9674" y="7038"/>
                  <a:pt x="9674" y="7144"/>
                </a:cubicBezTo>
                <a:cubicBezTo>
                  <a:pt x="9674" y="7169"/>
                  <a:pt x="9674" y="7193"/>
                  <a:pt x="9674" y="7218"/>
                </a:cubicBezTo>
              </a:path>
              <a:path w="6301" h="2233">
                <a:moveTo>
                  <a:pt x="9922" y="6772"/>
                </a:moveTo>
                <a:cubicBezTo>
                  <a:pt x="10007" y="6748"/>
                  <a:pt x="10216" y="6649"/>
                  <a:pt x="10294" y="6722"/>
                </a:cubicBezTo>
                <a:cubicBezTo>
                  <a:pt x="10351" y="6775"/>
                  <a:pt x="10211" y="6901"/>
                  <a:pt x="10195" y="6921"/>
                </a:cubicBezTo>
                <a:cubicBezTo>
                  <a:pt x="10187" y="6929"/>
                  <a:pt x="10178" y="6937"/>
                  <a:pt x="10170" y="6945"/>
                </a:cubicBezTo>
                <a:cubicBezTo>
                  <a:pt x="10255" y="6896"/>
                  <a:pt x="10352" y="6880"/>
                  <a:pt x="10443" y="6945"/>
                </a:cubicBezTo>
                <a:cubicBezTo>
                  <a:pt x="10451" y="6962"/>
                  <a:pt x="10460" y="6978"/>
                  <a:pt x="10468" y="6995"/>
                </a:cubicBezTo>
                <a:cubicBezTo>
                  <a:pt x="10376" y="7143"/>
                  <a:pt x="10344" y="7236"/>
                  <a:pt x="10145" y="7218"/>
                </a:cubicBezTo>
                <a:cubicBezTo>
                  <a:pt x="10120" y="7210"/>
                  <a:pt x="10096" y="7201"/>
                  <a:pt x="10071" y="7193"/>
                </a:cubicBezTo>
              </a:path>
              <a:path w="6301" h="2233">
                <a:moveTo>
                  <a:pt x="10716" y="5879"/>
                </a:moveTo>
                <a:cubicBezTo>
                  <a:pt x="10827" y="5879"/>
                  <a:pt x="10930" y="5864"/>
                  <a:pt x="11038" y="5854"/>
                </a:cubicBezTo>
                <a:cubicBezTo>
                  <a:pt x="11096" y="5854"/>
                  <a:pt x="11104" y="5854"/>
                  <a:pt x="11137" y="5854"/>
                </a:cubicBezTo>
              </a:path>
              <a:path w="6301" h="2233">
                <a:moveTo>
                  <a:pt x="11683" y="5333"/>
                </a:moveTo>
                <a:cubicBezTo>
                  <a:pt x="11694" y="5522"/>
                  <a:pt x="11728" y="5713"/>
                  <a:pt x="11708" y="5904"/>
                </a:cubicBezTo>
                <a:cubicBezTo>
                  <a:pt x="11700" y="5977"/>
                  <a:pt x="11683" y="6028"/>
                  <a:pt x="11683" y="6102"/>
                </a:cubicBezTo>
              </a:path>
              <a:path w="6301" h="2233">
                <a:moveTo>
                  <a:pt x="12328" y="5358"/>
                </a:moveTo>
                <a:cubicBezTo>
                  <a:pt x="12276" y="5358"/>
                  <a:pt x="12194" y="5340"/>
                  <a:pt x="12179" y="5383"/>
                </a:cubicBezTo>
                <a:cubicBezTo>
                  <a:pt x="12157" y="5448"/>
                  <a:pt x="12069" y="5573"/>
                  <a:pt x="12080" y="5631"/>
                </a:cubicBezTo>
                <a:cubicBezTo>
                  <a:pt x="12088" y="5639"/>
                  <a:pt x="12097" y="5647"/>
                  <a:pt x="12105" y="5655"/>
                </a:cubicBezTo>
                <a:cubicBezTo>
                  <a:pt x="12208" y="5614"/>
                  <a:pt x="12319" y="5560"/>
                  <a:pt x="12427" y="5606"/>
                </a:cubicBezTo>
                <a:cubicBezTo>
                  <a:pt x="12571" y="5667"/>
                  <a:pt x="12500" y="5814"/>
                  <a:pt x="12402" y="5879"/>
                </a:cubicBezTo>
                <a:cubicBezTo>
                  <a:pt x="12189" y="6020"/>
                  <a:pt x="12198" y="5864"/>
                  <a:pt x="12229" y="5705"/>
                </a:cubicBezTo>
              </a:path>
              <a:path w="6301" h="2233">
                <a:moveTo>
                  <a:pt x="12700" y="5110"/>
                </a:moveTo>
                <a:cubicBezTo>
                  <a:pt x="12741" y="5314"/>
                  <a:pt x="12763" y="5544"/>
                  <a:pt x="12774" y="5755"/>
                </a:cubicBezTo>
                <a:cubicBezTo>
                  <a:pt x="12778" y="5838"/>
                  <a:pt x="12746" y="6074"/>
                  <a:pt x="12799" y="6127"/>
                </a:cubicBezTo>
              </a:path>
              <a:path w="6301" h="2233">
                <a:moveTo>
                  <a:pt x="11237" y="7069"/>
                </a:moveTo>
                <a:cubicBezTo>
                  <a:pt x="11312" y="7054"/>
                  <a:pt x="11379" y="7045"/>
                  <a:pt x="11460" y="7045"/>
                </a:cubicBezTo>
              </a:path>
              <a:path w="6301" h="2233">
                <a:moveTo>
                  <a:pt x="12179" y="6722"/>
                </a:moveTo>
                <a:cubicBezTo>
                  <a:pt x="12033" y="6722"/>
                  <a:pt x="12056" y="6702"/>
                  <a:pt x="11981" y="6796"/>
                </a:cubicBezTo>
                <a:cubicBezTo>
                  <a:pt x="11913" y="6864"/>
                  <a:pt x="11891" y="6881"/>
                  <a:pt x="11881" y="6945"/>
                </a:cubicBezTo>
                <a:cubicBezTo>
                  <a:pt x="11978" y="6945"/>
                  <a:pt x="12055" y="6941"/>
                  <a:pt x="12154" y="6945"/>
                </a:cubicBezTo>
                <a:cubicBezTo>
                  <a:pt x="12229" y="6948"/>
                  <a:pt x="12457" y="6999"/>
                  <a:pt x="12378" y="7144"/>
                </a:cubicBezTo>
                <a:cubicBezTo>
                  <a:pt x="12312" y="7266"/>
                  <a:pt x="12023" y="7301"/>
                  <a:pt x="11931" y="7193"/>
                </a:cubicBezTo>
                <a:cubicBezTo>
                  <a:pt x="11931" y="7168"/>
                  <a:pt x="11931" y="7144"/>
                  <a:pt x="11931" y="7119"/>
                </a:cubicBezTo>
              </a:path>
              <a:path w="6301" h="2233">
                <a:moveTo>
                  <a:pt x="12898" y="6722"/>
                </a:moveTo>
                <a:cubicBezTo>
                  <a:pt x="13028" y="6689"/>
                  <a:pt x="13137" y="6672"/>
                  <a:pt x="13271" y="6672"/>
                </a:cubicBezTo>
              </a:path>
              <a:path w="6301" h="2233">
                <a:moveTo>
                  <a:pt x="12973" y="6921"/>
                </a:moveTo>
                <a:cubicBezTo>
                  <a:pt x="13166" y="6913"/>
                  <a:pt x="13328" y="6885"/>
                  <a:pt x="13519" y="6846"/>
                </a:cubicBezTo>
              </a:path>
              <a:path w="6301" h="2233">
                <a:moveTo>
                  <a:pt x="14585" y="6499"/>
                </a:moveTo>
                <a:cubicBezTo>
                  <a:pt x="14444" y="6446"/>
                  <a:pt x="14348" y="6510"/>
                  <a:pt x="14213" y="6573"/>
                </a:cubicBezTo>
                <a:cubicBezTo>
                  <a:pt x="14213" y="6766"/>
                  <a:pt x="14342" y="6754"/>
                  <a:pt x="14486" y="6871"/>
                </a:cubicBezTo>
                <a:cubicBezTo>
                  <a:pt x="14561" y="6932"/>
                  <a:pt x="14700" y="7148"/>
                  <a:pt x="14511" y="7193"/>
                </a:cubicBezTo>
                <a:cubicBezTo>
                  <a:pt x="14378" y="7193"/>
                  <a:pt x="14343" y="7197"/>
                  <a:pt x="14263" y="7169"/>
                </a:cubicBezTo>
                <a:cubicBezTo>
                  <a:pt x="14228" y="6943"/>
                  <a:pt x="14370" y="6864"/>
                  <a:pt x="14511" y="6697"/>
                </a:cubicBezTo>
                <a:cubicBezTo>
                  <a:pt x="14605" y="6585"/>
                  <a:pt x="14647" y="6587"/>
                  <a:pt x="14511" y="6573"/>
                </a:cubicBezTo>
              </a:path>
              <a:path w="6301" h="2233">
                <a:moveTo>
                  <a:pt x="13717" y="6796"/>
                </a:moveTo>
                <a:cubicBezTo>
                  <a:pt x="13758" y="6796"/>
                  <a:pt x="13800" y="6796"/>
                  <a:pt x="13841" y="6796"/>
                </a:cubicBezTo>
              </a:path>
              <a:path w="6301" h="2233">
                <a:moveTo>
                  <a:pt x="13568" y="7193"/>
                </a:moveTo>
                <a:cubicBezTo>
                  <a:pt x="13791" y="7323"/>
                  <a:pt x="13978" y="7338"/>
                  <a:pt x="14238" y="7342"/>
                </a:cubicBezTo>
                <a:cubicBezTo>
                  <a:pt x="14496" y="7346"/>
                  <a:pt x="14720" y="7318"/>
                  <a:pt x="14908" y="7119"/>
                </a:cubicBezTo>
                <a:cubicBezTo>
                  <a:pt x="15051" y="6968"/>
                  <a:pt x="15208" y="6715"/>
                  <a:pt x="15032" y="6524"/>
                </a:cubicBezTo>
                <a:cubicBezTo>
                  <a:pt x="14807" y="6280"/>
                  <a:pt x="14374" y="6212"/>
                  <a:pt x="14064" y="6251"/>
                </a:cubicBezTo>
                <a:cubicBezTo>
                  <a:pt x="13744" y="6292"/>
                  <a:pt x="13319" y="6585"/>
                  <a:pt x="13444" y="6970"/>
                </a:cubicBezTo>
                <a:cubicBezTo>
                  <a:pt x="13494" y="7036"/>
                  <a:pt x="13543" y="7103"/>
                  <a:pt x="13593" y="716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3240" y="3152880"/>
            <a:ext cx="135000" cy="61920"/>
          </a:xfrm>
          <a:custGeom>
            <a:avLst/>
            <a:gdLst/>
            <a:ahLst/>
            <a:rect l="l" t="t" r="r" b="b"/>
            <a:pathLst>
              <a:path w="373" h="175">
                <a:moveTo>
                  <a:pt x="8260" y="8830"/>
                </a:moveTo>
                <a:cubicBezTo>
                  <a:pt x="8358" y="8811"/>
                  <a:pt x="8455" y="8768"/>
                  <a:pt x="8558" y="8756"/>
                </a:cubicBezTo>
                <a:cubicBezTo>
                  <a:pt x="8583" y="8756"/>
                  <a:pt x="8607" y="8756"/>
                  <a:pt x="8632" y="8756"/>
                </a:cubicBezTo>
              </a:path>
              <a:path w="373" h="175">
                <a:moveTo>
                  <a:pt x="8483" y="8930"/>
                </a:moveTo>
                <a:cubicBezTo>
                  <a:pt x="8533" y="8922"/>
                  <a:pt x="8582" y="8913"/>
                  <a:pt x="8632" y="890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13080" y="3054240"/>
            <a:ext cx="419040" cy="223920"/>
          </a:xfrm>
          <a:custGeom>
            <a:avLst/>
            <a:gdLst/>
            <a:ahLst/>
            <a:rect l="l" t="t" r="r" b="b"/>
            <a:pathLst>
              <a:path w="1166" h="621">
                <a:moveTo>
                  <a:pt x="9203" y="8533"/>
                </a:moveTo>
                <a:cubicBezTo>
                  <a:pt x="9212" y="8703"/>
                  <a:pt x="9233" y="8864"/>
                  <a:pt x="9277" y="9029"/>
                </a:cubicBezTo>
              </a:path>
              <a:path w="1166" h="621">
                <a:moveTo>
                  <a:pt x="9525" y="8483"/>
                </a:moveTo>
                <a:cubicBezTo>
                  <a:pt x="9701" y="8511"/>
                  <a:pt x="10026" y="8577"/>
                  <a:pt x="10096" y="8781"/>
                </a:cubicBezTo>
                <a:cubicBezTo>
                  <a:pt x="10165" y="8983"/>
                  <a:pt x="9789" y="9125"/>
                  <a:pt x="9649" y="9103"/>
                </a:cubicBezTo>
                <a:cubicBezTo>
                  <a:pt x="9632" y="9087"/>
                  <a:pt x="9616" y="9070"/>
                  <a:pt x="9599" y="9054"/>
                </a:cubicBezTo>
                <a:cubicBezTo>
                  <a:pt x="9750" y="8848"/>
                  <a:pt x="9894" y="8839"/>
                  <a:pt x="10145" y="8930"/>
                </a:cubicBezTo>
                <a:cubicBezTo>
                  <a:pt x="10265" y="8973"/>
                  <a:pt x="10241" y="9015"/>
                  <a:pt x="10368" y="900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3960" y="3017880"/>
            <a:ext cx="179280" cy="179280"/>
          </a:xfrm>
          <a:custGeom>
            <a:avLst/>
            <a:gdLst/>
            <a:ahLst/>
            <a:rect l="l" t="t" r="r" b="b"/>
            <a:pathLst>
              <a:path w="497" h="497">
                <a:moveTo>
                  <a:pt x="11013" y="8384"/>
                </a:moveTo>
                <a:cubicBezTo>
                  <a:pt x="11078" y="8524"/>
                  <a:pt x="11168" y="8682"/>
                  <a:pt x="11212" y="8830"/>
                </a:cubicBezTo>
                <a:cubicBezTo>
                  <a:pt x="11212" y="8847"/>
                  <a:pt x="11212" y="8863"/>
                  <a:pt x="11212" y="8880"/>
                </a:cubicBezTo>
              </a:path>
              <a:path w="497" h="497">
                <a:moveTo>
                  <a:pt x="11088" y="8632"/>
                </a:moveTo>
                <a:cubicBezTo>
                  <a:pt x="11229" y="8608"/>
                  <a:pt x="11369" y="8584"/>
                  <a:pt x="11509" y="8558"/>
                </a:cubicBezTo>
              </a:path>
              <a:path w="497" h="497">
                <a:moveTo>
                  <a:pt x="11261" y="8781"/>
                </a:moveTo>
                <a:cubicBezTo>
                  <a:pt x="11183" y="8781"/>
                  <a:pt x="11116" y="8801"/>
                  <a:pt x="11038" y="8806"/>
                </a:cubicBezTo>
                <a:cubicBezTo>
                  <a:pt x="11030" y="8806"/>
                  <a:pt x="11021" y="8806"/>
                  <a:pt x="11013" y="880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67160" y="3027240"/>
            <a:ext cx="571680" cy="204840"/>
          </a:xfrm>
          <a:custGeom>
            <a:avLst/>
            <a:gdLst/>
            <a:ahLst/>
            <a:rect l="l" t="t" r="r" b="b"/>
            <a:pathLst>
              <a:path w="1589" h="571">
                <a:moveTo>
                  <a:pt x="12129" y="8508"/>
                </a:moveTo>
                <a:cubicBezTo>
                  <a:pt x="12149" y="8447"/>
                  <a:pt x="12309" y="8416"/>
                  <a:pt x="12378" y="8409"/>
                </a:cubicBezTo>
                <a:cubicBezTo>
                  <a:pt x="12520" y="8394"/>
                  <a:pt x="12694" y="8443"/>
                  <a:pt x="12551" y="8607"/>
                </a:cubicBezTo>
                <a:cubicBezTo>
                  <a:pt x="12482" y="8653"/>
                  <a:pt x="12462" y="8666"/>
                  <a:pt x="12427" y="8706"/>
                </a:cubicBezTo>
                <a:cubicBezTo>
                  <a:pt x="12536" y="8661"/>
                  <a:pt x="12667" y="8624"/>
                  <a:pt x="12774" y="8706"/>
                </a:cubicBezTo>
                <a:cubicBezTo>
                  <a:pt x="12782" y="8731"/>
                  <a:pt x="12791" y="8756"/>
                  <a:pt x="12799" y="8781"/>
                </a:cubicBezTo>
                <a:cubicBezTo>
                  <a:pt x="12729" y="8920"/>
                  <a:pt x="12649" y="8993"/>
                  <a:pt x="12477" y="8979"/>
                </a:cubicBezTo>
                <a:cubicBezTo>
                  <a:pt x="12444" y="8971"/>
                  <a:pt x="12411" y="8962"/>
                  <a:pt x="12378" y="8954"/>
                </a:cubicBezTo>
              </a:path>
              <a:path w="1589" h="571">
                <a:moveTo>
                  <a:pt x="13097" y="8483"/>
                </a:moveTo>
                <a:cubicBezTo>
                  <a:pt x="13241" y="8483"/>
                  <a:pt x="13377" y="8468"/>
                  <a:pt x="13519" y="8458"/>
                </a:cubicBezTo>
              </a:path>
              <a:path w="1589" h="571">
                <a:moveTo>
                  <a:pt x="13246" y="8632"/>
                </a:moveTo>
                <a:cubicBezTo>
                  <a:pt x="13414" y="8624"/>
                  <a:pt x="13551" y="8596"/>
                  <a:pt x="13717" y="8558"/>
                </a:cubicBezTo>
              </a:path>
              <a:path w="1589" h="571">
                <a:moveTo>
                  <a:pt x="13717" y="8558"/>
                </a:moveTo>
                <a:lnTo>
                  <a:pt x="13717" y="8558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05240" y="2911320"/>
            <a:ext cx="403560" cy="258840"/>
          </a:xfrm>
          <a:custGeom>
            <a:avLst/>
            <a:gdLst/>
            <a:ahLst/>
            <a:rect l="l" t="t" r="r" b="b"/>
            <a:pathLst>
              <a:path w="1117" h="721">
                <a:moveTo>
                  <a:pt x="14461" y="8285"/>
                </a:moveTo>
                <a:cubicBezTo>
                  <a:pt x="14533" y="8410"/>
                  <a:pt x="14574" y="8569"/>
                  <a:pt x="14635" y="8706"/>
                </a:cubicBezTo>
                <a:cubicBezTo>
                  <a:pt x="14651" y="8739"/>
                  <a:pt x="14668" y="8773"/>
                  <a:pt x="14684" y="8806"/>
                </a:cubicBezTo>
              </a:path>
              <a:path w="1117" h="721">
                <a:moveTo>
                  <a:pt x="15156" y="8210"/>
                </a:moveTo>
                <a:cubicBezTo>
                  <a:pt x="15034" y="8220"/>
                  <a:pt x="15038" y="8219"/>
                  <a:pt x="14957" y="8310"/>
                </a:cubicBezTo>
                <a:cubicBezTo>
                  <a:pt x="15077" y="8429"/>
                  <a:pt x="15232" y="8414"/>
                  <a:pt x="15379" y="8508"/>
                </a:cubicBezTo>
                <a:cubicBezTo>
                  <a:pt x="15440" y="8569"/>
                  <a:pt x="15465" y="8576"/>
                  <a:pt x="15453" y="8632"/>
                </a:cubicBezTo>
                <a:cubicBezTo>
                  <a:pt x="15316" y="8770"/>
                  <a:pt x="15240" y="8741"/>
                  <a:pt x="15081" y="8657"/>
                </a:cubicBezTo>
              </a:path>
              <a:path w="1117" h="721">
                <a:moveTo>
                  <a:pt x="15329" y="8136"/>
                </a:moveTo>
                <a:cubicBezTo>
                  <a:pt x="15413" y="8115"/>
                  <a:pt x="15492" y="8095"/>
                  <a:pt x="15577" y="808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2040" y="4152960"/>
            <a:ext cx="117360" cy="54000"/>
          </a:xfrm>
          <a:custGeom>
            <a:avLst/>
            <a:gdLst/>
            <a:ahLst/>
            <a:rect l="l" t="t" r="r" b="b"/>
            <a:pathLst>
              <a:path w="324" h="150">
                <a:moveTo>
                  <a:pt x="7590" y="11584"/>
                </a:moveTo>
                <a:cubicBezTo>
                  <a:pt x="7647" y="11584"/>
                  <a:pt x="7686" y="11564"/>
                  <a:pt x="7739" y="11559"/>
                </a:cubicBezTo>
                <a:cubicBezTo>
                  <a:pt x="7792" y="11554"/>
                  <a:pt x="7835" y="11541"/>
                  <a:pt x="7888" y="11534"/>
                </a:cubicBezTo>
              </a:path>
              <a:path w="324" h="150">
                <a:moveTo>
                  <a:pt x="7789" y="11683"/>
                </a:moveTo>
                <a:cubicBezTo>
                  <a:pt x="7835" y="11677"/>
                  <a:pt x="7869" y="11667"/>
                  <a:pt x="7913" y="1165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46640" y="3438360"/>
            <a:ext cx="876240" cy="874800"/>
          </a:xfrm>
          <a:custGeom>
            <a:avLst/>
            <a:gdLst/>
            <a:ahLst/>
            <a:rect l="l" t="t" r="r" b="b"/>
            <a:pathLst>
              <a:path w="2431" h="2432">
                <a:moveTo>
                  <a:pt x="10269" y="10790"/>
                </a:moveTo>
                <a:cubicBezTo>
                  <a:pt x="10375" y="10772"/>
                  <a:pt x="10484" y="10706"/>
                  <a:pt x="10592" y="10765"/>
                </a:cubicBezTo>
                <a:cubicBezTo>
                  <a:pt x="10682" y="10815"/>
                  <a:pt x="10514" y="10940"/>
                  <a:pt x="10492" y="10964"/>
                </a:cubicBezTo>
                <a:cubicBezTo>
                  <a:pt x="10484" y="10980"/>
                  <a:pt x="10476" y="10997"/>
                  <a:pt x="10468" y="11013"/>
                </a:cubicBezTo>
                <a:cubicBezTo>
                  <a:pt x="10560" y="11013"/>
                  <a:pt x="10777" y="10995"/>
                  <a:pt x="10815" y="11112"/>
                </a:cubicBezTo>
                <a:cubicBezTo>
                  <a:pt x="10859" y="11248"/>
                  <a:pt x="10475" y="11591"/>
                  <a:pt x="10393" y="11509"/>
                </a:cubicBezTo>
                <a:cubicBezTo>
                  <a:pt x="10393" y="11468"/>
                  <a:pt x="10393" y="11426"/>
                  <a:pt x="10393" y="11385"/>
                </a:cubicBezTo>
              </a:path>
              <a:path w="2431" h="2432">
                <a:moveTo>
                  <a:pt x="11013" y="10815"/>
                </a:moveTo>
                <a:cubicBezTo>
                  <a:pt x="10963" y="11025"/>
                  <a:pt x="10907" y="11283"/>
                  <a:pt x="11212" y="11336"/>
                </a:cubicBezTo>
                <a:cubicBezTo>
                  <a:pt x="11414" y="11371"/>
                  <a:pt x="11681" y="11154"/>
                  <a:pt x="11559" y="10939"/>
                </a:cubicBezTo>
                <a:cubicBezTo>
                  <a:pt x="11440" y="10730"/>
                  <a:pt x="11220" y="10849"/>
                  <a:pt x="11063" y="10889"/>
                </a:cubicBezTo>
              </a:path>
              <a:path w="2431" h="2432">
                <a:moveTo>
                  <a:pt x="10294" y="11981"/>
                </a:moveTo>
                <a:cubicBezTo>
                  <a:pt x="10311" y="11750"/>
                  <a:pt x="10359" y="11492"/>
                  <a:pt x="10319" y="11261"/>
                </a:cubicBezTo>
                <a:cubicBezTo>
                  <a:pt x="10285" y="11066"/>
                  <a:pt x="10208" y="10935"/>
                  <a:pt x="10096" y="10790"/>
                </a:cubicBezTo>
                <a:cubicBezTo>
                  <a:pt x="10467" y="10730"/>
                  <a:pt x="10840" y="10703"/>
                  <a:pt x="11212" y="10641"/>
                </a:cubicBezTo>
                <a:cubicBezTo>
                  <a:pt x="11314" y="10624"/>
                  <a:pt x="11768" y="10547"/>
                  <a:pt x="11807" y="10542"/>
                </a:cubicBezTo>
              </a:path>
              <a:path w="2431" h="2432">
                <a:moveTo>
                  <a:pt x="9699" y="10988"/>
                </a:moveTo>
                <a:cubicBezTo>
                  <a:pt x="9739" y="11072"/>
                  <a:pt x="9617" y="11399"/>
                  <a:pt x="9599" y="11509"/>
                </a:cubicBezTo>
                <a:cubicBezTo>
                  <a:pt x="9561" y="11739"/>
                  <a:pt x="9564" y="11776"/>
                  <a:pt x="9699" y="11931"/>
                </a:cubicBezTo>
                <a:cubicBezTo>
                  <a:pt x="9875" y="11881"/>
                  <a:pt x="10130" y="11783"/>
                  <a:pt x="10096" y="11534"/>
                </a:cubicBezTo>
                <a:cubicBezTo>
                  <a:pt x="10071" y="11501"/>
                  <a:pt x="10046" y="11468"/>
                  <a:pt x="10021" y="11435"/>
                </a:cubicBezTo>
                <a:cubicBezTo>
                  <a:pt x="9996" y="11452"/>
                  <a:pt x="9632" y="11776"/>
                  <a:pt x="9798" y="11807"/>
                </a:cubicBezTo>
                <a:cubicBezTo>
                  <a:pt x="9831" y="11790"/>
                  <a:pt x="9864" y="11774"/>
                  <a:pt x="9897" y="11757"/>
                </a:cubicBezTo>
              </a:path>
              <a:path w="2431" h="2432">
                <a:moveTo>
                  <a:pt x="10368" y="10418"/>
                </a:moveTo>
                <a:cubicBezTo>
                  <a:pt x="10486" y="10388"/>
                  <a:pt x="10600" y="10356"/>
                  <a:pt x="10716" y="10319"/>
                </a:cubicBezTo>
              </a:path>
              <a:path w="2431" h="2432">
                <a:moveTo>
                  <a:pt x="11162" y="9922"/>
                </a:moveTo>
                <a:cubicBezTo>
                  <a:pt x="11067" y="9954"/>
                  <a:pt x="10981" y="9946"/>
                  <a:pt x="11013" y="10071"/>
                </a:cubicBezTo>
                <a:cubicBezTo>
                  <a:pt x="11036" y="10162"/>
                  <a:pt x="11070" y="10167"/>
                  <a:pt x="11162" y="10170"/>
                </a:cubicBezTo>
                <a:cubicBezTo>
                  <a:pt x="11241" y="10173"/>
                  <a:pt x="11542" y="10137"/>
                  <a:pt x="11460" y="10319"/>
                </a:cubicBezTo>
                <a:cubicBezTo>
                  <a:pt x="11371" y="10517"/>
                  <a:pt x="11166" y="10426"/>
                  <a:pt x="11038" y="10368"/>
                </a:cubicBezTo>
              </a:path>
              <a:path w="2431" h="2432">
                <a:moveTo>
                  <a:pt x="10691" y="10716"/>
                </a:moveTo>
                <a:cubicBezTo>
                  <a:pt x="11113" y="10659"/>
                  <a:pt x="11532" y="10606"/>
                  <a:pt x="11857" y="10294"/>
                </a:cubicBezTo>
                <a:cubicBezTo>
                  <a:pt x="12164" y="10000"/>
                  <a:pt x="11859" y="9628"/>
                  <a:pt x="11509" y="9550"/>
                </a:cubicBezTo>
                <a:cubicBezTo>
                  <a:pt x="10885" y="9411"/>
                  <a:pt x="10339" y="9793"/>
                  <a:pt x="10195" y="10393"/>
                </a:cubicBezTo>
                <a:cubicBezTo>
                  <a:pt x="10220" y="10671"/>
                  <a:pt x="10233" y="10765"/>
                  <a:pt x="10468" y="1081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14760" y="4848120"/>
            <a:ext cx="1401480" cy="563760"/>
          </a:xfrm>
          <a:custGeom>
            <a:avLst/>
            <a:gdLst/>
            <a:ahLst/>
            <a:rect l="l" t="t" r="r" b="b"/>
            <a:pathLst>
              <a:path w="3895" h="1564">
                <a:moveTo>
                  <a:pt x="7541" y="14412"/>
                </a:moveTo>
                <a:cubicBezTo>
                  <a:pt x="7623" y="14394"/>
                  <a:pt x="7717" y="14384"/>
                  <a:pt x="7764" y="14337"/>
                </a:cubicBezTo>
              </a:path>
              <a:path w="3895" h="1564">
                <a:moveTo>
                  <a:pt x="7813" y="14560"/>
                </a:moveTo>
                <a:cubicBezTo>
                  <a:pt x="7969" y="14499"/>
                  <a:pt x="8039" y="14465"/>
                  <a:pt x="8136" y="14387"/>
                </a:cubicBezTo>
              </a:path>
              <a:path w="3895" h="1564">
                <a:moveTo>
                  <a:pt x="8136" y="14387"/>
                </a:moveTo>
                <a:lnTo>
                  <a:pt x="8136" y="14387"/>
                </a:lnTo>
              </a:path>
              <a:path w="3895" h="1564">
                <a:moveTo>
                  <a:pt x="9004" y="13891"/>
                </a:moveTo>
                <a:cubicBezTo>
                  <a:pt x="9132" y="13873"/>
                  <a:pt x="9274" y="13803"/>
                  <a:pt x="9401" y="13866"/>
                </a:cubicBezTo>
                <a:cubicBezTo>
                  <a:pt x="9516" y="13923"/>
                  <a:pt x="9312" y="14066"/>
                  <a:pt x="9277" y="14089"/>
                </a:cubicBezTo>
                <a:cubicBezTo>
                  <a:pt x="9391" y="14089"/>
                  <a:pt x="9624" y="14042"/>
                  <a:pt x="9699" y="14163"/>
                </a:cubicBezTo>
                <a:cubicBezTo>
                  <a:pt x="9843" y="14397"/>
                  <a:pt x="9421" y="14572"/>
                  <a:pt x="9277" y="14585"/>
                </a:cubicBezTo>
                <a:cubicBezTo>
                  <a:pt x="9145" y="14558"/>
                  <a:pt x="9103" y="14542"/>
                  <a:pt x="9128" y="14412"/>
                </a:cubicBezTo>
              </a:path>
              <a:path w="3895" h="1564">
                <a:moveTo>
                  <a:pt x="9996" y="13891"/>
                </a:moveTo>
                <a:cubicBezTo>
                  <a:pt x="10005" y="14077"/>
                  <a:pt x="10001" y="14306"/>
                  <a:pt x="10195" y="14412"/>
                </a:cubicBezTo>
                <a:cubicBezTo>
                  <a:pt x="10410" y="14530"/>
                  <a:pt x="10601" y="14303"/>
                  <a:pt x="10616" y="14114"/>
                </a:cubicBezTo>
                <a:cubicBezTo>
                  <a:pt x="10608" y="14089"/>
                  <a:pt x="10600" y="14064"/>
                  <a:pt x="10592" y="14039"/>
                </a:cubicBezTo>
                <a:cubicBezTo>
                  <a:pt x="10397" y="14085"/>
                  <a:pt x="10420" y="14249"/>
                  <a:pt x="10319" y="14436"/>
                </a:cubicBezTo>
                <a:cubicBezTo>
                  <a:pt x="10311" y="14444"/>
                  <a:pt x="10302" y="14453"/>
                  <a:pt x="10294" y="14461"/>
                </a:cubicBezTo>
              </a:path>
              <a:path w="3895" h="1564">
                <a:moveTo>
                  <a:pt x="9079" y="14982"/>
                </a:moveTo>
                <a:cubicBezTo>
                  <a:pt x="9398" y="14982"/>
                  <a:pt x="9700" y="15028"/>
                  <a:pt x="10021" y="15032"/>
                </a:cubicBezTo>
                <a:cubicBezTo>
                  <a:pt x="10441" y="15038"/>
                  <a:pt x="11139" y="15066"/>
                  <a:pt x="11385" y="14635"/>
                </a:cubicBezTo>
                <a:cubicBezTo>
                  <a:pt x="11402" y="14552"/>
                  <a:pt x="11418" y="14470"/>
                  <a:pt x="11435" y="14387"/>
                </a:cubicBezTo>
                <a:cubicBezTo>
                  <a:pt x="11104" y="13725"/>
                  <a:pt x="10648" y="13510"/>
                  <a:pt x="9872" y="13469"/>
                </a:cubicBezTo>
                <a:cubicBezTo>
                  <a:pt x="9206" y="13433"/>
                  <a:pt x="8555" y="13810"/>
                  <a:pt x="8706" y="14560"/>
                </a:cubicBezTo>
                <a:cubicBezTo>
                  <a:pt x="8853" y="15287"/>
                  <a:pt x="9879" y="14957"/>
                  <a:pt x="10319" y="1488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00200" y="2438280"/>
            <a:ext cx="6043680" cy="1757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Unit 12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olving Equation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9880" y="4419720"/>
            <a:ext cx="15940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jective:  Students will review how to solve equati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oa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Solve the equation by getting the variable alone on one side of the equation by using the inverse oper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06320" y="3809880"/>
          <a:ext cx="160668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3809880"/>
                    <a:ext cx="16066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672160" y="3657600"/>
          <a:ext cx="136188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2160" y="3657600"/>
                    <a:ext cx="13618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127160" y="4759200"/>
          <a:ext cx="920880" cy="98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27160" y="4759200"/>
                    <a:ext cx="92088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823000" y="5259240"/>
          <a:ext cx="1231920" cy="49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23000" y="5259240"/>
                    <a:ext cx="12319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08040" y="2652840"/>
            <a:ext cx="7089840" cy="2259000"/>
          </a:xfrm>
          <a:custGeom>
            <a:avLst/>
            <a:gdLst/>
            <a:ahLst/>
            <a:rect l="l" t="t" r="r" b="b"/>
            <a:pathLst>
              <a:path w="19696" h="6277">
                <a:moveTo>
                  <a:pt x="3497" y="7541"/>
                </a:moveTo>
                <a:cubicBezTo>
                  <a:pt x="3533" y="7528"/>
                  <a:pt x="3624" y="7494"/>
                  <a:pt x="3696" y="7491"/>
                </a:cubicBezTo>
                <a:cubicBezTo>
                  <a:pt x="3944" y="7481"/>
                  <a:pt x="4230" y="7537"/>
                  <a:pt x="4465" y="7516"/>
                </a:cubicBezTo>
                <a:cubicBezTo>
                  <a:pt x="4541" y="7509"/>
                  <a:pt x="4608" y="7491"/>
                  <a:pt x="4688" y="7491"/>
                </a:cubicBezTo>
                <a:cubicBezTo>
                  <a:pt x="4748" y="7491"/>
                  <a:pt x="4783" y="7473"/>
                  <a:pt x="4837" y="7466"/>
                </a:cubicBezTo>
                <a:cubicBezTo>
                  <a:pt x="4965" y="7450"/>
                  <a:pt x="5109" y="7451"/>
                  <a:pt x="5234" y="7441"/>
                </a:cubicBezTo>
                <a:cubicBezTo>
                  <a:pt x="5359" y="7431"/>
                  <a:pt x="5483" y="7430"/>
                  <a:pt x="5606" y="7417"/>
                </a:cubicBezTo>
                <a:cubicBezTo>
                  <a:pt x="5662" y="7411"/>
                  <a:pt x="5735" y="7398"/>
                  <a:pt x="5779" y="7392"/>
                </a:cubicBezTo>
                <a:cubicBezTo>
                  <a:pt x="5891" y="7377"/>
                  <a:pt x="5995" y="7392"/>
                  <a:pt x="6102" y="7367"/>
                </a:cubicBezTo>
                <a:cubicBezTo>
                  <a:pt x="6110" y="7367"/>
                  <a:pt x="6119" y="7367"/>
                  <a:pt x="6127" y="7367"/>
                </a:cubicBezTo>
              </a:path>
              <a:path w="19696" h="6277">
                <a:moveTo>
                  <a:pt x="8607" y="8706"/>
                </a:moveTo>
                <a:cubicBezTo>
                  <a:pt x="8644" y="8743"/>
                  <a:pt x="8581" y="8832"/>
                  <a:pt x="8682" y="8855"/>
                </a:cubicBezTo>
                <a:cubicBezTo>
                  <a:pt x="8773" y="8875"/>
                  <a:pt x="8871" y="8838"/>
                  <a:pt x="8954" y="8806"/>
                </a:cubicBezTo>
                <a:cubicBezTo>
                  <a:pt x="9006" y="8754"/>
                  <a:pt x="9025" y="8736"/>
                  <a:pt x="9079" y="8731"/>
                </a:cubicBezTo>
                <a:cubicBezTo>
                  <a:pt x="9136" y="8783"/>
                  <a:pt x="9141" y="8879"/>
                  <a:pt x="9252" y="8905"/>
                </a:cubicBezTo>
                <a:cubicBezTo>
                  <a:pt x="9431" y="8947"/>
                  <a:pt x="9585" y="8855"/>
                  <a:pt x="9748" y="8806"/>
                </a:cubicBezTo>
                <a:cubicBezTo>
                  <a:pt x="9773" y="8798"/>
                  <a:pt x="9798" y="8789"/>
                  <a:pt x="9823" y="8781"/>
                </a:cubicBezTo>
                <a:cubicBezTo>
                  <a:pt x="9853" y="8829"/>
                  <a:pt x="9853" y="8914"/>
                  <a:pt x="9897" y="8954"/>
                </a:cubicBezTo>
                <a:cubicBezTo>
                  <a:pt x="9998" y="9046"/>
                  <a:pt x="10194" y="8997"/>
                  <a:pt x="10319" y="8954"/>
                </a:cubicBezTo>
                <a:cubicBezTo>
                  <a:pt x="10490" y="8894"/>
                  <a:pt x="10488" y="8882"/>
                  <a:pt x="10616" y="8905"/>
                </a:cubicBezTo>
                <a:cubicBezTo>
                  <a:pt x="10704" y="8921"/>
                  <a:pt x="10787" y="8970"/>
                  <a:pt x="10889" y="8979"/>
                </a:cubicBezTo>
                <a:cubicBezTo>
                  <a:pt x="11061" y="8994"/>
                  <a:pt x="11217" y="8973"/>
                  <a:pt x="11385" y="9029"/>
                </a:cubicBezTo>
                <a:cubicBezTo>
                  <a:pt x="11423" y="9042"/>
                  <a:pt x="11420" y="9099"/>
                  <a:pt x="11460" y="9103"/>
                </a:cubicBezTo>
                <a:cubicBezTo>
                  <a:pt x="11600" y="9119"/>
                  <a:pt x="11646" y="9016"/>
                  <a:pt x="11757" y="9004"/>
                </a:cubicBezTo>
                <a:cubicBezTo>
                  <a:pt x="11764" y="9003"/>
                  <a:pt x="11794" y="9005"/>
                  <a:pt x="11832" y="9004"/>
                </a:cubicBezTo>
                <a:cubicBezTo>
                  <a:pt x="11980" y="9001"/>
                  <a:pt x="12023" y="8991"/>
                  <a:pt x="12179" y="8954"/>
                </a:cubicBezTo>
                <a:cubicBezTo>
                  <a:pt x="12301" y="8925"/>
                  <a:pt x="12368" y="8903"/>
                  <a:pt x="12452" y="8930"/>
                </a:cubicBezTo>
                <a:cubicBezTo>
                  <a:pt x="12700" y="9011"/>
                  <a:pt x="12678" y="8981"/>
                  <a:pt x="12948" y="8930"/>
                </a:cubicBezTo>
                <a:cubicBezTo>
                  <a:pt x="13056" y="8910"/>
                  <a:pt x="12978" y="8935"/>
                  <a:pt x="13072" y="8930"/>
                </a:cubicBezTo>
                <a:cubicBezTo>
                  <a:pt x="13198" y="8923"/>
                  <a:pt x="13408" y="8858"/>
                  <a:pt x="13519" y="8880"/>
                </a:cubicBezTo>
                <a:cubicBezTo>
                  <a:pt x="13615" y="8899"/>
                  <a:pt x="13614" y="8986"/>
                  <a:pt x="13742" y="9004"/>
                </a:cubicBezTo>
                <a:cubicBezTo>
                  <a:pt x="13970" y="9036"/>
                  <a:pt x="14052" y="8907"/>
                  <a:pt x="14263" y="8855"/>
                </a:cubicBezTo>
                <a:cubicBezTo>
                  <a:pt x="14470" y="8804"/>
                  <a:pt x="14267" y="8894"/>
                  <a:pt x="14436" y="8930"/>
                </a:cubicBezTo>
                <a:cubicBezTo>
                  <a:pt x="14667" y="8979"/>
                  <a:pt x="14841" y="8840"/>
                  <a:pt x="15056" y="8855"/>
                </a:cubicBezTo>
                <a:cubicBezTo>
                  <a:pt x="15218" y="8866"/>
                  <a:pt x="15297" y="8900"/>
                  <a:pt x="15478" y="8880"/>
                </a:cubicBezTo>
                <a:cubicBezTo>
                  <a:pt x="15614" y="8865"/>
                  <a:pt x="15706" y="8847"/>
                  <a:pt x="15825" y="8855"/>
                </a:cubicBezTo>
                <a:cubicBezTo>
                  <a:pt x="15969" y="8864"/>
                  <a:pt x="16100" y="8859"/>
                  <a:pt x="16247" y="8855"/>
                </a:cubicBezTo>
                <a:cubicBezTo>
                  <a:pt x="16339" y="8852"/>
                  <a:pt x="16435" y="8893"/>
                  <a:pt x="16520" y="8880"/>
                </a:cubicBezTo>
                <a:cubicBezTo>
                  <a:pt x="16670" y="8857"/>
                  <a:pt x="16820" y="8772"/>
                  <a:pt x="16966" y="8756"/>
                </a:cubicBezTo>
                <a:cubicBezTo>
                  <a:pt x="17064" y="8745"/>
                  <a:pt x="17202" y="8766"/>
                  <a:pt x="17314" y="8756"/>
                </a:cubicBezTo>
              </a:path>
              <a:path w="19696" h="6277">
                <a:moveTo>
                  <a:pt x="1687" y="12551"/>
                </a:moveTo>
                <a:cubicBezTo>
                  <a:pt x="1881" y="12543"/>
                  <a:pt x="2063" y="12524"/>
                  <a:pt x="2257" y="12502"/>
                </a:cubicBezTo>
                <a:cubicBezTo>
                  <a:pt x="2590" y="12465"/>
                  <a:pt x="2917" y="12414"/>
                  <a:pt x="3249" y="12378"/>
                </a:cubicBezTo>
                <a:cubicBezTo>
                  <a:pt x="3581" y="12342"/>
                  <a:pt x="3939" y="12317"/>
                  <a:pt x="4266" y="12254"/>
                </a:cubicBezTo>
                <a:cubicBezTo>
                  <a:pt x="4655" y="12179"/>
                  <a:pt x="5040" y="12096"/>
                  <a:pt x="5432" y="12030"/>
                </a:cubicBezTo>
                <a:cubicBezTo>
                  <a:pt x="5814" y="11966"/>
                  <a:pt x="6188" y="11917"/>
                  <a:pt x="6573" y="11881"/>
                </a:cubicBezTo>
                <a:cubicBezTo>
                  <a:pt x="6861" y="11854"/>
                  <a:pt x="7152" y="11837"/>
                  <a:pt x="7441" y="11832"/>
                </a:cubicBezTo>
                <a:cubicBezTo>
                  <a:pt x="7524" y="11830"/>
                  <a:pt x="7606" y="11832"/>
                  <a:pt x="7689" y="11832"/>
                </a:cubicBezTo>
              </a:path>
              <a:path w="19696" h="6277">
                <a:moveTo>
                  <a:pt x="15230" y="12254"/>
                </a:moveTo>
                <a:cubicBezTo>
                  <a:pt x="15405" y="12232"/>
                  <a:pt x="15571" y="12229"/>
                  <a:pt x="15751" y="12229"/>
                </a:cubicBezTo>
                <a:cubicBezTo>
                  <a:pt x="16379" y="12229"/>
                  <a:pt x="17010" y="12252"/>
                  <a:pt x="17636" y="12204"/>
                </a:cubicBezTo>
                <a:cubicBezTo>
                  <a:pt x="18011" y="12175"/>
                  <a:pt x="18379" y="12123"/>
                  <a:pt x="18752" y="12080"/>
                </a:cubicBezTo>
                <a:cubicBezTo>
                  <a:pt x="19033" y="12047"/>
                  <a:pt x="19316" y="12057"/>
                  <a:pt x="19596" y="12030"/>
                </a:cubicBezTo>
                <a:cubicBezTo>
                  <a:pt x="19715" y="12019"/>
                  <a:pt x="19824" y="12005"/>
                  <a:pt x="19943" y="12005"/>
                </a:cubicBezTo>
              </a:path>
              <a:path w="19696" h="6277">
                <a:moveTo>
                  <a:pt x="20365" y="13246"/>
                </a:moveTo>
                <a:cubicBezTo>
                  <a:pt x="20378" y="13352"/>
                  <a:pt x="20415" y="13470"/>
                  <a:pt x="20464" y="13568"/>
                </a:cubicBezTo>
                <a:cubicBezTo>
                  <a:pt x="20480" y="13593"/>
                  <a:pt x="20497" y="13618"/>
                  <a:pt x="20513" y="13643"/>
                </a:cubicBezTo>
                <a:cubicBezTo>
                  <a:pt x="20618" y="13550"/>
                  <a:pt x="20680" y="13402"/>
                  <a:pt x="20762" y="13271"/>
                </a:cubicBezTo>
                <a:cubicBezTo>
                  <a:pt x="20936" y="12994"/>
                  <a:pt x="21114" y="12762"/>
                  <a:pt x="21382" y="12576"/>
                </a:cubicBezTo>
                <a:cubicBezTo>
                  <a:pt x="21426" y="12546"/>
                  <a:pt x="21321" y="12638"/>
                  <a:pt x="21307" y="12650"/>
                </a:cubicBezTo>
              </a:path>
              <a:path w="19696" h="6277">
                <a:moveTo>
                  <a:pt x="17338" y="11088"/>
                </a:moveTo>
                <a:cubicBezTo>
                  <a:pt x="17009" y="11122"/>
                  <a:pt x="16837" y="11143"/>
                  <a:pt x="16570" y="113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280" y="3652920"/>
            <a:ext cx="4384800" cy="1143000"/>
          </a:xfrm>
          <a:custGeom>
            <a:avLst/>
            <a:gdLst/>
            <a:ahLst/>
            <a:rect l="l" t="t" r="r" b="b"/>
            <a:pathLst>
              <a:path w="12180" h="3176">
                <a:moveTo>
                  <a:pt x="1166" y="10616"/>
                </a:moveTo>
                <a:cubicBezTo>
                  <a:pt x="1185" y="10712"/>
                  <a:pt x="1217" y="10816"/>
                  <a:pt x="1240" y="10914"/>
                </a:cubicBezTo>
                <a:cubicBezTo>
                  <a:pt x="1261" y="10996"/>
                  <a:pt x="1269" y="11012"/>
                  <a:pt x="1265" y="11063"/>
                </a:cubicBezTo>
              </a:path>
              <a:path w="12180" h="3176">
                <a:moveTo>
                  <a:pt x="868" y="11187"/>
                </a:moveTo>
                <a:cubicBezTo>
                  <a:pt x="972" y="11268"/>
                  <a:pt x="1049" y="11322"/>
                  <a:pt x="1191" y="11336"/>
                </a:cubicBezTo>
                <a:cubicBezTo>
                  <a:pt x="1390" y="11356"/>
                  <a:pt x="1573" y="11338"/>
                  <a:pt x="1736" y="11212"/>
                </a:cubicBezTo>
                <a:cubicBezTo>
                  <a:pt x="1872" y="11107"/>
                  <a:pt x="1938" y="10910"/>
                  <a:pt x="1910" y="10740"/>
                </a:cubicBezTo>
                <a:cubicBezTo>
                  <a:pt x="1869" y="10490"/>
                  <a:pt x="1663" y="10318"/>
                  <a:pt x="1439" y="10220"/>
                </a:cubicBezTo>
                <a:cubicBezTo>
                  <a:pt x="1244" y="10135"/>
                  <a:pt x="1037" y="10119"/>
                  <a:pt x="843" y="10195"/>
                </a:cubicBezTo>
                <a:cubicBezTo>
                  <a:pt x="665" y="10264"/>
                  <a:pt x="515" y="10374"/>
                  <a:pt x="422" y="10542"/>
                </a:cubicBezTo>
                <a:cubicBezTo>
                  <a:pt x="297" y="10768"/>
                  <a:pt x="316" y="11078"/>
                  <a:pt x="521" y="11261"/>
                </a:cubicBezTo>
                <a:cubicBezTo>
                  <a:pt x="646" y="11373"/>
                  <a:pt x="815" y="11372"/>
                  <a:pt x="967" y="11385"/>
                </a:cubicBezTo>
              </a:path>
              <a:path w="12180" h="3176">
                <a:moveTo>
                  <a:pt x="3225" y="11534"/>
                </a:moveTo>
                <a:cubicBezTo>
                  <a:pt x="3225" y="11679"/>
                  <a:pt x="3226" y="11815"/>
                  <a:pt x="3249" y="11956"/>
                </a:cubicBezTo>
                <a:cubicBezTo>
                  <a:pt x="3249" y="11981"/>
                  <a:pt x="3249" y="11989"/>
                  <a:pt x="3249" y="12005"/>
                </a:cubicBezTo>
              </a:path>
              <a:path w="12180" h="3176">
                <a:moveTo>
                  <a:pt x="2977" y="11832"/>
                </a:moveTo>
                <a:cubicBezTo>
                  <a:pt x="3116" y="11832"/>
                  <a:pt x="3237" y="11796"/>
                  <a:pt x="3373" y="11782"/>
                </a:cubicBezTo>
                <a:cubicBezTo>
                  <a:pt x="3446" y="11775"/>
                  <a:pt x="3502" y="11769"/>
                  <a:pt x="3572" y="11757"/>
                </a:cubicBezTo>
              </a:path>
              <a:path w="12180" h="3176">
                <a:moveTo>
                  <a:pt x="3795" y="11658"/>
                </a:moveTo>
                <a:cubicBezTo>
                  <a:pt x="3783" y="11741"/>
                  <a:pt x="3757" y="11823"/>
                  <a:pt x="3746" y="11906"/>
                </a:cubicBezTo>
                <a:cubicBezTo>
                  <a:pt x="3804" y="11942"/>
                  <a:pt x="3922" y="11951"/>
                  <a:pt x="3994" y="11931"/>
                </a:cubicBezTo>
                <a:cubicBezTo>
                  <a:pt x="4016" y="11908"/>
                  <a:pt x="4021" y="11900"/>
                  <a:pt x="4043" y="11906"/>
                </a:cubicBezTo>
              </a:path>
              <a:path w="12180" h="3176">
                <a:moveTo>
                  <a:pt x="4018" y="11609"/>
                </a:moveTo>
                <a:cubicBezTo>
                  <a:pt x="4018" y="11744"/>
                  <a:pt x="4034" y="11871"/>
                  <a:pt x="4043" y="12005"/>
                </a:cubicBezTo>
                <a:cubicBezTo>
                  <a:pt x="4049" y="12085"/>
                  <a:pt x="4021" y="12166"/>
                  <a:pt x="4068" y="12229"/>
                </a:cubicBezTo>
              </a:path>
              <a:path w="12180" h="3176">
                <a:moveTo>
                  <a:pt x="5184" y="11658"/>
                </a:moveTo>
                <a:cubicBezTo>
                  <a:pt x="5184" y="11732"/>
                  <a:pt x="5184" y="11807"/>
                  <a:pt x="5184" y="11881"/>
                </a:cubicBezTo>
              </a:path>
              <a:path w="12180" h="3176">
                <a:moveTo>
                  <a:pt x="5011" y="11832"/>
                </a:moveTo>
                <a:cubicBezTo>
                  <a:pt x="5088" y="11822"/>
                  <a:pt x="5152" y="11807"/>
                  <a:pt x="5234" y="11807"/>
                </a:cubicBezTo>
                <a:cubicBezTo>
                  <a:pt x="5275" y="11807"/>
                  <a:pt x="5283" y="11807"/>
                  <a:pt x="5308" y="11807"/>
                </a:cubicBezTo>
              </a:path>
              <a:path w="12180" h="3176">
                <a:moveTo>
                  <a:pt x="5730" y="11683"/>
                </a:moveTo>
                <a:cubicBezTo>
                  <a:pt x="5730" y="11675"/>
                  <a:pt x="5730" y="11666"/>
                  <a:pt x="5730" y="11658"/>
                </a:cubicBezTo>
                <a:cubicBezTo>
                  <a:pt x="5778" y="11670"/>
                  <a:pt x="5848" y="11711"/>
                  <a:pt x="5879" y="11757"/>
                </a:cubicBezTo>
                <a:cubicBezTo>
                  <a:pt x="5899" y="11786"/>
                  <a:pt x="5880" y="11782"/>
                  <a:pt x="5928" y="11782"/>
                </a:cubicBezTo>
              </a:path>
              <a:path w="12180" h="3176">
                <a:moveTo>
                  <a:pt x="6102" y="11460"/>
                </a:moveTo>
                <a:cubicBezTo>
                  <a:pt x="6102" y="11435"/>
                  <a:pt x="6102" y="11427"/>
                  <a:pt x="6077" y="11435"/>
                </a:cubicBezTo>
                <a:cubicBezTo>
                  <a:pt x="6042" y="11447"/>
                  <a:pt x="6043" y="11454"/>
                  <a:pt x="6028" y="11485"/>
                </a:cubicBezTo>
                <a:cubicBezTo>
                  <a:pt x="5972" y="11605"/>
                  <a:pt x="5957" y="11728"/>
                  <a:pt x="5928" y="11857"/>
                </a:cubicBezTo>
                <a:cubicBezTo>
                  <a:pt x="5913" y="11924"/>
                  <a:pt x="5890" y="11989"/>
                  <a:pt x="5879" y="12055"/>
                </a:cubicBezTo>
              </a:path>
              <a:path w="12180" h="3176">
                <a:moveTo>
                  <a:pt x="5755" y="11584"/>
                </a:moveTo>
                <a:cubicBezTo>
                  <a:pt x="5755" y="11522"/>
                  <a:pt x="5732" y="11678"/>
                  <a:pt x="5730" y="11708"/>
                </a:cubicBezTo>
                <a:cubicBezTo>
                  <a:pt x="5730" y="11733"/>
                  <a:pt x="5730" y="11741"/>
                  <a:pt x="5730" y="11708"/>
                </a:cubicBezTo>
              </a:path>
              <a:path w="12180" h="3176">
                <a:moveTo>
                  <a:pt x="3200" y="12626"/>
                </a:moveTo>
                <a:cubicBezTo>
                  <a:pt x="3181" y="12620"/>
                  <a:pt x="3151" y="12565"/>
                  <a:pt x="3175" y="12601"/>
                </a:cubicBezTo>
                <a:cubicBezTo>
                  <a:pt x="3252" y="12715"/>
                  <a:pt x="3351" y="12842"/>
                  <a:pt x="3398" y="12973"/>
                </a:cubicBezTo>
                <a:cubicBezTo>
                  <a:pt x="3398" y="12981"/>
                  <a:pt x="3398" y="12990"/>
                  <a:pt x="3398" y="12998"/>
                </a:cubicBezTo>
              </a:path>
              <a:path w="12180" h="3176">
                <a:moveTo>
                  <a:pt x="3473" y="12551"/>
                </a:moveTo>
                <a:cubicBezTo>
                  <a:pt x="3459" y="12704"/>
                  <a:pt x="3437" y="12872"/>
                  <a:pt x="3398" y="13022"/>
                </a:cubicBezTo>
                <a:cubicBezTo>
                  <a:pt x="3371" y="13126"/>
                  <a:pt x="3354" y="13223"/>
                  <a:pt x="3324" y="13320"/>
                </a:cubicBezTo>
              </a:path>
              <a:path w="12180" h="3176">
                <a:moveTo>
                  <a:pt x="3175" y="11013"/>
                </a:moveTo>
                <a:cubicBezTo>
                  <a:pt x="3175" y="11005"/>
                  <a:pt x="3175" y="10996"/>
                  <a:pt x="3175" y="10988"/>
                </a:cubicBezTo>
                <a:cubicBezTo>
                  <a:pt x="3257" y="11009"/>
                  <a:pt x="3269" y="11032"/>
                  <a:pt x="3324" y="11112"/>
                </a:cubicBezTo>
                <a:cubicBezTo>
                  <a:pt x="3409" y="11236"/>
                  <a:pt x="3488" y="11361"/>
                  <a:pt x="3572" y="11485"/>
                </a:cubicBezTo>
                <a:cubicBezTo>
                  <a:pt x="3655" y="11608"/>
                  <a:pt x="3676" y="11758"/>
                  <a:pt x="3746" y="11881"/>
                </a:cubicBezTo>
                <a:cubicBezTo>
                  <a:pt x="3783" y="11945"/>
                  <a:pt x="3790" y="11995"/>
                  <a:pt x="3820" y="12055"/>
                </a:cubicBezTo>
                <a:cubicBezTo>
                  <a:pt x="3836" y="12088"/>
                  <a:pt x="3848" y="12100"/>
                  <a:pt x="3870" y="12129"/>
                </a:cubicBezTo>
                <a:cubicBezTo>
                  <a:pt x="3914" y="12189"/>
                  <a:pt x="3906" y="12210"/>
                  <a:pt x="3919" y="12105"/>
                </a:cubicBezTo>
              </a:path>
              <a:path w="12180" h="3176">
                <a:moveTo>
                  <a:pt x="4192" y="10716"/>
                </a:moveTo>
                <a:cubicBezTo>
                  <a:pt x="4138" y="10778"/>
                  <a:pt x="4085" y="10842"/>
                  <a:pt x="4043" y="10914"/>
                </a:cubicBezTo>
                <a:cubicBezTo>
                  <a:pt x="3924" y="11117"/>
                  <a:pt x="3807" y="11326"/>
                  <a:pt x="3696" y="11534"/>
                </a:cubicBezTo>
                <a:cubicBezTo>
                  <a:pt x="3601" y="11713"/>
                  <a:pt x="3476" y="11894"/>
                  <a:pt x="3398" y="12080"/>
                </a:cubicBezTo>
                <a:cubicBezTo>
                  <a:pt x="3363" y="12164"/>
                  <a:pt x="3350" y="12226"/>
                  <a:pt x="3324" y="12303"/>
                </a:cubicBezTo>
                <a:cubicBezTo>
                  <a:pt x="3322" y="12310"/>
                  <a:pt x="3284" y="12361"/>
                  <a:pt x="3274" y="12378"/>
                </a:cubicBezTo>
              </a:path>
              <a:path w="12180" h="3176">
                <a:moveTo>
                  <a:pt x="3894" y="12303"/>
                </a:moveTo>
                <a:cubicBezTo>
                  <a:pt x="3835" y="12324"/>
                  <a:pt x="3869" y="12328"/>
                  <a:pt x="3845" y="12402"/>
                </a:cubicBezTo>
                <a:cubicBezTo>
                  <a:pt x="3829" y="12451"/>
                  <a:pt x="3818" y="12515"/>
                  <a:pt x="3870" y="12551"/>
                </a:cubicBezTo>
                <a:cubicBezTo>
                  <a:pt x="3928" y="12591"/>
                  <a:pt x="3970" y="12545"/>
                  <a:pt x="4018" y="12502"/>
                </a:cubicBezTo>
                <a:cubicBezTo>
                  <a:pt x="4042" y="12480"/>
                  <a:pt x="4062" y="12411"/>
                  <a:pt x="4043" y="12378"/>
                </a:cubicBezTo>
                <a:cubicBezTo>
                  <a:pt x="4022" y="12341"/>
                  <a:pt x="3980" y="12353"/>
                  <a:pt x="3944" y="12353"/>
                </a:cubicBezTo>
                <a:cubicBezTo>
                  <a:pt x="3900" y="12353"/>
                  <a:pt x="3905" y="12351"/>
                  <a:pt x="3870" y="12378"/>
                </a:cubicBezTo>
              </a:path>
              <a:path w="12180" h="3176">
                <a:moveTo>
                  <a:pt x="4465" y="12601"/>
                </a:moveTo>
                <a:cubicBezTo>
                  <a:pt x="4544" y="12623"/>
                  <a:pt x="4581" y="12626"/>
                  <a:pt x="4663" y="12626"/>
                </a:cubicBezTo>
              </a:path>
              <a:path w="12180" h="3176">
                <a:moveTo>
                  <a:pt x="4415" y="12799"/>
                </a:moveTo>
                <a:cubicBezTo>
                  <a:pt x="4461" y="12790"/>
                  <a:pt x="4513" y="12757"/>
                  <a:pt x="4564" y="12774"/>
                </a:cubicBezTo>
                <a:cubicBezTo>
                  <a:pt x="4621" y="12802"/>
                  <a:pt x="4644" y="12808"/>
                  <a:pt x="4688" y="12774"/>
                </a:cubicBezTo>
              </a:path>
              <a:path w="12180" h="3176">
                <a:moveTo>
                  <a:pt x="5259" y="12378"/>
                </a:moveTo>
                <a:cubicBezTo>
                  <a:pt x="5215" y="12479"/>
                  <a:pt x="5234" y="12589"/>
                  <a:pt x="5234" y="12700"/>
                </a:cubicBezTo>
                <a:cubicBezTo>
                  <a:pt x="5234" y="12800"/>
                  <a:pt x="5239" y="12859"/>
                  <a:pt x="5209" y="12948"/>
                </a:cubicBezTo>
              </a:path>
              <a:path w="12180" h="3176">
                <a:moveTo>
                  <a:pt x="5879" y="12303"/>
                </a:moveTo>
                <a:cubicBezTo>
                  <a:pt x="5776" y="12303"/>
                  <a:pt x="5727" y="12302"/>
                  <a:pt x="5631" y="12353"/>
                </a:cubicBezTo>
                <a:cubicBezTo>
                  <a:pt x="5530" y="12406"/>
                  <a:pt x="5454" y="12474"/>
                  <a:pt x="5556" y="12576"/>
                </a:cubicBezTo>
                <a:cubicBezTo>
                  <a:pt x="5652" y="12672"/>
                  <a:pt x="5823" y="12740"/>
                  <a:pt x="5829" y="12898"/>
                </a:cubicBezTo>
                <a:cubicBezTo>
                  <a:pt x="5832" y="12979"/>
                  <a:pt x="5699" y="12970"/>
                  <a:pt x="5655" y="12948"/>
                </a:cubicBezTo>
                <a:cubicBezTo>
                  <a:pt x="5647" y="12940"/>
                  <a:pt x="5639" y="12931"/>
                  <a:pt x="5631" y="12923"/>
                </a:cubicBezTo>
                <a:cubicBezTo>
                  <a:pt x="5631" y="12817"/>
                  <a:pt x="5654" y="12787"/>
                  <a:pt x="5705" y="12700"/>
                </a:cubicBezTo>
                <a:cubicBezTo>
                  <a:pt x="5777" y="12578"/>
                  <a:pt x="5869" y="12498"/>
                  <a:pt x="5879" y="12353"/>
                </a:cubicBezTo>
                <a:cubicBezTo>
                  <a:pt x="5883" y="12297"/>
                  <a:pt x="5861" y="12233"/>
                  <a:pt x="5779" y="12254"/>
                </a:cubicBezTo>
                <a:cubicBezTo>
                  <a:pt x="5763" y="12262"/>
                  <a:pt x="5746" y="12270"/>
                  <a:pt x="5730" y="12278"/>
                </a:cubicBezTo>
              </a:path>
              <a:path w="12180" h="3176">
                <a:moveTo>
                  <a:pt x="6226" y="12799"/>
                </a:moveTo>
                <a:cubicBezTo>
                  <a:pt x="6310" y="12790"/>
                  <a:pt x="6390" y="12779"/>
                  <a:pt x="6474" y="12774"/>
                </a:cubicBezTo>
                <a:cubicBezTo>
                  <a:pt x="6581" y="12767"/>
                  <a:pt x="6751" y="12797"/>
                  <a:pt x="6821" y="12750"/>
                </a:cubicBezTo>
                <a:cubicBezTo>
                  <a:pt x="6842" y="12736"/>
                  <a:pt x="6869" y="12691"/>
                  <a:pt x="6871" y="12650"/>
                </a:cubicBezTo>
                <a:cubicBezTo>
                  <a:pt x="6873" y="12614"/>
                  <a:pt x="6848" y="12593"/>
                  <a:pt x="6846" y="12551"/>
                </a:cubicBezTo>
                <a:cubicBezTo>
                  <a:pt x="6840" y="12416"/>
                  <a:pt x="6840" y="12287"/>
                  <a:pt x="6821" y="12154"/>
                </a:cubicBezTo>
                <a:cubicBezTo>
                  <a:pt x="6807" y="12057"/>
                  <a:pt x="6790" y="11954"/>
                  <a:pt x="6772" y="11857"/>
                </a:cubicBezTo>
                <a:cubicBezTo>
                  <a:pt x="6758" y="11783"/>
                  <a:pt x="6735" y="11709"/>
                  <a:pt x="6722" y="11633"/>
                </a:cubicBezTo>
                <a:cubicBezTo>
                  <a:pt x="6708" y="11552"/>
                  <a:pt x="6692" y="11462"/>
                  <a:pt x="6672" y="11385"/>
                </a:cubicBezTo>
                <a:cubicBezTo>
                  <a:pt x="6647" y="11288"/>
                  <a:pt x="6608" y="11186"/>
                  <a:pt x="6598" y="11088"/>
                </a:cubicBezTo>
                <a:cubicBezTo>
                  <a:pt x="6590" y="11016"/>
                  <a:pt x="6578" y="10931"/>
                  <a:pt x="6573" y="10864"/>
                </a:cubicBezTo>
                <a:cubicBezTo>
                  <a:pt x="6566" y="10775"/>
                  <a:pt x="6564" y="10702"/>
                  <a:pt x="6548" y="10616"/>
                </a:cubicBezTo>
                <a:cubicBezTo>
                  <a:pt x="6544" y="10591"/>
                  <a:pt x="6538" y="10512"/>
                  <a:pt x="6524" y="10492"/>
                </a:cubicBezTo>
                <a:cubicBezTo>
                  <a:pt x="6499" y="10454"/>
                  <a:pt x="6416" y="10412"/>
                  <a:pt x="6375" y="10393"/>
                </a:cubicBezTo>
                <a:cubicBezTo>
                  <a:pt x="6299" y="10359"/>
                  <a:pt x="6227" y="10389"/>
                  <a:pt x="6152" y="10393"/>
                </a:cubicBezTo>
                <a:cubicBezTo>
                  <a:pt x="6071" y="10397"/>
                  <a:pt x="5981" y="10428"/>
                  <a:pt x="5904" y="10443"/>
                </a:cubicBezTo>
                <a:cubicBezTo>
                  <a:pt x="5856" y="10452"/>
                  <a:pt x="5821" y="10461"/>
                  <a:pt x="5779" y="10468"/>
                </a:cubicBezTo>
                <a:cubicBezTo>
                  <a:pt x="5713" y="10479"/>
                  <a:pt x="5648" y="10480"/>
                  <a:pt x="5581" y="10492"/>
                </a:cubicBezTo>
                <a:cubicBezTo>
                  <a:pt x="5496" y="10507"/>
                  <a:pt x="5424" y="10515"/>
                  <a:pt x="5333" y="10517"/>
                </a:cubicBezTo>
                <a:cubicBezTo>
                  <a:pt x="5245" y="10519"/>
                  <a:pt x="5167" y="10509"/>
                  <a:pt x="5085" y="10492"/>
                </a:cubicBezTo>
                <a:cubicBezTo>
                  <a:pt x="5002" y="10475"/>
                  <a:pt x="4922" y="10435"/>
                  <a:pt x="4837" y="10418"/>
                </a:cubicBezTo>
                <a:cubicBezTo>
                  <a:pt x="4701" y="10390"/>
                  <a:pt x="4553" y="10340"/>
                  <a:pt x="4415" y="10319"/>
                </a:cubicBezTo>
                <a:cubicBezTo>
                  <a:pt x="4323" y="10305"/>
                  <a:pt x="4241" y="10331"/>
                  <a:pt x="4167" y="10344"/>
                </a:cubicBezTo>
                <a:cubicBezTo>
                  <a:pt x="4100" y="10356"/>
                  <a:pt x="4037" y="10362"/>
                  <a:pt x="3969" y="10368"/>
                </a:cubicBezTo>
                <a:cubicBezTo>
                  <a:pt x="3881" y="10376"/>
                  <a:pt x="3800" y="10349"/>
                  <a:pt x="3721" y="10344"/>
                </a:cubicBezTo>
                <a:cubicBezTo>
                  <a:pt x="3639" y="10339"/>
                  <a:pt x="3594" y="10357"/>
                  <a:pt x="3522" y="10368"/>
                </a:cubicBezTo>
                <a:cubicBezTo>
                  <a:pt x="3406" y="10386"/>
                  <a:pt x="3289" y="10414"/>
                  <a:pt x="3175" y="10443"/>
                </a:cubicBezTo>
                <a:cubicBezTo>
                  <a:pt x="3070" y="10470"/>
                  <a:pt x="2959" y="10506"/>
                  <a:pt x="2853" y="10517"/>
                </a:cubicBezTo>
                <a:cubicBezTo>
                  <a:pt x="2754" y="10527"/>
                  <a:pt x="2678" y="10547"/>
                  <a:pt x="2580" y="10567"/>
                </a:cubicBezTo>
                <a:cubicBezTo>
                  <a:pt x="2486" y="10587"/>
                  <a:pt x="2398" y="10621"/>
                  <a:pt x="2307" y="10641"/>
                </a:cubicBezTo>
                <a:cubicBezTo>
                  <a:pt x="2282" y="10641"/>
                  <a:pt x="2274" y="10641"/>
                  <a:pt x="2257" y="10641"/>
                </a:cubicBezTo>
                <a:cubicBezTo>
                  <a:pt x="2290" y="10707"/>
                  <a:pt x="2317" y="10772"/>
                  <a:pt x="2356" y="10840"/>
                </a:cubicBezTo>
                <a:cubicBezTo>
                  <a:pt x="2356" y="10868"/>
                  <a:pt x="2359" y="10878"/>
                  <a:pt x="2381" y="10889"/>
                </a:cubicBezTo>
              </a:path>
              <a:path w="12180" h="3176">
                <a:moveTo>
                  <a:pt x="2158" y="10840"/>
                </a:moveTo>
                <a:cubicBezTo>
                  <a:pt x="2200" y="10823"/>
                  <a:pt x="2324" y="10844"/>
                  <a:pt x="2381" y="10864"/>
                </a:cubicBezTo>
                <a:cubicBezTo>
                  <a:pt x="2389" y="10872"/>
                  <a:pt x="2398" y="10881"/>
                  <a:pt x="2406" y="10889"/>
                </a:cubicBezTo>
                <a:cubicBezTo>
                  <a:pt x="2472" y="10863"/>
                  <a:pt x="2526" y="10794"/>
                  <a:pt x="2580" y="10740"/>
                </a:cubicBezTo>
                <a:cubicBezTo>
                  <a:pt x="2588" y="10732"/>
                  <a:pt x="2596" y="10724"/>
                  <a:pt x="2604" y="10716"/>
                </a:cubicBezTo>
              </a:path>
              <a:path w="12180" h="3176">
                <a:moveTo>
                  <a:pt x="8855" y="10988"/>
                </a:moveTo>
                <a:cubicBezTo>
                  <a:pt x="8855" y="11181"/>
                  <a:pt x="8841" y="11368"/>
                  <a:pt x="8830" y="11559"/>
                </a:cubicBezTo>
                <a:cubicBezTo>
                  <a:pt x="8826" y="11635"/>
                  <a:pt x="8812" y="11704"/>
                  <a:pt x="8855" y="11733"/>
                </a:cubicBezTo>
              </a:path>
              <a:path w="12180" h="3176">
                <a:moveTo>
                  <a:pt x="9401" y="10939"/>
                </a:moveTo>
                <a:cubicBezTo>
                  <a:pt x="9329" y="10939"/>
                  <a:pt x="9240" y="10949"/>
                  <a:pt x="9178" y="10988"/>
                </a:cubicBezTo>
                <a:cubicBezTo>
                  <a:pt x="9044" y="11073"/>
                  <a:pt x="9121" y="11168"/>
                  <a:pt x="9178" y="11261"/>
                </a:cubicBezTo>
                <a:cubicBezTo>
                  <a:pt x="9269" y="11410"/>
                  <a:pt x="9401" y="11537"/>
                  <a:pt x="9302" y="11708"/>
                </a:cubicBezTo>
                <a:cubicBezTo>
                  <a:pt x="9254" y="11790"/>
                  <a:pt x="9197" y="11772"/>
                  <a:pt x="9128" y="11757"/>
                </a:cubicBezTo>
                <a:cubicBezTo>
                  <a:pt x="9098" y="11626"/>
                  <a:pt x="9176" y="11502"/>
                  <a:pt x="9252" y="11385"/>
                </a:cubicBezTo>
                <a:cubicBezTo>
                  <a:pt x="9328" y="11269"/>
                  <a:pt x="9416" y="11181"/>
                  <a:pt x="9426" y="11038"/>
                </a:cubicBezTo>
                <a:cubicBezTo>
                  <a:pt x="9430" y="10985"/>
                  <a:pt x="9391" y="10988"/>
                  <a:pt x="9351" y="10988"/>
                </a:cubicBezTo>
              </a:path>
              <a:path w="12180" h="3176">
                <a:moveTo>
                  <a:pt x="9798" y="11460"/>
                </a:moveTo>
                <a:cubicBezTo>
                  <a:pt x="9868" y="11460"/>
                  <a:pt x="9929" y="11479"/>
                  <a:pt x="9996" y="11485"/>
                </a:cubicBezTo>
                <a:cubicBezTo>
                  <a:pt x="10052" y="11490"/>
                  <a:pt x="10113" y="11485"/>
                  <a:pt x="10170" y="11485"/>
                </a:cubicBezTo>
              </a:path>
              <a:path w="12180" h="3176">
                <a:moveTo>
                  <a:pt x="10443" y="11063"/>
                </a:moveTo>
                <a:cubicBezTo>
                  <a:pt x="10443" y="11163"/>
                  <a:pt x="10397" y="11315"/>
                  <a:pt x="10517" y="11336"/>
                </a:cubicBezTo>
                <a:cubicBezTo>
                  <a:pt x="10607" y="11352"/>
                  <a:pt x="10742" y="11323"/>
                  <a:pt x="10815" y="11286"/>
                </a:cubicBezTo>
              </a:path>
              <a:path w="12180" h="3176">
                <a:moveTo>
                  <a:pt x="10790" y="10889"/>
                </a:moveTo>
                <a:cubicBezTo>
                  <a:pt x="10790" y="11179"/>
                  <a:pt x="10790" y="11998"/>
                  <a:pt x="10790" y="11708"/>
                </a:cubicBezTo>
              </a:path>
              <a:path w="12180" h="3176">
                <a:moveTo>
                  <a:pt x="11162" y="11212"/>
                </a:moveTo>
                <a:cubicBezTo>
                  <a:pt x="11233" y="11212"/>
                  <a:pt x="11440" y="11178"/>
                  <a:pt x="11460" y="11237"/>
                </a:cubicBezTo>
              </a:path>
              <a:path w="12180" h="3176">
                <a:moveTo>
                  <a:pt x="11137" y="11435"/>
                </a:moveTo>
                <a:cubicBezTo>
                  <a:pt x="11210" y="11435"/>
                  <a:pt x="11489" y="11396"/>
                  <a:pt x="11509" y="11460"/>
                </a:cubicBezTo>
              </a:path>
              <a:path w="12180" h="3176">
                <a:moveTo>
                  <a:pt x="11782" y="10964"/>
                </a:moveTo>
                <a:cubicBezTo>
                  <a:pt x="11782" y="11157"/>
                  <a:pt x="11777" y="11344"/>
                  <a:pt x="11757" y="11534"/>
                </a:cubicBezTo>
                <a:cubicBezTo>
                  <a:pt x="11757" y="11551"/>
                  <a:pt x="11757" y="11567"/>
                  <a:pt x="11757" y="11584"/>
                </a:cubicBezTo>
              </a:path>
              <a:path w="12180" h="3176">
                <a:moveTo>
                  <a:pt x="12080" y="10964"/>
                </a:moveTo>
                <a:cubicBezTo>
                  <a:pt x="12080" y="11061"/>
                  <a:pt x="12073" y="11146"/>
                  <a:pt x="12055" y="11237"/>
                </a:cubicBezTo>
                <a:cubicBezTo>
                  <a:pt x="12055" y="11245"/>
                  <a:pt x="12055" y="11253"/>
                  <a:pt x="12055" y="11261"/>
                </a:cubicBezTo>
                <a:cubicBezTo>
                  <a:pt x="12124" y="11313"/>
                  <a:pt x="12242" y="11286"/>
                  <a:pt x="12328" y="11286"/>
                </a:cubicBezTo>
                <a:cubicBezTo>
                  <a:pt x="12394" y="11286"/>
                  <a:pt x="12460" y="11286"/>
                  <a:pt x="12526" y="11286"/>
                </a:cubicBezTo>
              </a:path>
              <a:path w="12180" h="3176">
                <a:moveTo>
                  <a:pt x="12477" y="10740"/>
                </a:moveTo>
                <a:cubicBezTo>
                  <a:pt x="12420" y="10872"/>
                  <a:pt x="12421" y="11085"/>
                  <a:pt x="12402" y="11237"/>
                </a:cubicBezTo>
                <a:cubicBezTo>
                  <a:pt x="12382" y="11398"/>
                  <a:pt x="12365" y="11587"/>
                  <a:pt x="12328" y="11733"/>
                </a:cubicBezTo>
                <a:cubicBezTo>
                  <a:pt x="12328" y="11741"/>
                  <a:pt x="12328" y="11749"/>
                  <a:pt x="12328" y="11757"/>
                </a:cubicBezTo>
              </a:path>
              <a:path w="12180" h="3176">
                <a:moveTo>
                  <a:pt x="6449" y="12998"/>
                </a:moveTo>
                <a:cubicBezTo>
                  <a:pt x="6469" y="13089"/>
                  <a:pt x="6517" y="13176"/>
                  <a:pt x="6548" y="13271"/>
                </a:cubicBezTo>
                <a:cubicBezTo>
                  <a:pt x="6793" y="13148"/>
                  <a:pt x="7016" y="12933"/>
                  <a:pt x="7243" y="12774"/>
                </a:cubicBezTo>
                <a:cubicBezTo>
                  <a:pt x="7369" y="12686"/>
                  <a:pt x="7692" y="12427"/>
                  <a:pt x="7863" y="12427"/>
                </a:cubicBezTo>
                <a:cubicBezTo>
                  <a:pt x="7888" y="12427"/>
                  <a:pt x="7896" y="12427"/>
                  <a:pt x="7888" y="124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26040" y="3537000"/>
            <a:ext cx="3554280" cy="1249200"/>
          </a:xfrm>
          <a:custGeom>
            <a:avLst/>
            <a:gdLst/>
            <a:ahLst/>
            <a:rect l="l" t="t" r="r" b="b"/>
            <a:pathLst>
              <a:path w="9873" h="3473">
                <a:moveTo>
                  <a:pt x="15032" y="10170"/>
                </a:moveTo>
                <a:cubicBezTo>
                  <a:pt x="14984" y="10182"/>
                  <a:pt x="14982" y="10232"/>
                  <a:pt x="14982" y="10195"/>
                </a:cubicBezTo>
                <a:cubicBezTo>
                  <a:pt x="15079" y="10179"/>
                  <a:pt x="15155" y="10092"/>
                  <a:pt x="15205" y="10220"/>
                </a:cubicBezTo>
                <a:cubicBezTo>
                  <a:pt x="15262" y="10367"/>
                  <a:pt x="15106" y="10513"/>
                  <a:pt x="14982" y="10542"/>
                </a:cubicBezTo>
                <a:cubicBezTo>
                  <a:pt x="14837" y="10576"/>
                  <a:pt x="14797" y="10539"/>
                  <a:pt x="14759" y="10443"/>
                </a:cubicBezTo>
                <a:cubicBezTo>
                  <a:pt x="14874" y="10377"/>
                  <a:pt x="14978" y="10403"/>
                  <a:pt x="15106" y="10443"/>
                </a:cubicBezTo>
                <a:cubicBezTo>
                  <a:pt x="15149" y="10465"/>
                  <a:pt x="15161" y="10468"/>
                  <a:pt x="15180" y="10492"/>
                </a:cubicBezTo>
              </a:path>
              <a:path w="9873" h="3473">
                <a:moveTo>
                  <a:pt x="14536" y="10666"/>
                </a:moveTo>
                <a:cubicBezTo>
                  <a:pt x="14782" y="10752"/>
                  <a:pt x="15017" y="10809"/>
                  <a:pt x="15280" y="10740"/>
                </a:cubicBezTo>
                <a:cubicBezTo>
                  <a:pt x="15477" y="10688"/>
                  <a:pt x="15697" y="10555"/>
                  <a:pt x="15677" y="10319"/>
                </a:cubicBezTo>
                <a:cubicBezTo>
                  <a:pt x="15659" y="10100"/>
                  <a:pt x="15309" y="9897"/>
                  <a:pt x="15131" y="9847"/>
                </a:cubicBezTo>
                <a:cubicBezTo>
                  <a:pt x="14843" y="9766"/>
                  <a:pt x="14568" y="9822"/>
                  <a:pt x="14387" y="10071"/>
                </a:cubicBezTo>
                <a:cubicBezTo>
                  <a:pt x="14255" y="10253"/>
                  <a:pt x="14146" y="10573"/>
                  <a:pt x="14362" y="10740"/>
                </a:cubicBezTo>
                <a:cubicBezTo>
                  <a:pt x="14547" y="10820"/>
                  <a:pt x="14616" y="10846"/>
                  <a:pt x="14759" y="10840"/>
                </a:cubicBezTo>
              </a:path>
              <a:path w="9873" h="3473">
                <a:moveTo>
                  <a:pt x="16768" y="11584"/>
                </a:moveTo>
                <a:cubicBezTo>
                  <a:pt x="16715" y="11584"/>
                  <a:pt x="16815" y="11600"/>
                  <a:pt x="16867" y="11609"/>
                </a:cubicBezTo>
                <a:cubicBezTo>
                  <a:pt x="16969" y="11626"/>
                  <a:pt x="17062" y="11658"/>
                  <a:pt x="17165" y="11658"/>
                </a:cubicBezTo>
              </a:path>
              <a:path w="9873" h="3473">
                <a:moveTo>
                  <a:pt x="17835" y="11261"/>
                </a:moveTo>
                <a:cubicBezTo>
                  <a:pt x="17763" y="11261"/>
                  <a:pt x="17474" y="11212"/>
                  <a:pt x="17438" y="11286"/>
                </a:cubicBezTo>
                <a:cubicBezTo>
                  <a:pt x="17411" y="11342"/>
                  <a:pt x="17438" y="11492"/>
                  <a:pt x="17438" y="11559"/>
                </a:cubicBezTo>
                <a:cubicBezTo>
                  <a:pt x="17438" y="11567"/>
                  <a:pt x="17438" y="11576"/>
                  <a:pt x="17438" y="11584"/>
                </a:cubicBezTo>
                <a:cubicBezTo>
                  <a:pt x="17515" y="11550"/>
                  <a:pt x="17556" y="11530"/>
                  <a:pt x="17636" y="11509"/>
                </a:cubicBezTo>
                <a:cubicBezTo>
                  <a:pt x="17730" y="11484"/>
                  <a:pt x="17888" y="11497"/>
                  <a:pt x="17959" y="11584"/>
                </a:cubicBezTo>
                <a:cubicBezTo>
                  <a:pt x="18034" y="11676"/>
                  <a:pt x="18011" y="11866"/>
                  <a:pt x="17909" y="11931"/>
                </a:cubicBezTo>
                <a:cubicBezTo>
                  <a:pt x="17798" y="12002"/>
                  <a:pt x="17690" y="11936"/>
                  <a:pt x="17587" y="11906"/>
                </a:cubicBezTo>
                <a:cubicBezTo>
                  <a:pt x="17553" y="11896"/>
                  <a:pt x="17562" y="11869"/>
                  <a:pt x="17562" y="11906"/>
                </a:cubicBezTo>
              </a:path>
              <a:path w="9873" h="3473">
                <a:moveTo>
                  <a:pt x="17115" y="10790"/>
                </a:moveTo>
                <a:cubicBezTo>
                  <a:pt x="17074" y="10754"/>
                  <a:pt x="17037" y="10719"/>
                  <a:pt x="16991" y="10691"/>
                </a:cubicBezTo>
                <a:cubicBezTo>
                  <a:pt x="16971" y="10679"/>
                  <a:pt x="16903" y="10653"/>
                  <a:pt x="16892" y="10641"/>
                </a:cubicBezTo>
                <a:cubicBezTo>
                  <a:pt x="16892" y="10633"/>
                  <a:pt x="16892" y="10624"/>
                  <a:pt x="16892" y="10616"/>
                </a:cubicBezTo>
                <a:cubicBezTo>
                  <a:pt x="16983" y="10740"/>
                  <a:pt x="17091" y="10911"/>
                  <a:pt x="17190" y="11038"/>
                </a:cubicBezTo>
                <a:cubicBezTo>
                  <a:pt x="17403" y="11310"/>
                  <a:pt x="17666" y="11537"/>
                  <a:pt x="17884" y="11807"/>
                </a:cubicBezTo>
                <a:cubicBezTo>
                  <a:pt x="17886" y="11810"/>
                  <a:pt x="18005" y="11981"/>
                  <a:pt x="18008" y="11981"/>
                </a:cubicBezTo>
                <a:cubicBezTo>
                  <a:pt x="18008" y="11973"/>
                  <a:pt x="18008" y="11964"/>
                  <a:pt x="18008" y="11956"/>
                </a:cubicBezTo>
              </a:path>
              <a:path w="9873" h="3473">
                <a:moveTo>
                  <a:pt x="17859" y="10294"/>
                </a:moveTo>
                <a:cubicBezTo>
                  <a:pt x="17790" y="10398"/>
                  <a:pt x="17761" y="10468"/>
                  <a:pt x="17686" y="10567"/>
                </a:cubicBezTo>
                <a:cubicBezTo>
                  <a:pt x="17404" y="10940"/>
                  <a:pt x="17144" y="11313"/>
                  <a:pt x="16892" y="11708"/>
                </a:cubicBezTo>
                <a:cubicBezTo>
                  <a:pt x="16837" y="11794"/>
                  <a:pt x="16790" y="11872"/>
                  <a:pt x="16743" y="11956"/>
                </a:cubicBezTo>
              </a:path>
              <a:path w="9873" h="3473">
                <a:moveTo>
                  <a:pt x="19224" y="12353"/>
                </a:moveTo>
                <a:cubicBezTo>
                  <a:pt x="19190" y="12469"/>
                  <a:pt x="19147" y="12586"/>
                  <a:pt x="19124" y="12700"/>
                </a:cubicBezTo>
                <a:cubicBezTo>
                  <a:pt x="19242" y="12720"/>
                  <a:pt x="19350" y="12725"/>
                  <a:pt x="19472" y="12725"/>
                </a:cubicBezTo>
                <a:cubicBezTo>
                  <a:pt x="19488" y="12725"/>
                  <a:pt x="19505" y="12725"/>
                  <a:pt x="19521" y="12725"/>
                </a:cubicBezTo>
              </a:path>
              <a:path w="9873" h="3473">
                <a:moveTo>
                  <a:pt x="19521" y="12204"/>
                </a:moveTo>
                <a:cubicBezTo>
                  <a:pt x="19474" y="12418"/>
                  <a:pt x="19448" y="12629"/>
                  <a:pt x="19422" y="12849"/>
                </a:cubicBezTo>
                <a:cubicBezTo>
                  <a:pt x="19404" y="13001"/>
                  <a:pt x="19397" y="13143"/>
                  <a:pt x="19397" y="13295"/>
                </a:cubicBezTo>
                <a:cubicBezTo>
                  <a:pt x="19397" y="13287"/>
                  <a:pt x="19397" y="13279"/>
                  <a:pt x="19397" y="13271"/>
                </a:cubicBezTo>
              </a:path>
              <a:path w="9873" h="3473">
                <a:moveTo>
                  <a:pt x="19720" y="12874"/>
                </a:moveTo>
                <a:cubicBezTo>
                  <a:pt x="19805" y="12865"/>
                  <a:pt x="19882" y="12854"/>
                  <a:pt x="19968" y="12849"/>
                </a:cubicBezTo>
                <a:cubicBezTo>
                  <a:pt x="20066" y="12843"/>
                  <a:pt x="20146" y="12837"/>
                  <a:pt x="20241" y="12824"/>
                </a:cubicBezTo>
                <a:cubicBezTo>
                  <a:pt x="20241" y="12657"/>
                  <a:pt x="20240" y="12492"/>
                  <a:pt x="20216" y="12328"/>
                </a:cubicBezTo>
                <a:cubicBezTo>
                  <a:pt x="20192" y="12163"/>
                  <a:pt x="20170" y="11999"/>
                  <a:pt x="20166" y="11832"/>
                </a:cubicBezTo>
                <a:cubicBezTo>
                  <a:pt x="20163" y="11683"/>
                  <a:pt x="20147" y="11529"/>
                  <a:pt x="20141" y="11385"/>
                </a:cubicBezTo>
                <a:cubicBezTo>
                  <a:pt x="20136" y="11262"/>
                  <a:pt x="20123" y="11129"/>
                  <a:pt x="20117" y="11013"/>
                </a:cubicBezTo>
                <a:cubicBezTo>
                  <a:pt x="20112" y="10919"/>
                  <a:pt x="20094" y="10876"/>
                  <a:pt x="20067" y="10790"/>
                </a:cubicBezTo>
                <a:cubicBezTo>
                  <a:pt x="20042" y="10709"/>
                  <a:pt x="20021" y="10626"/>
                  <a:pt x="19993" y="10542"/>
                </a:cubicBezTo>
                <a:cubicBezTo>
                  <a:pt x="19968" y="10467"/>
                  <a:pt x="19916" y="10392"/>
                  <a:pt x="19893" y="10319"/>
                </a:cubicBezTo>
                <a:cubicBezTo>
                  <a:pt x="19880" y="10279"/>
                  <a:pt x="19900" y="10227"/>
                  <a:pt x="19869" y="10195"/>
                </a:cubicBezTo>
                <a:cubicBezTo>
                  <a:pt x="19785" y="10107"/>
                  <a:pt x="19553" y="10081"/>
                  <a:pt x="19447" y="10071"/>
                </a:cubicBezTo>
                <a:cubicBezTo>
                  <a:pt x="19168" y="10046"/>
                  <a:pt x="18907" y="10041"/>
                  <a:pt x="18628" y="10046"/>
                </a:cubicBezTo>
                <a:cubicBezTo>
                  <a:pt x="18357" y="10051"/>
                  <a:pt x="18078" y="10081"/>
                  <a:pt x="17810" y="10120"/>
                </a:cubicBezTo>
                <a:cubicBezTo>
                  <a:pt x="17618" y="10148"/>
                  <a:pt x="17431" y="10162"/>
                  <a:pt x="17239" y="10195"/>
                </a:cubicBezTo>
                <a:cubicBezTo>
                  <a:pt x="17050" y="10227"/>
                  <a:pt x="16860" y="10258"/>
                  <a:pt x="16669" y="10269"/>
                </a:cubicBezTo>
                <a:cubicBezTo>
                  <a:pt x="16522" y="10277"/>
                  <a:pt x="16339" y="10279"/>
                  <a:pt x="16197" y="10319"/>
                </a:cubicBezTo>
                <a:cubicBezTo>
                  <a:pt x="16099" y="10347"/>
                  <a:pt x="16139" y="10282"/>
                  <a:pt x="16098" y="10368"/>
                </a:cubicBezTo>
                <a:cubicBezTo>
                  <a:pt x="16098" y="10459"/>
                  <a:pt x="16098" y="10484"/>
                  <a:pt x="16098" y="10542"/>
                </a:cubicBezTo>
                <a:cubicBezTo>
                  <a:pt x="16098" y="10550"/>
                  <a:pt x="16098" y="10559"/>
                  <a:pt x="16098" y="10567"/>
                </a:cubicBezTo>
                <a:cubicBezTo>
                  <a:pt x="16096" y="10539"/>
                  <a:pt x="16116" y="10472"/>
                  <a:pt x="16098" y="10418"/>
                </a:cubicBezTo>
                <a:cubicBezTo>
                  <a:pt x="16073" y="10418"/>
                  <a:pt x="16065" y="10418"/>
                  <a:pt x="16073" y="10393"/>
                </a:cubicBezTo>
              </a:path>
              <a:path w="9873" h="3473">
                <a:moveTo>
                  <a:pt x="15925" y="10418"/>
                </a:moveTo>
                <a:cubicBezTo>
                  <a:pt x="15963" y="10467"/>
                  <a:pt x="16026" y="10568"/>
                  <a:pt x="16073" y="10592"/>
                </a:cubicBezTo>
                <a:cubicBezTo>
                  <a:pt x="16150" y="10631"/>
                  <a:pt x="16238" y="10459"/>
                  <a:pt x="16272" y="10418"/>
                </a:cubicBezTo>
                <a:cubicBezTo>
                  <a:pt x="16297" y="10387"/>
                  <a:pt x="16312" y="10377"/>
                  <a:pt x="16346" y="10368"/>
                </a:cubicBezTo>
              </a:path>
              <a:path w="9873" h="3473">
                <a:moveTo>
                  <a:pt x="21233" y="10269"/>
                </a:moveTo>
                <a:cubicBezTo>
                  <a:pt x="21195" y="10345"/>
                  <a:pt x="21197" y="10414"/>
                  <a:pt x="21134" y="10492"/>
                </a:cubicBezTo>
                <a:cubicBezTo>
                  <a:pt x="21117" y="10509"/>
                  <a:pt x="21101" y="10525"/>
                  <a:pt x="21084" y="10542"/>
                </a:cubicBezTo>
                <a:cubicBezTo>
                  <a:pt x="21210" y="10556"/>
                  <a:pt x="21317" y="10611"/>
                  <a:pt x="21431" y="10666"/>
                </a:cubicBezTo>
                <a:cubicBezTo>
                  <a:pt x="21484" y="10692"/>
                  <a:pt x="21491" y="10710"/>
                  <a:pt x="21506" y="10666"/>
                </a:cubicBezTo>
              </a:path>
              <a:path w="9873" h="3473">
                <a:moveTo>
                  <a:pt x="21530" y="10170"/>
                </a:moveTo>
                <a:cubicBezTo>
                  <a:pt x="21467" y="10379"/>
                  <a:pt x="21501" y="10576"/>
                  <a:pt x="21481" y="10790"/>
                </a:cubicBezTo>
                <a:cubicBezTo>
                  <a:pt x="21474" y="10865"/>
                  <a:pt x="21456" y="11039"/>
                  <a:pt x="21456" y="10964"/>
                </a:cubicBezTo>
              </a:path>
              <a:path w="9873" h="3473">
                <a:moveTo>
                  <a:pt x="21803" y="10294"/>
                </a:moveTo>
                <a:cubicBezTo>
                  <a:pt x="21860" y="10350"/>
                  <a:pt x="21828" y="10593"/>
                  <a:pt x="21828" y="10691"/>
                </a:cubicBezTo>
                <a:cubicBezTo>
                  <a:pt x="21828" y="10765"/>
                  <a:pt x="21828" y="10938"/>
                  <a:pt x="21828" y="10864"/>
                </a:cubicBezTo>
              </a:path>
              <a:path w="9873" h="3473">
                <a:moveTo>
                  <a:pt x="21654" y="10567"/>
                </a:moveTo>
                <a:cubicBezTo>
                  <a:pt x="21792" y="10567"/>
                  <a:pt x="21973" y="10528"/>
                  <a:pt x="22101" y="10542"/>
                </a:cubicBezTo>
                <a:cubicBezTo>
                  <a:pt x="22109" y="10550"/>
                  <a:pt x="22118" y="10559"/>
                  <a:pt x="22126" y="10567"/>
                </a:cubicBezTo>
              </a:path>
              <a:path w="9873" h="3473">
                <a:moveTo>
                  <a:pt x="22622" y="10244"/>
                </a:moveTo>
                <a:cubicBezTo>
                  <a:pt x="22563" y="10256"/>
                  <a:pt x="22510" y="10288"/>
                  <a:pt x="22448" y="10294"/>
                </a:cubicBezTo>
                <a:cubicBezTo>
                  <a:pt x="22409" y="10298"/>
                  <a:pt x="22366" y="10395"/>
                  <a:pt x="22349" y="10443"/>
                </a:cubicBezTo>
                <a:cubicBezTo>
                  <a:pt x="22349" y="10478"/>
                  <a:pt x="22344" y="10495"/>
                  <a:pt x="22324" y="10517"/>
                </a:cubicBezTo>
                <a:cubicBezTo>
                  <a:pt x="22383" y="10561"/>
                  <a:pt x="22447" y="10519"/>
                  <a:pt x="22523" y="10517"/>
                </a:cubicBezTo>
                <a:cubicBezTo>
                  <a:pt x="22687" y="10512"/>
                  <a:pt x="22774" y="10658"/>
                  <a:pt x="22696" y="10815"/>
                </a:cubicBezTo>
                <a:cubicBezTo>
                  <a:pt x="22646" y="10915"/>
                  <a:pt x="22483" y="11024"/>
                  <a:pt x="22374" y="10964"/>
                </a:cubicBezTo>
                <a:cubicBezTo>
                  <a:pt x="22329" y="10940"/>
                  <a:pt x="22287" y="10914"/>
                  <a:pt x="22324" y="10914"/>
                </a:cubicBezTo>
                <a:cubicBezTo>
                  <a:pt x="22402" y="11023"/>
                  <a:pt x="22424" y="10995"/>
                  <a:pt x="22523" y="10914"/>
                </a:cubicBezTo>
              </a:path>
              <a:path w="9873" h="3473">
                <a:moveTo>
                  <a:pt x="23068" y="10542"/>
                </a:moveTo>
                <a:cubicBezTo>
                  <a:pt x="23144" y="10523"/>
                  <a:pt x="23227" y="10500"/>
                  <a:pt x="23316" y="10492"/>
                </a:cubicBezTo>
                <a:cubicBezTo>
                  <a:pt x="23364" y="10488"/>
                  <a:pt x="23416" y="10492"/>
                  <a:pt x="23465" y="10492"/>
                </a:cubicBezTo>
              </a:path>
              <a:path w="9873" h="3473">
                <a:moveTo>
                  <a:pt x="23044" y="10815"/>
                </a:moveTo>
                <a:cubicBezTo>
                  <a:pt x="23172" y="10815"/>
                  <a:pt x="23290" y="10798"/>
                  <a:pt x="23416" y="10790"/>
                </a:cubicBezTo>
              </a:path>
              <a:path w="9873" h="3473">
                <a:moveTo>
                  <a:pt x="24110" y="10542"/>
                </a:moveTo>
                <a:cubicBezTo>
                  <a:pt x="24077" y="10452"/>
                  <a:pt x="24042" y="10351"/>
                  <a:pt x="23937" y="10319"/>
                </a:cubicBezTo>
                <a:cubicBezTo>
                  <a:pt x="23821" y="10284"/>
                  <a:pt x="23630" y="10428"/>
                  <a:pt x="23614" y="10542"/>
                </a:cubicBezTo>
                <a:cubicBezTo>
                  <a:pt x="23591" y="10703"/>
                  <a:pt x="23744" y="10724"/>
                  <a:pt x="23837" y="10666"/>
                </a:cubicBezTo>
                <a:cubicBezTo>
                  <a:pt x="23937" y="10604"/>
                  <a:pt x="24015" y="10481"/>
                  <a:pt x="24036" y="10368"/>
                </a:cubicBezTo>
                <a:cubicBezTo>
                  <a:pt x="24036" y="10360"/>
                  <a:pt x="24036" y="10352"/>
                  <a:pt x="24036" y="10344"/>
                </a:cubicBezTo>
                <a:cubicBezTo>
                  <a:pt x="24036" y="10491"/>
                  <a:pt x="24026" y="10644"/>
                  <a:pt x="24011" y="10790"/>
                </a:cubicBezTo>
                <a:cubicBezTo>
                  <a:pt x="23999" y="10910"/>
                  <a:pt x="23986" y="11017"/>
                  <a:pt x="23986" y="1113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1880" y="4017960"/>
            <a:ext cx="534960" cy="590400"/>
          </a:xfrm>
          <a:custGeom>
            <a:avLst/>
            <a:gdLst/>
            <a:ahLst/>
            <a:rect l="l" t="t" r="r" b="b"/>
            <a:pathLst>
              <a:path w="1489" h="1638">
                <a:moveTo>
                  <a:pt x="18628" y="11584"/>
                </a:moveTo>
                <a:cubicBezTo>
                  <a:pt x="18646" y="11637"/>
                  <a:pt x="18741" y="11630"/>
                  <a:pt x="18802" y="11633"/>
                </a:cubicBezTo>
                <a:cubicBezTo>
                  <a:pt x="18853" y="11635"/>
                  <a:pt x="18887" y="11616"/>
                  <a:pt x="18901" y="11658"/>
                </a:cubicBezTo>
              </a:path>
              <a:path w="1489" h="1638">
                <a:moveTo>
                  <a:pt x="19348" y="11212"/>
                </a:moveTo>
                <a:cubicBezTo>
                  <a:pt x="19288" y="11212"/>
                  <a:pt x="19270" y="11201"/>
                  <a:pt x="19248" y="11237"/>
                </a:cubicBezTo>
                <a:cubicBezTo>
                  <a:pt x="19215" y="11292"/>
                  <a:pt x="19164" y="11352"/>
                  <a:pt x="19149" y="11410"/>
                </a:cubicBezTo>
                <a:cubicBezTo>
                  <a:pt x="19228" y="11410"/>
                  <a:pt x="19296" y="11404"/>
                  <a:pt x="19372" y="11435"/>
                </a:cubicBezTo>
                <a:cubicBezTo>
                  <a:pt x="19492" y="11484"/>
                  <a:pt x="19634" y="11609"/>
                  <a:pt x="19521" y="11733"/>
                </a:cubicBezTo>
                <a:cubicBezTo>
                  <a:pt x="19420" y="11844"/>
                  <a:pt x="19272" y="11792"/>
                  <a:pt x="19149" y="11782"/>
                </a:cubicBezTo>
              </a:path>
              <a:path w="1489" h="1638">
                <a:moveTo>
                  <a:pt x="19323" y="11261"/>
                </a:moveTo>
                <a:cubicBezTo>
                  <a:pt x="19331" y="11238"/>
                  <a:pt x="19384" y="11217"/>
                  <a:pt x="19422" y="11212"/>
                </a:cubicBezTo>
                <a:cubicBezTo>
                  <a:pt x="19538" y="11196"/>
                  <a:pt x="19652" y="11171"/>
                  <a:pt x="19769" y="11162"/>
                </a:cubicBezTo>
              </a:path>
              <a:path w="1489" h="1638">
                <a:moveTo>
                  <a:pt x="18281" y="12502"/>
                </a:moveTo>
                <a:cubicBezTo>
                  <a:pt x="18381" y="12521"/>
                  <a:pt x="18471" y="12526"/>
                  <a:pt x="18579" y="12526"/>
                </a:cubicBezTo>
                <a:cubicBezTo>
                  <a:pt x="18655" y="12526"/>
                  <a:pt x="18681" y="12527"/>
                  <a:pt x="18728" y="12551"/>
                </a:cubicBezTo>
              </a:path>
              <a:path w="1489" h="1638">
                <a:moveTo>
                  <a:pt x="18331" y="12799"/>
                </a:moveTo>
                <a:cubicBezTo>
                  <a:pt x="18447" y="12799"/>
                  <a:pt x="18562" y="12799"/>
                  <a:pt x="18678" y="1279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84920" y="4510080"/>
            <a:ext cx="125280" cy="222120"/>
          </a:xfrm>
          <a:custGeom>
            <a:avLst/>
            <a:gdLst/>
            <a:ahLst/>
            <a:rect l="l" t="t" r="r" b="b"/>
            <a:pathLst>
              <a:path w="349" h="621">
                <a:moveTo>
                  <a:pt x="16346" y="12650"/>
                </a:moveTo>
                <a:cubicBezTo>
                  <a:pt x="16387" y="12652"/>
                  <a:pt x="16446" y="12821"/>
                  <a:pt x="16495" y="12898"/>
                </a:cubicBezTo>
                <a:cubicBezTo>
                  <a:pt x="16544" y="12975"/>
                  <a:pt x="16652" y="13213"/>
                  <a:pt x="16644" y="13122"/>
                </a:cubicBezTo>
                <a:cubicBezTo>
                  <a:pt x="16636" y="13097"/>
                  <a:pt x="16627" y="13072"/>
                  <a:pt x="16619" y="13047"/>
                </a:cubicBezTo>
              </a:path>
              <a:path w="349" h="621">
                <a:moveTo>
                  <a:pt x="16694" y="12526"/>
                </a:moveTo>
                <a:cubicBezTo>
                  <a:pt x="16621" y="12686"/>
                  <a:pt x="16535" y="12821"/>
                  <a:pt x="16446" y="12973"/>
                </a:cubicBezTo>
                <a:cubicBezTo>
                  <a:pt x="16420" y="13017"/>
                  <a:pt x="16316" y="13128"/>
                  <a:pt x="16371" y="1314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63920" y="6205680"/>
            <a:ext cx="349200" cy="358560"/>
          </a:xfrm>
          <a:custGeom>
            <a:avLst/>
            <a:gdLst/>
            <a:ahLst/>
            <a:rect l="l" t="t" r="r" b="b"/>
            <a:pathLst>
              <a:path w="969" h="993">
                <a:moveTo>
                  <a:pt x="9624" y="17859"/>
                </a:moveTo>
                <a:cubicBezTo>
                  <a:pt x="9650" y="17834"/>
                  <a:pt x="9658" y="17825"/>
                  <a:pt x="9674" y="17810"/>
                </a:cubicBezTo>
                <a:cubicBezTo>
                  <a:pt x="9725" y="17938"/>
                  <a:pt x="9726" y="18079"/>
                  <a:pt x="9773" y="18207"/>
                </a:cubicBezTo>
                <a:cubicBezTo>
                  <a:pt x="9773" y="18231"/>
                  <a:pt x="9773" y="18239"/>
                  <a:pt x="9798" y="18231"/>
                </a:cubicBezTo>
                <a:cubicBezTo>
                  <a:pt x="9985" y="17976"/>
                  <a:pt x="10138" y="17709"/>
                  <a:pt x="10344" y="17462"/>
                </a:cubicBezTo>
                <a:cubicBezTo>
                  <a:pt x="10485" y="17293"/>
                  <a:pt x="10548" y="17150"/>
                  <a:pt x="10567" y="17338"/>
                </a:cubicBezTo>
              </a:path>
            </a:pathLst>
          </a:custGeom>
          <a:noFill/>
          <a:ln cap="rnd" w="3492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920" y="4894200"/>
            <a:ext cx="1447920" cy="741600"/>
          </a:xfrm>
          <a:custGeom>
            <a:avLst/>
            <a:gdLst/>
            <a:ahLst/>
            <a:rect l="l" t="t" r="r" b="b"/>
            <a:pathLst>
              <a:path w="4019" h="2060">
                <a:moveTo>
                  <a:pt x="2952" y="14387"/>
                </a:moveTo>
                <a:cubicBezTo>
                  <a:pt x="3048" y="14483"/>
                  <a:pt x="3139" y="14580"/>
                  <a:pt x="3225" y="14684"/>
                </a:cubicBezTo>
                <a:cubicBezTo>
                  <a:pt x="3247" y="14707"/>
                  <a:pt x="3252" y="14715"/>
                  <a:pt x="3274" y="14709"/>
                </a:cubicBezTo>
              </a:path>
              <a:path w="4019" h="2060">
                <a:moveTo>
                  <a:pt x="3200" y="14362"/>
                </a:moveTo>
                <a:cubicBezTo>
                  <a:pt x="3155" y="14467"/>
                  <a:pt x="3073" y="14572"/>
                  <a:pt x="3026" y="14684"/>
                </a:cubicBezTo>
                <a:cubicBezTo>
                  <a:pt x="2997" y="14753"/>
                  <a:pt x="2975" y="14820"/>
                  <a:pt x="2952" y="14883"/>
                </a:cubicBezTo>
                <a:cubicBezTo>
                  <a:pt x="2944" y="14899"/>
                  <a:pt x="2935" y="14916"/>
                  <a:pt x="2927" y="14932"/>
                </a:cubicBezTo>
              </a:path>
              <a:path w="4019" h="2060">
                <a:moveTo>
                  <a:pt x="2183" y="14163"/>
                </a:moveTo>
                <a:cubicBezTo>
                  <a:pt x="2256" y="14115"/>
                  <a:pt x="2322" y="14021"/>
                  <a:pt x="2406" y="13965"/>
                </a:cubicBezTo>
                <a:cubicBezTo>
                  <a:pt x="2497" y="14043"/>
                  <a:pt x="2502" y="14141"/>
                  <a:pt x="2456" y="14263"/>
                </a:cubicBezTo>
                <a:cubicBezTo>
                  <a:pt x="2428" y="14337"/>
                  <a:pt x="2429" y="14297"/>
                  <a:pt x="2530" y="14337"/>
                </a:cubicBezTo>
                <a:cubicBezTo>
                  <a:pt x="2646" y="14384"/>
                  <a:pt x="2622" y="14578"/>
                  <a:pt x="2555" y="14660"/>
                </a:cubicBezTo>
                <a:cubicBezTo>
                  <a:pt x="2482" y="14750"/>
                  <a:pt x="2374" y="14774"/>
                  <a:pt x="2282" y="14734"/>
                </a:cubicBezTo>
              </a:path>
              <a:path w="4019" h="2060">
                <a:moveTo>
                  <a:pt x="794" y="14238"/>
                </a:moveTo>
                <a:cubicBezTo>
                  <a:pt x="737" y="14224"/>
                  <a:pt x="727" y="14181"/>
                  <a:pt x="744" y="14114"/>
                </a:cubicBezTo>
                <a:cubicBezTo>
                  <a:pt x="760" y="14049"/>
                  <a:pt x="891" y="14018"/>
                  <a:pt x="943" y="14064"/>
                </a:cubicBezTo>
                <a:cubicBezTo>
                  <a:pt x="1014" y="14126"/>
                  <a:pt x="992" y="14280"/>
                  <a:pt x="992" y="14362"/>
                </a:cubicBezTo>
                <a:cubicBezTo>
                  <a:pt x="992" y="14354"/>
                  <a:pt x="992" y="14345"/>
                  <a:pt x="992" y="14337"/>
                </a:cubicBezTo>
                <a:cubicBezTo>
                  <a:pt x="969" y="14291"/>
                  <a:pt x="1019" y="14234"/>
                  <a:pt x="1067" y="14288"/>
                </a:cubicBezTo>
                <a:cubicBezTo>
                  <a:pt x="1179" y="14415"/>
                  <a:pt x="1104" y="14571"/>
                  <a:pt x="1017" y="14684"/>
                </a:cubicBezTo>
                <a:cubicBezTo>
                  <a:pt x="970" y="14745"/>
                  <a:pt x="915" y="14759"/>
                  <a:pt x="843" y="14759"/>
                </a:cubicBezTo>
              </a:path>
              <a:path w="4019" h="2060">
                <a:moveTo>
                  <a:pt x="819" y="14883"/>
                </a:moveTo>
                <a:cubicBezTo>
                  <a:pt x="994" y="14944"/>
                  <a:pt x="1171" y="15007"/>
                  <a:pt x="1315" y="14833"/>
                </a:cubicBezTo>
                <a:cubicBezTo>
                  <a:pt x="1505" y="14604"/>
                  <a:pt x="1505" y="14274"/>
                  <a:pt x="1389" y="14015"/>
                </a:cubicBezTo>
                <a:cubicBezTo>
                  <a:pt x="1292" y="13797"/>
                  <a:pt x="1067" y="13521"/>
                  <a:pt x="794" y="13593"/>
                </a:cubicBezTo>
                <a:cubicBezTo>
                  <a:pt x="521" y="13665"/>
                  <a:pt x="237" y="14024"/>
                  <a:pt x="174" y="14288"/>
                </a:cubicBezTo>
                <a:cubicBezTo>
                  <a:pt x="79" y="14685"/>
                  <a:pt x="520" y="14951"/>
                  <a:pt x="819" y="15081"/>
                </a:cubicBezTo>
                <a:cubicBezTo>
                  <a:pt x="1007" y="15129"/>
                  <a:pt x="1063" y="15145"/>
                  <a:pt x="1191" y="15131"/>
                </a:cubicBezTo>
              </a:path>
              <a:path w="4019" h="2060">
                <a:moveTo>
                  <a:pt x="2208" y="13915"/>
                </a:moveTo>
                <a:cubicBezTo>
                  <a:pt x="2253" y="13942"/>
                  <a:pt x="2303" y="13951"/>
                  <a:pt x="2356" y="13990"/>
                </a:cubicBezTo>
                <a:cubicBezTo>
                  <a:pt x="2448" y="14058"/>
                  <a:pt x="2544" y="14137"/>
                  <a:pt x="2629" y="14213"/>
                </a:cubicBezTo>
                <a:cubicBezTo>
                  <a:pt x="2721" y="14295"/>
                  <a:pt x="2803" y="14387"/>
                  <a:pt x="2902" y="14461"/>
                </a:cubicBezTo>
                <a:cubicBezTo>
                  <a:pt x="2983" y="14522"/>
                  <a:pt x="3068" y="14578"/>
                  <a:pt x="3150" y="14635"/>
                </a:cubicBezTo>
                <a:cubicBezTo>
                  <a:pt x="3246" y="14702"/>
                  <a:pt x="3359" y="14762"/>
                  <a:pt x="3448" y="14833"/>
                </a:cubicBezTo>
                <a:cubicBezTo>
                  <a:pt x="3526" y="14896"/>
                  <a:pt x="3577" y="14992"/>
                  <a:pt x="3646" y="15056"/>
                </a:cubicBezTo>
                <a:cubicBezTo>
                  <a:pt x="3723" y="15127"/>
                  <a:pt x="3771" y="15202"/>
                  <a:pt x="3845" y="15280"/>
                </a:cubicBezTo>
                <a:cubicBezTo>
                  <a:pt x="3939" y="15379"/>
                  <a:pt x="4050" y="15519"/>
                  <a:pt x="4142" y="15602"/>
                </a:cubicBezTo>
                <a:cubicBezTo>
                  <a:pt x="4168" y="15625"/>
                  <a:pt x="4172" y="15621"/>
                  <a:pt x="4192" y="156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62080" y="5045040"/>
            <a:ext cx="366840" cy="285840"/>
          </a:xfrm>
          <a:custGeom>
            <a:avLst/>
            <a:gdLst/>
            <a:ahLst/>
            <a:rect l="l" t="t" r="r" b="b"/>
            <a:pathLst>
              <a:path w="1018" h="794">
                <a:moveTo>
                  <a:pt x="5730" y="14412"/>
                </a:moveTo>
                <a:cubicBezTo>
                  <a:pt x="5797" y="14412"/>
                  <a:pt x="5819" y="14445"/>
                  <a:pt x="5879" y="14486"/>
                </a:cubicBezTo>
                <a:cubicBezTo>
                  <a:pt x="5934" y="14524"/>
                  <a:pt x="6070" y="14589"/>
                  <a:pt x="6102" y="14635"/>
                </a:cubicBezTo>
                <a:cubicBezTo>
                  <a:pt x="6102" y="14643"/>
                  <a:pt x="6102" y="14652"/>
                  <a:pt x="6102" y="14660"/>
                </a:cubicBezTo>
              </a:path>
              <a:path w="1018" h="794">
                <a:moveTo>
                  <a:pt x="6052" y="14238"/>
                </a:moveTo>
                <a:cubicBezTo>
                  <a:pt x="5989" y="14303"/>
                  <a:pt x="5938" y="14347"/>
                  <a:pt x="5904" y="14436"/>
                </a:cubicBezTo>
                <a:cubicBezTo>
                  <a:pt x="5867" y="14534"/>
                  <a:pt x="5813" y="14640"/>
                  <a:pt x="5779" y="14734"/>
                </a:cubicBezTo>
                <a:cubicBezTo>
                  <a:pt x="5761" y="14784"/>
                  <a:pt x="5794" y="14786"/>
                  <a:pt x="5829" y="14808"/>
                </a:cubicBezTo>
              </a:path>
              <a:path w="1018" h="794">
                <a:moveTo>
                  <a:pt x="6400" y="14163"/>
                </a:moveTo>
                <a:cubicBezTo>
                  <a:pt x="6400" y="14086"/>
                  <a:pt x="6455" y="14049"/>
                  <a:pt x="6524" y="14015"/>
                </a:cubicBezTo>
                <a:cubicBezTo>
                  <a:pt x="6532" y="14015"/>
                  <a:pt x="6540" y="14015"/>
                  <a:pt x="6548" y="14015"/>
                </a:cubicBezTo>
                <a:cubicBezTo>
                  <a:pt x="6632" y="14170"/>
                  <a:pt x="6627" y="14229"/>
                  <a:pt x="6548" y="14387"/>
                </a:cubicBezTo>
                <a:cubicBezTo>
                  <a:pt x="6564" y="14324"/>
                  <a:pt x="6630" y="14283"/>
                  <a:pt x="6697" y="14337"/>
                </a:cubicBezTo>
                <a:cubicBezTo>
                  <a:pt x="6813" y="14432"/>
                  <a:pt x="6730" y="14603"/>
                  <a:pt x="6648" y="14684"/>
                </a:cubicBezTo>
                <a:cubicBezTo>
                  <a:pt x="6575" y="14756"/>
                  <a:pt x="6486" y="14718"/>
                  <a:pt x="6424" y="14759"/>
                </a:cubicBezTo>
                <a:cubicBezTo>
                  <a:pt x="6408" y="14775"/>
                  <a:pt x="6391" y="14792"/>
                  <a:pt x="6375" y="148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24160" y="4938840"/>
            <a:ext cx="982800" cy="741240"/>
          </a:xfrm>
          <a:custGeom>
            <a:avLst/>
            <a:gdLst/>
            <a:ahLst/>
            <a:rect l="l" t="t" r="r" b="b"/>
            <a:pathLst>
              <a:path w="2730" h="2060">
                <a:moveTo>
                  <a:pt x="9277" y="13891"/>
                </a:moveTo>
                <a:cubicBezTo>
                  <a:pt x="9241" y="13917"/>
                  <a:pt x="9241" y="13931"/>
                  <a:pt x="9227" y="13891"/>
                </a:cubicBezTo>
                <a:cubicBezTo>
                  <a:pt x="9254" y="13783"/>
                  <a:pt x="9387" y="13747"/>
                  <a:pt x="9451" y="13891"/>
                </a:cubicBezTo>
                <a:cubicBezTo>
                  <a:pt x="9523" y="14053"/>
                  <a:pt x="9491" y="14423"/>
                  <a:pt x="9302" y="14511"/>
                </a:cubicBezTo>
                <a:cubicBezTo>
                  <a:pt x="9177" y="14511"/>
                  <a:pt x="9149" y="14519"/>
                  <a:pt x="9079" y="14486"/>
                </a:cubicBezTo>
                <a:cubicBezTo>
                  <a:pt x="9059" y="14336"/>
                  <a:pt x="9100" y="14215"/>
                  <a:pt x="9302" y="14238"/>
                </a:cubicBezTo>
                <a:cubicBezTo>
                  <a:pt x="9452" y="14255"/>
                  <a:pt x="9556" y="14345"/>
                  <a:pt x="9575" y="14486"/>
                </a:cubicBezTo>
                <a:cubicBezTo>
                  <a:pt x="9575" y="14494"/>
                  <a:pt x="9575" y="14503"/>
                  <a:pt x="9575" y="14511"/>
                </a:cubicBezTo>
              </a:path>
              <a:path w="2730" h="2060">
                <a:moveTo>
                  <a:pt x="9699" y="13717"/>
                </a:moveTo>
                <a:cubicBezTo>
                  <a:pt x="9831" y="13717"/>
                  <a:pt x="9964" y="13717"/>
                  <a:pt x="10096" y="13717"/>
                </a:cubicBezTo>
                <a:cubicBezTo>
                  <a:pt x="10096" y="13830"/>
                  <a:pt x="10089" y="13883"/>
                  <a:pt x="10046" y="13990"/>
                </a:cubicBezTo>
                <a:cubicBezTo>
                  <a:pt x="10007" y="14086"/>
                  <a:pt x="9969" y="14195"/>
                  <a:pt x="9947" y="14288"/>
                </a:cubicBezTo>
              </a:path>
              <a:path w="2730" h="2060">
                <a:moveTo>
                  <a:pt x="8954" y="14982"/>
                </a:moveTo>
                <a:cubicBezTo>
                  <a:pt x="9200" y="14879"/>
                  <a:pt x="9460" y="14788"/>
                  <a:pt x="9723" y="14734"/>
                </a:cubicBezTo>
                <a:cubicBezTo>
                  <a:pt x="9822" y="14713"/>
                  <a:pt x="10070" y="14640"/>
                  <a:pt x="9996" y="14709"/>
                </a:cubicBezTo>
                <a:cubicBezTo>
                  <a:pt x="9971" y="14726"/>
                  <a:pt x="9947" y="14742"/>
                  <a:pt x="9922" y="14759"/>
                </a:cubicBezTo>
              </a:path>
              <a:path w="2730" h="2060">
                <a:moveTo>
                  <a:pt x="9351" y="15205"/>
                </a:moveTo>
                <a:cubicBezTo>
                  <a:pt x="9499" y="15111"/>
                  <a:pt x="9573" y="15081"/>
                  <a:pt x="9748" y="15081"/>
                </a:cubicBezTo>
                <a:cubicBezTo>
                  <a:pt x="9803" y="15222"/>
                  <a:pt x="9770" y="15297"/>
                  <a:pt x="9674" y="15429"/>
                </a:cubicBezTo>
                <a:cubicBezTo>
                  <a:pt x="9649" y="15453"/>
                  <a:pt x="9641" y="15461"/>
                  <a:pt x="9624" y="15429"/>
                </a:cubicBezTo>
                <a:cubicBezTo>
                  <a:pt x="9709" y="15382"/>
                  <a:pt x="9841" y="15303"/>
                  <a:pt x="9847" y="15478"/>
                </a:cubicBezTo>
                <a:cubicBezTo>
                  <a:pt x="9852" y="15633"/>
                  <a:pt x="9686" y="15756"/>
                  <a:pt x="9550" y="15776"/>
                </a:cubicBezTo>
                <a:cubicBezTo>
                  <a:pt x="9548" y="15776"/>
                  <a:pt x="9287" y="15811"/>
                  <a:pt x="9327" y="15726"/>
                </a:cubicBezTo>
                <a:cubicBezTo>
                  <a:pt x="9343" y="15701"/>
                  <a:pt x="9360" y="15677"/>
                  <a:pt x="9376" y="15652"/>
                </a:cubicBezTo>
              </a:path>
              <a:path w="2730" h="2060">
                <a:moveTo>
                  <a:pt x="10492" y="14759"/>
                </a:moveTo>
                <a:cubicBezTo>
                  <a:pt x="10566" y="14741"/>
                  <a:pt x="10661" y="14711"/>
                  <a:pt x="10740" y="14684"/>
                </a:cubicBezTo>
                <a:cubicBezTo>
                  <a:pt x="10819" y="14657"/>
                  <a:pt x="10841" y="14643"/>
                  <a:pt x="10815" y="14734"/>
                </a:cubicBezTo>
              </a:path>
              <a:path w="2730" h="2060">
                <a:moveTo>
                  <a:pt x="10368" y="15205"/>
                </a:moveTo>
                <a:cubicBezTo>
                  <a:pt x="10490" y="15128"/>
                  <a:pt x="10606" y="15059"/>
                  <a:pt x="10740" y="15007"/>
                </a:cubicBezTo>
              </a:path>
              <a:path w="2730" h="2060">
                <a:moveTo>
                  <a:pt x="11633" y="14536"/>
                </a:moveTo>
                <a:cubicBezTo>
                  <a:pt x="11712" y="14496"/>
                  <a:pt x="11688" y="14393"/>
                  <a:pt x="11658" y="14312"/>
                </a:cubicBezTo>
                <a:cubicBezTo>
                  <a:pt x="11607" y="14173"/>
                  <a:pt x="11445" y="14054"/>
                  <a:pt x="11311" y="14188"/>
                </a:cubicBezTo>
                <a:cubicBezTo>
                  <a:pt x="11172" y="14327"/>
                  <a:pt x="11138" y="14567"/>
                  <a:pt x="11286" y="14709"/>
                </a:cubicBezTo>
                <a:cubicBezTo>
                  <a:pt x="11411" y="14829"/>
                  <a:pt x="11562" y="14619"/>
                  <a:pt x="11609" y="14536"/>
                </a:cubicBezTo>
                <a:cubicBezTo>
                  <a:pt x="11674" y="14421"/>
                  <a:pt x="11658" y="14315"/>
                  <a:pt x="11658" y="14188"/>
                </a:cubicBezTo>
                <a:cubicBezTo>
                  <a:pt x="11658" y="14180"/>
                  <a:pt x="11658" y="14171"/>
                  <a:pt x="11658" y="14163"/>
                </a:cubicBezTo>
                <a:cubicBezTo>
                  <a:pt x="11658" y="14064"/>
                  <a:pt x="11658" y="14313"/>
                  <a:pt x="11658" y="14412"/>
                </a:cubicBezTo>
                <a:cubicBezTo>
                  <a:pt x="11658" y="14643"/>
                  <a:pt x="11658" y="14875"/>
                  <a:pt x="11658" y="15106"/>
                </a:cubicBezTo>
              </a:path>
            </a:pathLst>
          </a:custGeom>
          <a:noFill/>
          <a:ln cap="rnd" w="3492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03920" y="5126040"/>
            <a:ext cx="2724120" cy="1517760"/>
          </a:xfrm>
          <a:custGeom>
            <a:avLst/>
            <a:gdLst/>
            <a:ahLst/>
            <a:rect l="l" t="t" r="r" b="b"/>
            <a:pathLst>
              <a:path w="7566" h="4218">
                <a:moveTo>
                  <a:pt x="16123" y="16272"/>
                </a:moveTo>
                <a:cubicBezTo>
                  <a:pt x="16188" y="16223"/>
                  <a:pt x="16314" y="16205"/>
                  <a:pt x="16396" y="16197"/>
                </a:cubicBezTo>
                <a:cubicBezTo>
                  <a:pt x="16601" y="16178"/>
                  <a:pt x="16810" y="16152"/>
                  <a:pt x="17016" y="16148"/>
                </a:cubicBezTo>
                <a:cubicBezTo>
                  <a:pt x="17113" y="16146"/>
                  <a:pt x="17185" y="16141"/>
                  <a:pt x="17239" y="16148"/>
                </a:cubicBezTo>
                <a:cubicBezTo>
                  <a:pt x="17247" y="16148"/>
                  <a:pt x="17256" y="16148"/>
                  <a:pt x="17264" y="16148"/>
                </a:cubicBezTo>
              </a:path>
              <a:path w="7566" h="4218">
                <a:moveTo>
                  <a:pt x="18554" y="16049"/>
                </a:moveTo>
                <a:cubicBezTo>
                  <a:pt x="18699" y="16025"/>
                  <a:pt x="18853" y="15964"/>
                  <a:pt x="19000" y="15949"/>
                </a:cubicBezTo>
                <a:cubicBezTo>
                  <a:pt x="19186" y="15930"/>
                  <a:pt x="19384" y="15925"/>
                  <a:pt x="19571" y="15925"/>
                </a:cubicBezTo>
                <a:cubicBezTo>
                  <a:pt x="19520" y="15925"/>
                  <a:pt x="19487" y="15931"/>
                  <a:pt x="19447" y="15949"/>
                </a:cubicBezTo>
              </a:path>
              <a:path w="7566" h="4218">
                <a:moveTo>
                  <a:pt x="16966" y="16644"/>
                </a:moveTo>
                <a:cubicBezTo>
                  <a:pt x="17037" y="16644"/>
                  <a:pt x="16830" y="16714"/>
                  <a:pt x="16818" y="16718"/>
                </a:cubicBezTo>
                <a:cubicBezTo>
                  <a:pt x="16757" y="16739"/>
                  <a:pt x="16717" y="16739"/>
                  <a:pt x="16669" y="16768"/>
                </a:cubicBezTo>
                <a:cubicBezTo>
                  <a:pt x="16669" y="16845"/>
                  <a:pt x="16691" y="16912"/>
                  <a:pt x="16694" y="16991"/>
                </a:cubicBezTo>
                <a:cubicBezTo>
                  <a:pt x="16694" y="17041"/>
                  <a:pt x="16694" y="17057"/>
                  <a:pt x="16694" y="17090"/>
                </a:cubicBezTo>
                <a:cubicBezTo>
                  <a:pt x="16750" y="17045"/>
                  <a:pt x="16841" y="16966"/>
                  <a:pt x="16917" y="16966"/>
                </a:cubicBezTo>
                <a:cubicBezTo>
                  <a:pt x="17020" y="16966"/>
                  <a:pt x="17081" y="17045"/>
                  <a:pt x="17066" y="17140"/>
                </a:cubicBezTo>
                <a:cubicBezTo>
                  <a:pt x="17052" y="17229"/>
                  <a:pt x="16929" y="17364"/>
                  <a:pt x="16842" y="17388"/>
                </a:cubicBezTo>
                <a:cubicBezTo>
                  <a:pt x="16783" y="17405"/>
                  <a:pt x="16635" y="17408"/>
                  <a:pt x="16619" y="17338"/>
                </a:cubicBezTo>
                <a:cubicBezTo>
                  <a:pt x="16619" y="17330"/>
                  <a:pt x="16619" y="17322"/>
                  <a:pt x="16619" y="17314"/>
                </a:cubicBezTo>
              </a:path>
              <a:path w="7566" h="4218">
                <a:moveTo>
                  <a:pt x="19224" y="16321"/>
                </a:moveTo>
                <a:cubicBezTo>
                  <a:pt x="19265" y="16321"/>
                  <a:pt x="19273" y="16321"/>
                  <a:pt x="19298" y="16321"/>
                </a:cubicBezTo>
                <a:cubicBezTo>
                  <a:pt x="19208" y="16321"/>
                  <a:pt x="19136" y="16352"/>
                  <a:pt x="19050" y="16371"/>
                </a:cubicBezTo>
                <a:cubicBezTo>
                  <a:pt x="18996" y="16383"/>
                  <a:pt x="18982" y="16434"/>
                  <a:pt x="18976" y="16495"/>
                </a:cubicBezTo>
                <a:cubicBezTo>
                  <a:pt x="18969" y="16572"/>
                  <a:pt x="18962" y="16641"/>
                  <a:pt x="18951" y="16718"/>
                </a:cubicBezTo>
                <a:cubicBezTo>
                  <a:pt x="19007" y="16704"/>
                  <a:pt x="19065" y="16666"/>
                  <a:pt x="19124" y="16644"/>
                </a:cubicBezTo>
                <a:cubicBezTo>
                  <a:pt x="19212" y="16611"/>
                  <a:pt x="19311" y="16619"/>
                  <a:pt x="19323" y="16718"/>
                </a:cubicBezTo>
                <a:cubicBezTo>
                  <a:pt x="19335" y="16820"/>
                  <a:pt x="19180" y="16910"/>
                  <a:pt x="19100" y="16942"/>
                </a:cubicBezTo>
                <a:cubicBezTo>
                  <a:pt x="18995" y="16983"/>
                  <a:pt x="18892" y="17012"/>
                  <a:pt x="18802" y="16942"/>
                </a:cubicBezTo>
              </a:path>
              <a:path w="7566" h="4218">
                <a:moveTo>
                  <a:pt x="19199" y="18455"/>
                </a:moveTo>
                <a:cubicBezTo>
                  <a:pt x="19298" y="18455"/>
                  <a:pt x="19397" y="18455"/>
                  <a:pt x="19496" y="18455"/>
                </a:cubicBezTo>
                <a:cubicBezTo>
                  <a:pt x="19512" y="18389"/>
                  <a:pt x="19526" y="18323"/>
                  <a:pt x="19546" y="18256"/>
                </a:cubicBezTo>
                <a:cubicBezTo>
                  <a:pt x="19596" y="18085"/>
                  <a:pt x="19602" y="17903"/>
                  <a:pt x="19645" y="17735"/>
                </a:cubicBezTo>
                <a:cubicBezTo>
                  <a:pt x="19662" y="17669"/>
                  <a:pt x="19705" y="17603"/>
                  <a:pt x="19720" y="17537"/>
                </a:cubicBezTo>
                <a:cubicBezTo>
                  <a:pt x="19736" y="17463"/>
                  <a:pt x="19754" y="17390"/>
                  <a:pt x="19769" y="17314"/>
                </a:cubicBezTo>
                <a:cubicBezTo>
                  <a:pt x="19796" y="17178"/>
                  <a:pt x="19808" y="17054"/>
                  <a:pt x="19844" y="16917"/>
                </a:cubicBezTo>
                <a:cubicBezTo>
                  <a:pt x="19877" y="16790"/>
                  <a:pt x="19897" y="16670"/>
                  <a:pt x="19918" y="16545"/>
                </a:cubicBezTo>
                <a:cubicBezTo>
                  <a:pt x="19938" y="16425"/>
                  <a:pt x="19959" y="16295"/>
                  <a:pt x="19968" y="16173"/>
                </a:cubicBezTo>
                <a:cubicBezTo>
                  <a:pt x="19975" y="16084"/>
                  <a:pt x="19996" y="15958"/>
                  <a:pt x="19993" y="15875"/>
                </a:cubicBezTo>
                <a:cubicBezTo>
                  <a:pt x="19989" y="15748"/>
                  <a:pt x="19938" y="15628"/>
                  <a:pt x="19918" y="15503"/>
                </a:cubicBezTo>
                <a:cubicBezTo>
                  <a:pt x="19887" y="15313"/>
                  <a:pt x="19858" y="15123"/>
                  <a:pt x="19819" y="14932"/>
                </a:cubicBezTo>
                <a:cubicBezTo>
                  <a:pt x="19791" y="14794"/>
                  <a:pt x="19744" y="14686"/>
                  <a:pt x="19695" y="14560"/>
                </a:cubicBezTo>
                <a:cubicBezTo>
                  <a:pt x="19670" y="14496"/>
                  <a:pt x="19652" y="14409"/>
                  <a:pt x="19596" y="14362"/>
                </a:cubicBezTo>
                <a:cubicBezTo>
                  <a:pt x="19504" y="14285"/>
                  <a:pt x="19395" y="14312"/>
                  <a:pt x="19273" y="14312"/>
                </a:cubicBezTo>
                <a:cubicBezTo>
                  <a:pt x="19038" y="14312"/>
                  <a:pt x="18810" y="14294"/>
                  <a:pt x="18579" y="14263"/>
                </a:cubicBezTo>
                <a:cubicBezTo>
                  <a:pt x="18439" y="14244"/>
                  <a:pt x="18340" y="14258"/>
                  <a:pt x="18207" y="14263"/>
                </a:cubicBezTo>
                <a:cubicBezTo>
                  <a:pt x="18108" y="14267"/>
                  <a:pt x="18052" y="14289"/>
                  <a:pt x="17959" y="14312"/>
                </a:cubicBezTo>
                <a:cubicBezTo>
                  <a:pt x="17857" y="14337"/>
                  <a:pt x="17760" y="14382"/>
                  <a:pt x="17661" y="14412"/>
                </a:cubicBezTo>
                <a:cubicBezTo>
                  <a:pt x="17568" y="14440"/>
                  <a:pt x="17449" y="14431"/>
                  <a:pt x="17363" y="14461"/>
                </a:cubicBezTo>
                <a:cubicBezTo>
                  <a:pt x="17329" y="14473"/>
                  <a:pt x="17313" y="14483"/>
                  <a:pt x="17289" y="14511"/>
                </a:cubicBezTo>
                <a:cubicBezTo>
                  <a:pt x="17257" y="14549"/>
                  <a:pt x="17241" y="14632"/>
                  <a:pt x="17239" y="14709"/>
                </a:cubicBezTo>
                <a:cubicBezTo>
                  <a:pt x="17238" y="14762"/>
                  <a:pt x="17258" y="14755"/>
                  <a:pt x="17264" y="14808"/>
                </a:cubicBezTo>
                <a:cubicBezTo>
                  <a:pt x="17234" y="14772"/>
                  <a:pt x="17187" y="14731"/>
                  <a:pt x="17165" y="14709"/>
                </a:cubicBezTo>
                <a:cubicBezTo>
                  <a:pt x="17145" y="14689"/>
                  <a:pt x="17162" y="14701"/>
                  <a:pt x="17140" y="14684"/>
                </a:cubicBezTo>
                <a:cubicBezTo>
                  <a:pt x="17162" y="14723"/>
                  <a:pt x="17224" y="14872"/>
                  <a:pt x="17264" y="14883"/>
                </a:cubicBezTo>
                <a:cubicBezTo>
                  <a:pt x="17390" y="14917"/>
                  <a:pt x="17453" y="14801"/>
                  <a:pt x="17537" y="14734"/>
                </a:cubicBezTo>
              </a:path>
              <a:path w="7566" h="4218">
                <a:moveTo>
                  <a:pt x="20836" y="14908"/>
                </a:moveTo>
                <a:cubicBezTo>
                  <a:pt x="20894" y="14908"/>
                  <a:pt x="20769" y="14898"/>
                  <a:pt x="20712" y="14908"/>
                </a:cubicBezTo>
                <a:cubicBezTo>
                  <a:pt x="20632" y="14922"/>
                  <a:pt x="20618" y="14921"/>
                  <a:pt x="20538" y="14908"/>
                </a:cubicBezTo>
                <a:cubicBezTo>
                  <a:pt x="20529" y="15001"/>
                  <a:pt x="20502" y="15092"/>
                  <a:pt x="20489" y="15180"/>
                </a:cubicBezTo>
                <a:cubicBezTo>
                  <a:pt x="20489" y="15197"/>
                  <a:pt x="20489" y="15213"/>
                  <a:pt x="20489" y="15230"/>
                </a:cubicBezTo>
                <a:cubicBezTo>
                  <a:pt x="20589" y="15213"/>
                  <a:pt x="20613" y="15178"/>
                  <a:pt x="20712" y="15205"/>
                </a:cubicBezTo>
                <a:cubicBezTo>
                  <a:pt x="20807" y="15231"/>
                  <a:pt x="20897" y="15345"/>
                  <a:pt x="20861" y="15453"/>
                </a:cubicBezTo>
                <a:cubicBezTo>
                  <a:pt x="20815" y="15592"/>
                  <a:pt x="20702" y="15645"/>
                  <a:pt x="20563" y="15627"/>
                </a:cubicBezTo>
                <a:cubicBezTo>
                  <a:pt x="20502" y="15619"/>
                  <a:pt x="20438" y="15585"/>
                  <a:pt x="20389" y="15553"/>
                </a:cubicBezTo>
              </a:path>
              <a:path w="7566" h="4218">
                <a:moveTo>
                  <a:pt x="21233" y="14536"/>
                </a:moveTo>
                <a:cubicBezTo>
                  <a:pt x="21192" y="14657"/>
                  <a:pt x="21121" y="14778"/>
                  <a:pt x="21084" y="14908"/>
                </a:cubicBezTo>
                <a:cubicBezTo>
                  <a:pt x="21023" y="15119"/>
                  <a:pt x="20926" y="15342"/>
                  <a:pt x="21034" y="15553"/>
                </a:cubicBezTo>
                <a:cubicBezTo>
                  <a:pt x="21089" y="15659"/>
                  <a:pt x="21208" y="15726"/>
                  <a:pt x="21258" y="15825"/>
                </a:cubicBezTo>
              </a:path>
              <a:path w="7566" h="4218">
                <a:moveTo>
                  <a:pt x="21530" y="15032"/>
                </a:moveTo>
                <a:cubicBezTo>
                  <a:pt x="21486" y="14973"/>
                  <a:pt x="21404" y="14980"/>
                  <a:pt x="21332" y="15032"/>
                </a:cubicBezTo>
                <a:cubicBezTo>
                  <a:pt x="21266" y="15098"/>
                  <a:pt x="21249" y="15115"/>
                  <a:pt x="21208" y="15156"/>
                </a:cubicBezTo>
                <a:cubicBezTo>
                  <a:pt x="21304" y="15251"/>
                  <a:pt x="21445" y="15304"/>
                  <a:pt x="21530" y="15404"/>
                </a:cubicBezTo>
                <a:cubicBezTo>
                  <a:pt x="21626" y="15517"/>
                  <a:pt x="21487" y="15649"/>
                  <a:pt x="21357" y="15627"/>
                </a:cubicBezTo>
                <a:cubicBezTo>
                  <a:pt x="21332" y="15610"/>
                  <a:pt x="21307" y="15594"/>
                  <a:pt x="21282" y="15577"/>
                </a:cubicBezTo>
                <a:cubicBezTo>
                  <a:pt x="21295" y="15418"/>
                  <a:pt x="21376" y="15340"/>
                  <a:pt x="21456" y="15205"/>
                </a:cubicBezTo>
                <a:cubicBezTo>
                  <a:pt x="21488" y="15152"/>
                  <a:pt x="21536" y="15028"/>
                  <a:pt x="21481" y="15056"/>
                </a:cubicBezTo>
                <a:cubicBezTo>
                  <a:pt x="21473" y="15064"/>
                  <a:pt x="21464" y="15073"/>
                  <a:pt x="21456" y="15081"/>
                </a:cubicBezTo>
              </a:path>
              <a:path w="7566" h="4218">
                <a:moveTo>
                  <a:pt x="21456" y="14610"/>
                </a:moveTo>
                <a:cubicBezTo>
                  <a:pt x="21580" y="14631"/>
                  <a:pt x="21698" y="14743"/>
                  <a:pt x="21754" y="14858"/>
                </a:cubicBezTo>
                <a:cubicBezTo>
                  <a:pt x="21853" y="15063"/>
                  <a:pt x="21896" y="15355"/>
                  <a:pt x="21828" y="15577"/>
                </a:cubicBezTo>
                <a:cubicBezTo>
                  <a:pt x="21796" y="15681"/>
                  <a:pt x="21770" y="15714"/>
                  <a:pt x="21704" y="15751"/>
                </a:cubicBezTo>
                <a:cubicBezTo>
                  <a:pt x="21696" y="15759"/>
                  <a:pt x="21687" y="15768"/>
                  <a:pt x="21679" y="15776"/>
                </a:cubicBezTo>
              </a:path>
              <a:path w="7566" h="4218">
                <a:moveTo>
                  <a:pt x="22126" y="15106"/>
                </a:moveTo>
                <a:cubicBezTo>
                  <a:pt x="22195" y="15089"/>
                  <a:pt x="22272" y="15052"/>
                  <a:pt x="22349" y="15032"/>
                </a:cubicBezTo>
                <a:cubicBezTo>
                  <a:pt x="22423" y="15013"/>
                  <a:pt x="22456" y="14979"/>
                  <a:pt x="22448" y="15032"/>
                </a:cubicBezTo>
              </a:path>
              <a:path w="7566" h="4218">
                <a:moveTo>
                  <a:pt x="22151" y="15354"/>
                </a:moveTo>
                <a:cubicBezTo>
                  <a:pt x="22222" y="15354"/>
                  <a:pt x="22307" y="15306"/>
                  <a:pt x="22374" y="15329"/>
                </a:cubicBezTo>
                <a:cubicBezTo>
                  <a:pt x="22374" y="15357"/>
                  <a:pt x="22376" y="15363"/>
                  <a:pt x="22399" y="15329"/>
                </a:cubicBezTo>
              </a:path>
              <a:path w="7566" h="4218">
                <a:moveTo>
                  <a:pt x="22721" y="14883"/>
                </a:moveTo>
                <a:cubicBezTo>
                  <a:pt x="22740" y="15006"/>
                  <a:pt x="22709" y="15067"/>
                  <a:pt x="22671" y="15180"/>
                </a:cubicBezTo>
                <a:cubicBezTo>
                  <a:pt x="22671" y="15188"/>
                  <a:pt x="22671" y="15197"/>
                  <a:pt x="22671" y="15205"/>
                </a:cubicBezTo>
                <a:cubicBezTo>
                  <a:pt x="22758" y="15227"/>
                  <a:pt x="22842" y="15230"/>
                  <a:pt x="22944" y="15230"/>
                </a:cubicBezTo>
                <a:cubicBezTo>
                  <a:pt x="23020" y="15230"/>
                  <a:pt x="23020" y="15242"/>
                  <a:pt x="23068" y="15205"/>
                </a:cubicBezTo>
              </a:path>
              <a:path w="7566" h="4218">
                <a:moveTo>
                  <a:pt x="23068" y="14833"/>
                </a:moveTo>
                <a:cubicBezTo>
                  <a:pt x="23028" y="15017"/>
                  <a:pt x="23019" y="15196"/>
                  <a:pt x="22994" y="15379"/>
                </a:cubicBezTo>
                <a:cubicBezTo>
                  <a:pt x="22983" y="15459"/>
                  <a:pt x="22942" y="15493"/>
                  <a:pt x="22994" y="15528"/>
                </a:cubicBezTo>
              </a:path>
              <a:path w="7566" h="4218">
                <a:moveTo>
                  <a:pt x="23490" y="14709"/>
                </a:moveTo>
                <a:cubicBezTo>
                  <a:pt x="23376" y="14709"/>
                  <a:pt x="23343" y="14806"/>
                  <a:pt x="23292" y="14908"/>
                </a:cubicBezTo>
                <a:cubicBezTo>
                  <a:pt x="23238" y="15018"/>
                  <a:pt x="23089" y="15282"/>
                  <a:pt x="23217" y="15404"/>
                </a:cubicBezTo>
                <a:cubicBezTo>
                  <a:pt x="23328" y="15509"/>
                  <a:pt x="23554" y="15340"/>
                  <a:pt x="23614" y="15255"/>
                </a:cubicBezTo>
                <a:cubicBezTo>
                  <a:pt x="23721" y="15103"/>
                  <a:pt x="23722" y="14960"/>
                  <a:pt x="23564" y="14858"/>
                </a:cubicBezTo>
                <a:cubicBezTo>
                  <a:pt x="23495" y="14813"/>
                  <a:pt x="23415" y="14792"/>
                  <a:pt x="23341" y="14759"/>
                </a:cubicBezTo>
              </a:path>
              <a:path w="7566" h="4218">
                <a:moveTo>
                  <a:pt x="20191" y="17959"/>
                </a:moveTo>
                <a:cubicBezTo>
                  <a:pt x="20191" y="18038"/>
                  <a:pt x="20191" y="18104"/>
                  <a:pt x="20216" y="18182"/>
                </a:cubicBezTo>
                <a:cubicBezTo>
                  <a:pt x="20224" y="18198"/>
                  <a:pt x="20233" y="18215"/>
                  <a:pt x="20241" y="18231"/>
                </a:cubicBezTo>
                <a:cubicBezTo>
                  <a:pt x="20292" y="18028"/>
                  <a:pt x="20425" y="17823"/>
                  <a:pt x="20563" y="17661"/>
                </a:cubicBezTo>
                <a:cubicBezTo>
                  <a:pt x="20656" y="17551"/>
                  <a:pt x="20925" y="17234"/>
                  <a:pt x="20861" y="17363"/>
                </a:cubicBezTo>
                <a:cubicBezTo>
                  <a:pt x="20853" y="17380"/>
                  <a:pt x="20844" y="17396"/>
                  <a:pt x="20836" y="1741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6120" y="4929120"/>
            <a:ext cx="1955880" cy="1428840"/>
          </a:xfrm>
          <a:custGeom>
            <a:avLst/>
            <a:gdLst/>
            <a:ahLst/>
            <a:rect l="l" t="t" r="r" b="b"/>
            <a:pathLst>
              <a:path w="5434" h="3970">
                <a:moveTo>
                  <a:pt x="9227" y="17636"/>
                </a:moveTo>
                <a:cubicBezTo>
                  <a:pt x="9219" y="17636"/>
                  <a:pt x="9211" y="17636"/>
                  <a:pt x="9203" y="17636"/>
                </a:cubicBezTo>
                <a:cubicBezTo>
                  <a:pt x="9212" y="17637"/>
                  <a:pt x="9276" y="17664"/>
                  <a:pt x="9327" y="17661"/>
                </a:cubicBezTo>
                <a:cubicBezTo>
                  <a:pt x="9392" y="17639"/>
                  <a:pt x="9407" y="17631"/>
                  <a:pt x="9451" y="17636"/>
                </a:cubicBezTo>
                <a:cubicBezTo>
                  <a:pt x="9438" y="17555"/>
                  <a:pt x="9442" y="17468"/>
                  <a:pt x="9426" y="17388"/>
                </a:cubicBezTo>
                <a:cubicBezTo>
                  <a:pt x="9375" y="17140"/>
                  <a:pt x="9265" y="16912"/>
                  <a:pt x="9203" y="16669"/>
                </a:cubicBezTo>
                <a:cubicBezTo>
                  <a:pt x="9160" y="16498"/>
                  <a:pt x="9136" y="16332"/>
                  <a:pt x="9054" y="16173"/>
                </a:cubicBezTo>
                <a:cubicBezTo>
                  <a:pt x="8959" y="15990"/>
                  <a:pt x="8821" y="15841"/>
                  <a:pt x="8731" y="15652"/>
                </a:cubicBezTo>
                <a:cubicBezTo>
                  <a:pt x="8616" y="15410"/>
                  <a:pt x="8484" y="15171"/>
                  <a:pt x="8334" y="14957"/>
                </a:cubicBezTo>
                <a:cubicBezTo>
                  <a:pt x="8276" y="14874"/>
                  <a:pt x="8214" y="14797"/>
                  <a:pt x="8161" y="14709"/>
                </a:cubicBezTo>
                <a:cubicBezTo>
                  <a:pt x="8095" y="14599"/>
                  <a:pt x="8059" y="14466"/>
                  <a:pt x="7987" y="14362"/>
                </a:cubicBezTo>
                <a:cubicBezTo>
                  <a:pt x="7921" y="14267"/>
                  <a:pt x="7818" y="14219"/>
                  <a:pt x="7714" y="14163"/>
                </a:cubicBezTo>
                <a:cubicBezTo>
                  <a:pt x="7614" y="14109"/>
                  <a:pt x="7530" y="14060"/>
                  <a:pt x="7441" y="13990"/>
                </a:cubicBezTo>
                <a:cubicBezTo>
                  <a:pt x="7356" y="13923"/>
                  <a:pt x="7264" y="13817"/>
                  <a:pt x="7169" y="13767"/>
                </a:cubicBezTo>
                <a:cubicBezTo>
                  <a:pt x="7071" y="13715"/>
                  <a:pt x="6977" y="13704"/>
                  <a:pt x="6871" y="13692"/>
                </a:cubicBezTo>
                <a:cubicBezTo>
                  <a:pt x="6584" y="13660"/>
                  <a:pt x="6289" y="13712"/>
                  <a:pt x="6003" y="13717"/>
                </a:cubicBezTo>
                <a:cubicBezTo>
                  <a:pt x="5857" y="13719"/>
                  <a:pt x="5723" y="13699"/>
                  <a:pt x="5581" y="13692"/>
                </a:cubicBezTo>
                <a:cubicBezTo>
                  <a:pt x="5474" y="13687"/>
                  <a:pt x="5361" y="13695"/>
                  <a:pt x="5259" y="13717"/>
                </a:cubicBezTo>
                <a:cubicBezTo>
                  <a:pt x="5142" y="13743"/>
                  <a:pt x="5025" y="13780"/>
                  <a:pt x="4911" y="13816"/>
                </a:cubicBezTo>
                <a:cubicBezTo>
                  <a:pt x="4746" y="13868"/>
                  <a:pt x="4607" y="13891"/>
                  <a:pt x="4440" y="13915"/>
                </a:cubicBezTo>
                <a:cubicBezTo>
                  <a:pt x="4399" y="13921"/>
                  <a:pt x="4171" y="14001"/>
                  <a:pt x="4142" y="13965"/>
                </a:cubicBezTo>
                <a:cubicBezTo>
                  <a:pt x="4122" y="13940"/>
                  <a:pt x="4115" y="14028"/>
                  <a:pt x="4167" y="13940"/>
                </a:cubicBezTo>
                <a:cubicBezTo>
                  <a:pt x="4193" y="13896"/>
                  <a:pt x="4266" y="13866"/>
                  <a:pt x="4291" y="13841"/>
                </a:cubicBezTo>
                <a:cubicBezTo>
                  <a:pt x="4226" y="13906"/>
                  <a:pt x="4145" y="14021"/>
                  <a:pt x="4068" y="14089"/>
                </a:cubicBezTo>
                <a:cubicBezTo>
                  <a:pt x="4051" y="14097"/>
                  <a:pt x="4035" y="14106"/>
                  <a:pt x="4018" y="14114"/>
                </a:cubicBezTo>
                <a:cubicBezTo>
                  <a:pt x="4103" y="14158"/>
                  <a:pt x="4202" y="14197"/>
                  <a:pt x="4291" y="14238"/>
                </a:cubicBezTo>
                <a:cubicBezTo>
                  <a:pt x="4314" y="14261"/>
                  <a:pt x="4318" y="14269"/>
                  <a:pt x="4341" y="14263"/>
                </a:cubicBezTo>
              </a:path>
            </a:pathLst>
          </a:custGeom>
          <a:noFill/>
          <a:ln cap="rnd" w="3492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80040" y="4956120"/>
            <a:ext cx="1650960" cy="1785960"/>
          </a:xfrm>
          <a:custGeom>
            <a:avLst/>
            <a:gdLst/>
            <a:ahLst/>
            <a:rect l="l" t="t" r="r" b="b"/>
            <a:pathLst>
              <a:path w="4590" h="4962">
                <a:moveTo>
                  <a:pt x="14883" y="14163"/>
                </a:moveTo>
                <a:cubicBezTo>
                  <a:pt x="14862" y="14268"/>
                  <a:pt x="14857" y="14377"/>
                  <a:pt x="14833" y="14486"/>
                </a:cubicBezTo>
                <a:cubicBezTo>
                  <a:pt x="14814" y="14543"/>
                  <a:pt x="14805" y="14550"/>
                  <a:pt x="14808" y="14585"/>
                </a:cubicBezTo>
                <a:cubicBezTo>
                  <a:pt x="14887" y="14491"/>
                  <a:pt x="14905" y="14466"/>
                  <a:pt x="15032" y="14461"/>
                </a:cubicBezTo>
                <a:cubicBezTo>
                  <a:pt x="15090" y="14461"/>
                  <a:pt x="15114" y="14477"/>
                  <a:pt x="15106" y="14436"/>
                </a:cubicBezTo>
              </a:path>
              <a:path w="4590" h="4962">
                <a:moveTo>
                  <a:pt x="15032" y="13990"/>
                </a:moveTo>
                <a:cubicBezTo>
                  <a:pt x="15032" y="14157"/>
                  <a:pt x="15053" y="14321"/>
                  <a:pt x="15081" y="14486"/>
                </a:cubicBezTo>
                <a:cubicBezTo>
                  <a:pt x="15103" y="14593"/>
                  <a:pt x="15111" y="14617"/>
                  <a:pt x="15106" y="14684"/>
                </a:cubicBezTo>
              </a:path>
              <a:path w="4590" h="4962">
                <a:moveTo>
                  <a:pt x="14486" y="14883"/>
                </a:moveTo>
                <a:cubicBezTo>
                  <a:pt x="14667" y="15038"/>
                  <a:pt x="14811" y="15074"/>
                  <a:pt x="15056" y="15007"/>
                </a:cubicBezTo>
                <a:cubicBezTo>
                  <a:pt x="15301" y="14940"/>
                  <a:pt x="15507" y="14758"/>
                  <a:pt x="15577" y="14511"/>
                </a:cubicBezTo>
                <a:cubicBezTo>
                  <a:pt x="15665" y="14202"/>
                  <a:pt x="15462" y="13926"/>
                  <a:pt x="15180" y="13816"/>
                </a:cubicBezTo>
                <a:cubicBezTo>
                  <a:pt x="14804" y="13670"/>
                  <a:pt x="14441" y="13814"/>
                  <a:pt x="14387" y="14238"/>
                </a:cubicBezTo>
                <a:cubicBezTo>
                  <a:pt x="14335" y="14644"/>
                  <a:pt x="14465" y="14753"/>
                  <a:pt x="14734" y="14957"/>
                </a:cubicBezTo>
              </a:path>
              <a:path w="4590" h="4962">
                <a:moveTo>
                  <a:pt x="16545" y="14883"/>
                </a:moveTo>
                <a:cubicBezTo>
                  <a:pt x="16539" y="14934"/>
                  <a:pt x="16522" y="14954"/>
                  <a:pt x="16520" y="15007"/>
                </a:cubicBezTo>
                <a:cubicBezTo>
                  <a:pt x="16515" y="15137"/>
                  <a:pt x="16534" y="15253"/>
                  <a:pt x="16545" y="15379"/>
                </a:cubicBezTo>
                <a:cubicBezTo>
                  <a:pt x="16553" y="15474"/>
                  <a:pt x="16548" y="15560"/>
                  <a:pt x="16570" y="15652"/>
                </a:cubicBezTo>
                <a:cubicBezTo>
                  <a:pt x="16586" y="15716"/>
                  <a:pt x="16609" y="15786"/>
                  <a:pt x="16619" y="15850"/>
                </a:cubicBezTo>
                <a:cubicBezTo>
                  <a:pt x="16634" y="15946"/>
                  <a:pt x="16684" y="16009"/>
                  <a:pt x="16718" y="16098"/>
                </a:cubicBezTo>
                <a:cubicBezTo>
                  <a:pt x="16745" y="16169"/>
                  <a:pt x="16769" y="16251"/>
                  <a:pt x="16793" y="16321"/>
                </a:cubicBezTo>
                <a:cubicBezTo>
                  <a:pt x="16809" y="16367"/>
                  <a:pt x="16834" y="16415"/>
                  <a:pt x="16842" y="16470"/>
                </a:cubicBezTo>
                <a:cubicBezTo>
                  <a:pt x="16850" y="16529"/>
                  <a:pt x="16848" y="16588"/>
                  <a:pt x="16867" y="16644"/>
                </a:cubicBezTo>
                <a:cubicBezTo>
                  <a:pt x="16884" y="16694"/>
                  <a:pt x="16901" y="16746"/>
                  <a:pt x="16917" y="16793"/>
                </a:cubicBezTo>
                <a:cubicBezTo>
                  <a:pt x="16939" y="16857"/>
                  <a:pt x="16942" y="16897"/>
                  <a:pt x="16942" y="16966"/>
                </a:cubicBezTo>
                <a:cubicBezTo>
                  <a:pt x="16942" y="17035"/>
                  <a:pt x="16949" y="17100"/>
                  <a:pt x="16966" y="17165"/>
                </a:cubicBezTo>
                <a:cubicBezTo>
                  <a:pt x="16994" y="17193"/>
                  <a:pt x="17003" y="17206"/>
                  <a:pt x="16991" y="17239"/>
                </a:cubicBezTo>
              </a:path>
              <a:path w="4590" h="4962">
                <a:moveTo>
                  <a:pt x="17338" y="17735"/>
                </a:moveTo>
                <a:cubicBezTo>
                  <a:pt x="17370" y="17746"/>
                  <a:pt x="17372" y="17790"/>
                  <a:pt x="17388" y="17835"/>
                </a:cubicBezTo>
                <a:cubicBezTo>
                  <a:pt x="17431" y="17953"/>
                  <a:pt x="17448" y="18071"/>
                  <a:pt x="17512" y="18182"/>
                </a:cubicBezTo>
                <a:cubicBezTo>
                  <a:pt x="17541" y="18233"/>
                  <a:pt x="17575" y="18285"/>
                  <a:pt x="17611" y="18331"/>
                </a:cubicBezTo>
              </a:path>
              <a:path w="4590" h="4962">
                <a:moveTo>
                  <a:pt x="17735" y="17760"/>
                </a:moveTo>
                <a:cubicBezTo>
                  <a:pt x="17718" y="17850"/>
                  <a:pt x="17681" y="17940"/>
                  <a:pt x="17661" y="18033"/>
                </a:cubicBezTo>
                <a:cubicBezTo>
                  <a:pt x="17628" y="18190"/>
                  <a:pt x="17600" y="18348"/>
                  <a:pt x="17562" y="18504"/>
                </a:cubicBezTo>
                <a:cubicBezTo>
                  <a:pt x="17543" y="18582"/>
                  <a:pt x="17521" y="18650"/>
                  <a:pt x="17512" y="18728"/>
                </a:cubicBezTo>
              </a:path>
              <a:path w="4590" h="4962">
                <a:moveTo>
                  <a:pt x="18107" y="17909"/>
                </a:moveTo>
                <a:cubicBezTo>
                  <a:pt x="18146" y="17986"/>
                  <a:pt x="18185" y="17951"/>
                  <a:pt x="18256" y="17934"/>
                </a:cubicBezTo>
                <a:cubicBezTo>
                  <a:pt x="18308" y="17922"/>
                  <a:pt x="18306" y="17940"/>
                  <a:pt x="18306" y="17983"/>
                </a:cubicBezTo>
              </a:path>
              <a:path w="4590" h="4962">
                <a:moveTo>
                  <a:pt x="18157" y="18231"/>
                </a:moveTo>
                <a:cubicBezTo>
                  <a:pt x="18221" y="18231"/>
                  <a:pt x="18247" y="18221"/>
                  <a:pt x="18306" y="18207"/>
                </a:cubicBezTo>
                <a:cubicBezTo>
                  <a:pt x="18314" y="18207"/>
                  <a:pt x="18323" y="18207"/>
                  <a:pt x="18331" y="18207"/>
                </a:cubicBezTo>
              </a:path>
              <a:path w="4590" h="4962">
                <a:moveTo>
                  <a:pt x="18976" y="17711"/>
                </a:moveTo>
                <a:cubicBezTo>
                  <a:pt x="18964" y="17674"/>
                  <a:pt x="18903" y="17676"/>
                  <a:pt x="18852" y="17686"/>
                </a:cubicBezTo>
                <a:cubicBezTo>
                  <a:pt x="18735" y="17710"/>
                  <a:pt x="18623" y="17795"/>
                  <a:pt x="18554" y="17884"/>
                </a:cubicBezTo>
                <a:cubicBezTo>
                  <a:pt x="18454" y="18014"/>
                  <a:pt x="18526" y="18082"/>
                  <a:pt x="18653" y="18157"/>
                </a:cubicBezTo>
                <a:cubicBezTo>
                  <a:pt x="18721" y="18197"/>
                  <a:pt x="18992" y="18334"/>
                  <a:pt x="18901" y="18479"/>
                </a:cubicBezTo>
                <a:cubicBezTo>
                  <a:pt x="18863" y="18539"/>
                  <a:pt x="18739" y="18558"/>
                  <a:pt x="18678" y="18579"/>
                </a:cubicBezTo>
                <a:cubicBezTo>
                  <a:pt x="18638" y="18459"/>
                  <a:pt x="18644" y="18372"/>
                  <a:pt x="18703" y="18256"/>
                </a:cubicBezTo>
                <a:cubicBezTo>
                  <a:pt x="18774" y="18117"/>
                  <a:pt x="18883" y="18013"/>
                  <a:pt x="18926" y="17859"/>
                </a:cubicBezTo>
                <a:cubicBezTo>
                  <a:pt x="18926" y="17835"/>
                  <a:pt x="18926" y="17826"/>
                  <a:pt x="18926" y="1781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6160" y="5375160"/>
            <a:ext cx="169920" cy="206640"/>
          </a:xfrm>
          <a:custGeom>
            <a:avLst/>
            <a:gdLst/>
            <a:ahLst/>
            <a:rect l="l" t="t" r="r" b="b"/>
            <a:pathLst>
              <a:path w="472" h="572">
                <a:moveTo>
                  <a:pt x="2183" y="14982"/>
                </a:moveTo>
                <a:cubicBezTo>
                  <a:pt x="2175" y="14974"/>
                  <a:pt x="2166" y="14965"/>
                  <a:pt x="2158" y="14957"/>
                </a:cubicBezTo>
                <a:cubicBezTo>
                  <a:pt x="2261" y="14957"/>
                  <a:pt x="2385" y="14926"/>
                  <a:pt x="2480" y="14932"/>
                </a:cubicBezTo>
                <a:cubicBezTo>
                  <a:pt x="2540" y="14936"/>
                  <a:pt x="2574" y="14957"/>
                  <a:pt x="2629" y="14957"/>
                </a:cubicBezTo>
              </a:path>
              <a:path w="472" h="572">
                <a:moveTo>
                  <a:pt x="2406" y="15205"/>
                </a:moveTo>
                <a:cubicBezTo>
                  <a:pt x="2406" y="15172"/>
                  <a:pt x="2406" y="15139"/>
                  <a:pt x="2406" y="15106"/>
                </a:cubicBezTo>
                <a:cubicBezTo>
                  <a:pt x="2430" y="15223"/>
                  <a:pt x="2389" y="15395"/>
                  <a:pt x="2431" y="15503"/>
                </a:cubicBezTo>
                <a:cubicBezTo>
                  <a:pt x="2439" y="15503"/>
                  <a:pt x="2448" y="15503"/>
                  <a:pt x="2456" y="155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33680" y="5902200"/>
            <a:ext cx="1519200" cy="733680"/>
          </a:xfrm>
          <a:custGeom>
            <a:avLst/>
            <a:gdLst/>
            <a:ahLst/>
            <a:rect l="l" t="t" r="r" b="b"/>
            <a:pathLst>
              <a:path w="4218" h="2035">
                <a:moveTo>
                  <a:pt x="4787" y="16619"/>
                </a:moveTo>
                <a:cubicBezTo>
                  <a:pt x="4772" y="16609"/>
                  <a:pt x="4730" y="16538"/>
                  <a:pt x="4787" y="16520"/>
                </a:cubicBezTo>
                <a:cubicBezTo>
                  <a:pt x="4839" y="16520"/>
                  <a:pt x="4857" y="16519"/>
                  <a:pt x="4887" y="16495"/>
                </a:cubicBezTo>
                <a:cubicBezTo>
                  <a:pt x="4950" y="16577"/>
                  <a:pt x="4967" y="16642"/>
                  <a:pt x="4936" y="16743"/>
                </a:cubicBezTo>
                <a:cubicBezTo>
                  <a:pt x="4928" y="16760"/>
                  <a:pt x="4919" y="16776"/>
                  <a:pt x="4911" y="16793"/>
                </a:cubicBezTo>
                <a:cubicBezTo>
                  <a:pt x="4864" y="16793"/>
                  <a:pt x="4943" y="16759"/>
                  <a:pt x="4961" y="16793"/>
                </a:cubicBezTo>
                <a:cubicBezTo>
                  <a:pt x="5022" y="16908"/>
                  <a:pt x="4973" y="17029"/>
                  <a:pt x="4887" y="17115"/>
                </a:cubicBezTo>
                <a:cubicBezTo>
                  <a:pt x="4844" y="17158"/>
                  <a:pt x="4768" y="17159"/>
                  <a:pt x="4713" y="17165"/>
                </a:cubicBezTo>
              </a:path>
              <a:path w="4218" h="2035">
                <a:moveTo>
                  <a:pt x="5135" y="16669"/>
                </a:moveTo>
                <a:cubicBezTo>
                  <a:pt x="5259" y="16690"/>
                  <a:pt x="5273" y="16743"/>
                  <a:pt x="5358" y="16818"/>
                </a:cubicBezTo>
                <a:cubicBezTo>
                  <a:pt x="5438" y="16888"/>
                  <a:pt x="5449" y="16905"/>
                  <a:pt x="5507" y="16991"/>
                </a:cubicBezTo>
              </a:path>
              <a:path w="4218" h="2035">
                <a:moveTo>
                  <a:pt x="5432" y="16396"/>
                </a:moveTo>
                <a:cubicBezTo>
                  <a:pt x="5379" y="16570"/>
                  <a:pt x="5357" y="16751"/>
                  <a:pt x="5283" y="16917"/>
                </a:cubicBezTo>
              </a:path>
              <a:path w="4218" h="2035">
                <a:moveTo>
                  <a:pt x="4539" y="17338"/>
                </a:moveTo>
                <a:cubicBezTo>
                  <a:pt x="4678" y="17316"/>
                  <a:pt x="4789" y="17250"/>
                  <a:pt x="4936" y="17239"/>
                </a:cubicBezTo>
                <a:cubicBezTo>
                  <a:pt x="5156" y="17222"/>
                  <a:pt x="5385" y="17219"/>
                  <a:pt x="5606" y="17214"/>
                </a:cubicBezTo>
                <a:cubicBezTo>
                  <a:pt x="5694" y="17212"/>
                  <a:pt x="5728" y="17210"/>
                  <a:pt x="5804" y="17239"/>
                </a:cubicBezTo>
              </a:path>
              <a:path w="4218" h="2035">
                <a:moveTo>
                  <a:pt x="4961" y="17587"/>
                </a:moveTo>
                <a:cubicBezTo>
                  <a:pt x="4998" y="17575"/>
                  <a:pt x="4997" y="17542"/>
                  <a:pt x="5060" y="17512"/>
                </a:cubicBezTo>
                <a:cubicBezTo>
                  <a:pt x="5114" y="17486"/>
                  <a:pt x="5173" y="17496"/>
                  <a:pt x="5184" y="17562"/>
                </a:cubicBezTo>
                <a:cubicBezTo>
                  <a:pt x="5197" y="17642"/>
                  <a:pt x="5174" y="17667"/>
                  <a:pt x="5159" y="17711"/>
                </a:cubicBezTo>
                <a:cubicBezTo>
                  <a:pt x="5224" y="17687"/>
                  <a:pt x="5310" y="17660"/>
                  <a:pt x="5333" y="17760"/>
                </a:cubicBezTo>
                <a:cubicBezTo>
                  <a:pt x="5357" y="17867"/>
                  <a:pt x="5323" y="17993"/>
                  <a:pt x="5209" y="18033"/>
                </a:cubicBezTo>
                <a:cubicBezTo>
                  <a:pt x="5162" y="18049"/>
                  <a:pt x="5023" y="18046"/>
                  <a:pt x="5011" y="18008"/>
                </a:cubicBezTo>
              </a:path>
              <a:path w="4218" h="2035">
                <a:moveTo>
                  <a:pt x="4887" y="16545"/>
                </a:moveTo>
                <a:cubicBezTo>
                  <a:pt x="4882" y="16506"/>
                  <a:pt x="4868" y="16476"/>
                  <a:pt x="4862" y="16446"/>
                </a:cubicBezTo>
                <a:cubicBezTo>
                  <a:pt x="4839" y="16334"/>
                  <a:pt x="4902" y="16490"/>
                  <a:pt x="4911" y="16520"/>
                </a:cubicBezTo>
                <a:cubicBezTo>
                  <a:pt x="4968" y="16712"/>
                  <a:pt x="5018" y="16920"/>
                  <a:pt x="5060" y="17115"/>
                </a:cubicBezTo>
                <a:cubicBezTo>
                  <a:pt x="5093" y="17269"/>
                  <a:pt x="5134" y="17413"/>
                  <a:pt x="5184" y="17562"/>
                </a:cubicBezTo>
                <a:cubicBezTo>
                  <a:pt x="5210" y="17640"/>
                  <a:pt x="5209" y="17704"/>
                  <a:pt x="5209" y="17785"/>
                </a:cubicBezTo>
                <a:cubicBezTo>
                  <a:pt x="5209" y="17841"/>
                  <a:pt x="5228" y="17819"/>
                  <a:pt x="5234" y="17859"/>
                </a:cubicBezTo>
                <a:cubicBezTo>
                  <a:pt x="5243" y="17916"/>
                  <a:pt x="5229" y="17968"/>
                  <a:pt x="5234" y="18008"/>
                </a:cubicBezTo>
                <a:cubicBezTo>
                  <a:pt x="5234" y="18033"/>
                  <a:pt x="5234" y="18041"/>
                  <a:pt x="5234" y="18058"/>
                </a:cubicBezTo>
              </a:path>
              <a:path w="4218" h="2035">
                <a:moveTo>
                  <a:pt x="6127" y="17686"/>
                </a:moveTo>
                <a:cubicBezTo>
                  <a:pt x="6231" y="17738"/>
                  <a:pt x="6283" y="17860"/>
                  <a:pt x="6350" y="17959"/>
                </a:cubicBezTo>
                <a:cubicBezTo>
                  <a:pt x="6404" y="18039"/>
                  <a:pt x="6435" y="18137"/>
                  <a:pt x="6499" y="18207"/>
                </a:cubicBezTo>
                <a:cubicBezTo>
                  <a:pt x="6533" y="18244"/>
                  <a:pt x="6510" y="18268"/>
                  <a:pt x="6548" y="18281"/>
                </a:cubicBezTo>
              </a:path>
              <a:path w="4218" h="2035">
                <a:moveTo>
                  <a:pt x="6573" y="17587"/>
                </a:moveTo>
                <a:cubicBezTo>
                  <a:pt x="6508" y="17651"/>
                  <a:pt x="6452" y="17710"/>
                  <a:pt x="6400" y="17785"/>
                </a:cubicBezTo>
                <a:cubicBezTo>
                  <a:pt x="6306" y="17920"/>
                  <a:pt x="6232" y="18085"/>
                  <a:pt x="6152" y="18231"/>
                </a:cubicBezTo>
                <a:cubicBezTo>
                  <a:pt x="6118" y="18292"/>
                  <a:pt x="6073" y="18367"/>
                  <a:pt x="6052" y="18430"/>
                </a:cubicBezTo>
              </a:path>
              <a:path w="4218" h="2035">
                <a:moveTo>
                  <a:pt x="6921" y="17686"/>
                </a:moveTo>
                <a:cubicBezTo>
                  <a:pt x="6981" y="17686"/>
                  <a:pt x="7013" y="17726"/>
                  <a:pt x="7069" y="17735"/>
                </a:cubicBezTo>
                <a:cubicBezTo>
                  <a:pt x="7119" y="17744"/>
                  <a:pt x="7257" y="17742"/>
                  <a:pt x="7293" y="17785"/>
                </a:cubicBezTo>
                <a:cubicBezTo>
                  <a:pt x="7293" y="17810"/>
                  <a:pt x="7293" y="17818"/>
                  <a:pt x="7293" y="17835"/>
                </a:cubicBezTo>
              </a:path>
              <a:path w="4218" h="2035">
                <a:moveTo>
                  <a:pt x="6921" y="18083"/>
                </a:moveTo>
                <a:cubicBezTo>
                  <a:pt x="7006" y="18045"/>
                  <a:pt x="7097" y="18011"/>
                  <a:pt x="7193" y="18033"/>
                </a:cubicBezTo>
                <a:cubicBezTo>
                  <a:pt x="7252" y="18046"/>
                  <a:pt x="7278" y="18080"/>
                  <a:pt x="7268" y="18058"/>
                </a:cubicBezTo>
                <a:cubicBezTo>
                  <a:pt x="7260" y="18033"/>
                  <a:pt x="7251" y="18008"/>
                  <a:pt x="7243" y="17983"/>
                </a:cubicBezTo>
              </a:path>
              <a:path w="4218" h="2035">
                <a:moveTo>
                  <a:pt x="7764" y="17388"/>
                </a:moveTo>
                <a:cubicBezTo>
                  <a:pt x="7764" y="17421"/>
                  <a:pt x="7764" y="17437"/>
                  <a:pt x="7764" y="17462"/>
                </a:cubicBezTo>
                <a:cubicBezTo>
                  <a:pt x="7764" y="17513"/>
                  <a:pt x="7770" y="17413"/>
                  <a:pt x="7789" y="17388"/>
                </a:cubicBezTo>
                <a:cubicBezTo>
                  <a:pt x="7901" y="17240"/>
                  <a:pt x="8025" y="17555"/>
                  <a:pt x="8037" y="17636"/>
                </a:cubicBezTo>
                <a:cubicBezTo>
                  <a:pt x="8068" y="17851"/>
                  <a:pt x="8013" y="18145"/>
                  <a:pt x="7789" y="18231"/>
                </a:cubicBezTo>
                <a:cubicBezTo>
                  <a:pt x="7730" y="18254"/>
                  <a:pt x="7608" y="18179"/>
                  <a:pt x="7640" y="18107"/>
                </a:cubicBezTo>
                <a:cubicBezTo>
                  <a:pt x="7717" y="17934"/>
                  <a:pt x="7950" y="17911"/>
                  <a:pt x="8062" y="18058"/>
                </a:cubicBezTo>
                <a:cubicBezTo>
                  <a:pt x="8102" y="18111"/>
                  <a:pt x="8111" y="18337"/>
                  <a:pt x="8111" y="18231"/>
                </a:cubicBezTo>
              </a:path>
              <a:path w="4218" h="2035">
                <a:moveTo>
                  <a:pt x="8285" y="17512"/>
                </a:moveTo>
                <a:cubicBezTo>
                  <a:pt x="8324" y="17435"/>
                  <a:pt x="8316" y="17386"/>
                  <a:pt x="8384" y="17314"/>
                </a:cubicBezTo>
                <a:cubicBezTo>
                  <a:pt x="8425" y="17271"/>
                  <a:pt x="8525" y="17229"/>
                  <a:pt x="8582" y="17214"/>
                </a:cubicBezTo>
                <a:cubicBezTo>
                  <a:pt x="8621" y="17204"/>
                  <a:pt x="8646" y="17199"/>
                  <a:pt x="8682" y="17190"/>
                </a:cubicBezTo>
                <a:cubicBezTo>
                  <a:pt x="8718" y="17370"/>
                  <a:pt x="8751" y="17491"/>
                  <a:pt x="8731" y="17686"/>
                </a:cubicBezTo>
                <a:cubicBezTo>
                  <a:pt x="8729" y="17709"/>
                  <a:pt x="8692" y="18175"/>
                  <a:pt x="8657" y="1803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67320" y="2160720"/>
            <a:ext cx="2187720" cy="71280"/>
          </a:xfrm>
          <a:custGeom>
            <a:avLst/>
            <a:gdLst/>
            <a:ahLst/>
            <a:rect l="l" t="t" r="r" b="b"/>
            <a:pathLst>
              <a:path w="6078" h="199">
                <a:moveTo>
                  <a:pt x="17686" y="6127"/>
                </a:moveTo>
                <a:cubicBezTo>
                  <a:pt x="17877" y="6127"/>
                  <a:pt x="18068" y="6128"/>
                  <a:pt x="18256" y="6152"/>
                </a:cubicBezTo>
                <a:cubicBezTo>
                  <a:pt x="18402" y="6171"/>
                  <a:pt x="18559" y="6192"/>
                  <a:pt x="18703" y="6201"/>
                </a:cubicBezTo>
                <a:cubicBezTo>
                  <a:pt x="18802" y="6207"/>
                  <a:pt x="18925" y="6189"/>
                  <a:pt x="19025" y="6176"/>
                </a:cubicBezTo>
                <a:cubicBezTo>
                  <a:pt x="19100" y="6166"/>
                  <a:pt x="19171" y="6161"/>
                  <a:pt x="19248" y="6152"/>
                </a:cubicBezTo>
                <a:cubicBezTo>
                  <a:pt x="19349" y="6140"/>
                  <a:pt x="19441" y="6127"/>
                  <a:pt x="19546" y="6127"/>
                </a:cubicBezTo>
                <a:cubicBezTo>
                  <a:pt x="19618" y="6127"/>
                  <a:pt x="19677" y="6115"/>
                  <a:pt x="19745" y="6102"/>
                </a:cubicBezTo>
                <a:cubicBezTo>
                  <a:pt x="19831" y="6085"/>
                  <a:pt x="19931" y="6059"/>
                  <a:pt x="20017" y="6052"/>
                </a:cubicBezTo>
                <a:cubicBezTo>
                  <a:pt x="20115" y="6044"/>
                  <a:pt x="20223" y="6035"/>
                  <a:pt x="20315" y="6028"/>
                </a:cubicBezTo>
                <a:cubicBezTo>
                  <a:pt x="20366" y="6024"/>
                  <a:pt x="20484" y="6021"/>
                  <a:pt x="20538" y="6028"/>
                </a:cubicBezTo>
                <a:cubicBezTo>
                  <a:pt x="20657" y="6043"/>
                  <a:pt x="20761" y="6031"/>
                  <a:pt x="20886" y="6028"/>
                </a:cubicBezTo>
                <a:cubicBezTo>
                  <a:pt x="20987" y="6026"/>
                  <a:pt x="21087" y="6008"/>
                  <a:pt x="21183" y="6003"/>
                </a:cubicBezTo>
                <a:cubicBezTo>
                  <a:pt x="21473" y="5988"/>
                  <a:pt x="21765" y="6012"/>
                  <a:pt x="22051" y="6028"/>
                </a:cubicBezTo>
                <a:cubicBezTo>
                  <a:pt x="22164" y="6034"/>
                  <a:pt x="22264" y="6011"/>
                  <a:pt x="22374" y="6003"/>
                </a:cubicBezTo>
                <a:cubicBezTo>
                  <a:pt x="22671" y="5982"/>
                  <a:pt x="22974" y="6011"/>
                  <a:pt x="23267" y="6028"/>
                </a:cubicBezTo>
                <a:cubicBezTo>
                  <a:pt x="23425" y="6037"/>
                  <a:pt x="23643" y="6033"/>
                  <a:pt x="23763" y="60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9" name="suct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jective:  Students will review how to solve equa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f the variable is negati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.   -x + 9 = 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…get the variable alone and then divide by -1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2259000"/>
            <a:ext cx="4714920" cy="3098880"/>
          </a:xfrm>
          <a:custGeom>
            <a:avLst/>
            <a:gdLst/>
            <a:ahLst/>
            <a:rect l="l" t="t" r="r" b="b"/>
            <a:pathLst>
              <a:path w="13098" h="8608">
                <a:moveTo>
                  <a:pt x="5507" y="12923"/>
                </a:moveTo>
                <a:cubicBezTo>
                  <a:pt x="5510" y="12922"/>
                  <a:pt x="5538" y="12875"/>
                  <a:pt x="5606" y="12874"/>
                </a:cubicBezTo>
                <a:cubicBezTo>
                  <a:pt x="5707" y="12872"/>
                  <a:pt x="5824" y="12890"/>
                  <a:pt x="5928" y="12898"/>
                </a:cubicBezTo>
                <a:cubicBezTo>
                  <a:pt x="6225" y="12920"/>
                  <a:pt x="6520" y="12902"/>
                  <a:pt x="6821" y="12923"/>
                </a:cubicBezTo>
                <a:cubicBezTo>
                  <a:pt x="6994" y="12935"/>
                  <a:pt x="7170" y="12956"/>
                  <a:pt x="7342" y="12973"/>
                </a:cubicBezTo>
                <a:cubicBezTo>
                  <a:pt x="7488" y="12988"/>
                  <a:pt x="7625" y="12967"/>
                  <a:pt x="7764" y="12973"/>
                </a:cubicBezTo>
                <a:cubicBezTo>
                  <a:pt x="7916" y="12980"/>
                  <a:pt x="8081" y="12987"/>
                  <a:pt x="8235" y="12998"/>
                </a:cubicBezTo>
                <a:cubicBezTo>
                  <a:pt x="8361" y="13007"/>
                  <a:pt x="8478" y="13020"/>
                  <a:pt x="8607" y="13022"/>
                </a:cubicBezTo>
                <a:cubicBezTo>
                  <a:pt x="8816" y="13025"/>
                  <a:pt x="9024" y="13007"/>
                  <a:pt x="9227" y="12998"/>
                </a:cubicBezTo>
                <a:cubicBezTo>
                  <a:pt x="9386" y="12991"/>
                  <a:pt x="9542" y="12979"/>
                  <a:pt x="9699" y="12973"/>
                </a:cubicBezTo>
                <a:cubicBezTo>
                  <a:pt x="9850" y="12967"/>
                  <a:pt x="9996" y="12954"/>
                  <a:pt x="10145" y="12948"/>
                </a:cubicBezTo>
                <a:cubicBezTo>
                  <a:pt x="10345" y="12940"/>
                  <a:pt x="10543" y="12931"/>
                  <a:pt x="10740" y="12923"/>
                </a:cubicBezTo>
                <a:cubicBezTo>
                  <a:pt x="11643" y="12888"/>
                  <a:pt x="12545" y="12948"/>
                  <a:pt x="13444" y="12874"/>
                </a:cubicBezTo>
                <a:cubicBezTo>
                  <a:pt x="13634" y="12858"/>
                  <a:pt x="13823" y="12851"/>
                  <a:pt x="14015" y="12849"/>
                </a:cubicBezTo>
                <a:cubicBezTo>
                  <a:pt x="14414" y="12845"/>
                  <a:pt x="14809" y="12870"/>
                  <a:pt x="15205" y="12874"/>
                </a:cubicBezTo>
                <a:cubicBezTo>
                  <a:pt x="15547" y="12878"/>
                  <a:pt x="15972" y="12876"/>
                  <a:pt x="16272" y="12898"/>
                </a:cubicBezTo>
              </a:path>
              <a:path w="13098" h="8608">
                <a:moveTo>
                  <a:pt x="3175" y="14238"/>
                </a:moveTo>
                <a:cubicBezTo>
                  <a:pt x="3239" y="14226"/>
                  <a:pt x="3299" y="14220"/>
                  <a:pt x="3373" y="14213"/>
                </a:cubicBezTo>
                <a:cubicBezTo>
                  <a:pt x="3543" y="14196"/>
                  <a:pt x="3721" y="14204"/>
                  <a:pt x="3894" y="14188"/>
                </a:cubicBezTo>
                <a:cubicBezTo>
                  <a:pt x="4075" y="14171"/>
                  <a:pt x="4260" y="14182"/>
                  <a:pt x="4440" y="14163"/>
                </a:cubicBezTo>
                <a:cubicBezTo>
                  <a:pt x="4607" y="14145"/>
                  <a:pt x="4766" y="14139"/>
                  <a:pt x="4936" y="14139"/>
                </a:cubicBezTo>
                <a:cubicBezTo>
                  <a:pt x="5234" y="14139"/>
                  <a:pt x="5537" y="14122"/>
                  <a:pt x="5829" y="14163"/>
                </a:cubicBezTo>
                <a:cubicBezTo>
                  <a:pt x="5943" y="14179"/>
                  <a:pt x="6063" y="14171"/>
                  <a:pt x="6176" y="14188"/>
                </a:cubicBezTo>
                <a:cubicBezTo>
                  <a:pt x="6379" y="14219"/>
                  <a:pt x="6568" y="14242"/>
                  <a:pt x="6772" y="14263"/>
                </a:cubicBezTo>
                <a:cubicBezTo>
                  <a:pt x="6879" y="14274"/>
                  <a:pt x="6982" y="14286"/>
                  <a:pt x="7094" y="14288"/>
                </a:cubicBezTo>
                <a:cubicBezTo>
                  <a:pt x="7649" y="14300"/>
                  <a:pt x="8238" y="14233"/>
                  <a:pt x="8781" y="14263"/>
                </a:cubicBezTo>
                <a:cubicBezTo>
                  <a:pt x="8821" y="14283"/>
                  <a:pt x="8827" y="14292"/>
                  <a:pt x="8855" y="14288"/>
                </a:cubicBezTo>
                <a:cubicBezTo>
                  <a:pt x="8802" y="14313"/>
                  <a:pt x="8744" y="14339"/>
                  <a:pt x="8682" y="14362"/>
                </a:cubicBezTo>
                <a:cubicBezTo>
                  <a:pt x="8647" y="14375"/>
                  <a:pt x="8589" y="14405"/>
                  <a:pt x="8558" y="14412"/>
                </a:cubicBezTo>
                <a:cubicBezTo>
                  <a:pt x="8459" y="14434"/>
                  <a:pt x="8307" y="14430"/>
                  <a:pt x="8210" y="14436"/>
                </a:cubicBezTo>
                <a:cubicBezTo>
                  <a:pt x="8151" y="14440"/>
                  <a:pt x="8083" y="14456"/>
                  <a:pt x="8037" y="14461"/>
                </a:cubicBezTo>
                <a:cubicBezTo>
                  <a:pt x="7966" y="14469"/>
                  <a:pt x="7898" y="14475"/>
                  <a:pt x="7838" y="14486"/>
                </a:cubicBezTo>
                <a:cubicBezTo>
                  <a:pt x="8069" y="14486"/>
                  <a:pt x="8308" y="14502"/>
                  <a:pt x="8533" y="14461"/>
                </a:cubicBezTo>
                <a:cubicBezTo>
                  <a:pt x="8593" y="14450"/>
                  <a:pt x="8639" y="14462"/>
                  <a:pt x="8682" y="14461"/>
                </a:cubicBezTo>
                <a:cubicBezTo>
                  <a:pt x="8715" y="14460"/>
                  <a:pt x="8748" y="14461"/>
                  <a:pt x="8781" y="14461"/>
                </a:cubicBezTo>
                <a:cubicBezTo>
                  <a:pt x="8683" y="14504"/>
                  <a:pt x="8567" y="14555"/>
                  <a:pt x="8458" y="14585"/>
                </a:cubicBezTo>
                <a:cubicBezTo>
                  <a:pt x="8342" y="14617"/>
                  <a:pt x="8204" y="14649"/>
                  <a:pt x="8086" y="14660"/>
                </a:cubicBezTo>
                <a:cubicBezTo>
                  <a:pt x="8037" y="14665"/>
                  <a:pt x="8036" y="14655"/>
                  <a:pt x="7987" y="14660"/>
                </a:cubicBezTo>
                <a:cubicBezTo>
                  <a:pt x="8129" y="14679"/>
                  <a:pt x="8267" y="14705"/>
                  <a:pt x="8409" y="14734"/>
                </a:cubicBezTo>
                <a:cubicBezTo>
                  <a:pt x="8480" y="14748"/>
                  <a:pt x="8545" y="14772"/>
                  <a:pt x="8607" y="14784"/>
                </a:cubicBezTo>
                <a:cubicBezTo>
                  <a:pt x="8615" y="14784"/>
                  <a:pt x="8624" y="14784"/>
                  <a:pt x="8632" y="14784"/>
                </a:cubicBezTo>
                <a:cubicBezTo>
                  <a:pt x="8498" y="14790"/>
                  <a:pt x="8367" y="14789"/>
                  <a:pt x="8235" y="14808"/>
                </a:cubicBezTo>
                <a:cubicBezTo>
                  <a:pt x="8137" y="14822"/>
                  <a:pt x="8054" y="14855"/>
                  <a:pt x="7962" y="14883"/>
                </a:cubicBezTo>
              </a:path>
              <a:path w="13098" h="8608">
                <a:moveTo>
                  <a:pt x="15528" y="10071"/>
                </a:moveTo>
                <a:cubicBezTo>
                  <a:pt x="15644" y="10071"/>
                  <a:pt x="15759" y="10071"/>
                  <a:pt x="15875" y="10071"/>
                </a:cubicBezTo>
                <a:cubicBezTo>
                  <a:pt x="15856" y="9988"/>
                  <a:pt x="15811" y="9908"/>
                  <a:pt x="15801" y="9823"/>
                </a:cubicBezTo>
                <a:cubicBezTo>
                  <a:pt x="15774" y="9584"/>
                  <a:pt x="15819" y="9340"/>
                  <a:pt x="15801" y="9103"/>
                </a:cubicBezTo>
                <a:cubicBezTo>
                  <a:pt x="15794" y="9006"/>
                  <a:pt x="15791" y="8902"/>
                  <a:pt x="15776" y="8806"/>
                </a:cubicBezTo>
                <a:cubicBezTo>
                  <a:pt x="15759" y="8695"/>
                  <a:pt x="15748" y="8570"/>
                  <a:pt x="15726" y="8458"/>
                </a:cubicBezTo>
                <a:cubicBezTo>
                  <a:pt x="15696" y="8306"/>
                  <a:pt x="15627" y="8180"/>
                  <a:pt x="15577" y="8037"/>
                </a:cubicBezTo>
                <a:cubicBezTo>
                  <a:pt x="15513" y="7854"/>
                  <a:pt x="15422" y="7694"/>
                  <a:pt x="15354" y="7516"/>
                </a:cubicBezTo>
                <a:cubicBezTo>
                  <a:pt x="15327" y="7444"/>
                  <a:pt x="15308" y="7362"/>
                  <a:pt x="15280" y="7293"/>
                </a:cubicBezTo>
                <a:cubicBezTo>
                  <a:pt x="15267" y="7260"/>
                  <a:pt x="15245" y="7225"/>
                  <a:pt x="15230" y="7193"/>
                </a:cubicBezTo>
                <a:cubicBezTo>
                  <a:pt x="15160" y="7041"/>
                  <a:pt x="15051" y="6750"/>
                  <a:pt x="14932" y="6672"/>
                </a:cubicBezTo>
                <a:cubicBezTo>
                  <a:pt x="14845" y="6615"/>
                  <a:pt x="14757" y="6627"/>
                  <a:pt x="14660" y="6598"/>
                </a:cubicBezTo>
                <a:cubicBezTo>
                  <a:pt x="14466" y="6540"/>
                  <a:pt x="14261" y="6520"/>
                  <a:pt x="14064" y="6474"/>
                </a:cubicBezTo>
                <a:cubicBezTo>
                  <a:pt x="13882" y="6432"/>
                  <a:pt x="13703" y="6387"/>
                  <a:pt x="13519" y="6350"/>
                </a:cubicBezTo>
                <a:cubicBezTo>
                  <a:pt x="13257" y="6297"/>
                  <a:pt x="13019" y="6266"/>
                  <a:pt x="12750" y="6276"/>
                </a:cubicBezTo>
                <a:cubicBezTo>
                  <a:pt x="12559" y="6283"/>
                  <a:pt x="12369" y="6318"/>
                  <a:pt x="12179" y="6325"/>
                </a:cubicBezTo>
                <a:cubicBezTo>
                  <a:pt x="11857" y="6336"/>
                  <a:pt x="11532" y="6319"/>
                  <a:pt x="11212" y="6350"/>
                </a:cubicBezTo>
                <a:cubicBezTo>
                  <a:pt x="10838" y="6386"/>
                  <a:pt x="10470" y="6481"/>
                  <a:pt x="10096" y="6499"/>
                </a:cubicBezTo>
                <a:cubicBezTo>
                  <a:pt x="9666" y="6520"/>
                  <a:pt x="9234" y="6518"/>
                  <a:pt x="8806" y="6573"/>
                </a:cubicBezTo>
                <a:cubicBezTo>
                  <a:pt x="8645" y="6594"/>
                  <a:pt x="8478" y="6651"/>
                  <a:pt x="8310" y="6672"/>
                </a:cubicBezTo>
                <a:cubicBezTo>
                  <a:pt x="8169" y="6689"/>
                  <a:pt x="8029" y="6702"/>
                  <a:pt x="7888" y="6722"/>
                </a:cubicBezTo>
                <a:cubicBezTo>
                  <a:pt x="7739" y="6743"/>
                  <a:pt x="7591" y="6765"/>
                  <a:pt x="7441" y="6796"/>
                </a:cubicBezTo>
                <a:cubicBezTo>
                  <a:pt x="7274" y="6831"/>
                  <a:pt x="7109" y="6877"/>
                  <a:pt x="6945" y="6921"/>
                </a:cubicBezTo>
                <a:cubicBezTo>
                  <a:pt x="6732" y="6978"/>
                  <a:pt x="6519" y="7028"/>
                  <a:pt x="6300" y="7069"/>
                </a:cubicBezTo>
                <a:cubicBezTo>
                  <a:pt x="6031" y="7120"/>
                  <a:pt x="5753" y="7195"/>
                  <a:pt x="5482" y="7218"/>
                </a:cubicBezTo>
                <a:cubicBezTo>
                  <a:pt x="5339" y="7230"/>
                  <a:pt x="5142" y="7172"/>
                  <a:pt x="5060" y="7293"/>
                </a:cubicBezTo>
                <a:cubicBezTo>
                  <a:pt x="5022" y="7349"/>
                  <a:pt x="5079" y="7498"/>
                  <a:pt x="5060" y="7565"/>
                </a:cubicBezTo>
                <a:cubicBezTo>
                  <a:pt x="5010" y="7499"/>
                  <a:pt x="4960" y="7432"/>
                  <a:pt x="4911" y="7367"/>
                </a:cubicBezTo>
                <a:cubicBezTo>
                  <a:pt x="4968" y="7421"/>
                  <a:pt x="5018" y="7612"/>
                  <a:pt x="5085" y="7615"/>
                </a:cubicBezTo>
                <a:cubicBezTo>
                  <a:pt x="5176" y="7619"/>
                  <a:pt x="5251" y="7480"/>
                  <a:pt x="5308" y="7466"/>
                </a:cubicBezTo>
                <a:cubicBezTo>
                  <a:pt x="5316" y="7466"/>
                  <a:pt x="5325" y="7466"/>
                  <a:pt x="5333" y="746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31920" y="2678040"/>
            <a:ext cx="2617920" cy="689040"/>
          </a:xfrm>
          <a:custGeom>
            <a:avLst/>
            <a:gdLst/>
            <a:ahLst/>
            <a:rect l="l" t="t" r="r" b="b"/>
            <a:pathLst>
              <a:path w="7269" h="1911">
                <a:moveTo>
                  <a:pt x="5829" y="8682"/>
                </a:moveTo>
                <a:cubicBezTo>
                  <a:pt x="5857" y="8640"/>
                  <a:pt x="5937" y="8657"/>
                  <a:pt x="6003" y="8657"/>
                </a:cubicBezTo>
                <a:cubicBezTo>
                  <a:pt x="6036" y="8657"/>
                  <a:pt x="6069" y="8657"/>
                  <a:pt x="6102" y="8657"/>
                </a:cubicBezTo>
              </a:path>
              <a:path w="7269" h="1911">
                <a:moveTo>
                  <a:pt x="7020" y="8483"/>
                </a:moveTo>
                <a:cubicBezTo>
                  <a:pt x="7020" y="8384"/>
                  <a:pt x="6973" y="8362"/>
                  <a:pt x="6921" y="8285"/>
                </a:cubicBezTo>
                <a:cubicBezTo>
                  <a:pt x="6875" y="8217"/>
                  <a:pt x="6837" y="8209"/>
                  <a:pt x="6772" y="8285"/>
                </a:cubicBezTo>
                <a:cubicBezTo>
                  <a:pt x="6700" y="8369"/>
                  <a:pt x="6667" y="8524"/>
                  <a:pt x="6697" y="8632"/>
                </a:cubicBezTo>
                <a:cubicBezTo>
                  <a:pt x="6713" y="8689"/>
                  <a:pt x="6871" y="8653"/>
                  <a:pt x="6896" y="8632"/>
                </a:cubicBezTo>
                <a:cubicBezTo>
                  <a:pt x="6927" y="8606"/>
                  <a:pt x="6960" y="8498"/>
                  <a:pt x="6970" y="8458"/>
                </a:cubicBezTo>
                <a:cubicBezTo>
                  <a:pt x="6970" y="8434"/>
                  <a:pt x="6970" y="8425"/>
                  <a:pt x="6970" y="8409"/>
                </a:cubicBezTo>
                <a:cubicBezTo>
                  <a:pt x="6997" y="8563"/>
                  <a:pt x="6989" y="8728"/>
                  <a:pt x="7020" y="8880"/>
                </a:cubicBezTo>
                <a:cubicBezTo>
                  <a:pt x="7040" y="8920"/>
                  <a:pt x="7049" y="8927"/>
                  <a:pt x="7045" y="8954"/>
                </a:cubicBezTo>
              </a:path>
              <a:path w="7269" h="1911">
                <a:moveTo>
                  <a:pt x="8384" y="8632"/>
                </a:moveTo>
                <a:cubicBezTo>
                  <a:pt x="8483" y="8632"/>
                  <a:pt x="8583" y="8632"/>
                  <a:pt x="8682" y="8632"/>
                </a:cubicBezTo>
              </a:path>
              <a:path w="7269" h="1911">
                <a:moveTo>
                  <a:pt x="9327" y="8508"/>
                </a:moveTo>
                <a:cubicBezTo>
                  <a:pt x="9327" y="8426"/>
                  <a:pt x="9324" y="8402"/>
                  <a:pt x="9252" y="8359"/>
                </a:cubicBezTo>
                <a:cubicBezTo>
                  <a:pt x="9152" y="8299"/>
                  <a:pt x="9093" y="8353"/>
                  <a:pt x="9029" y="8434"/>
                </a:cubicBezTo>
                <a:cubicBezTo>
                  <a:pt x="8974" y="8504"/>
                  <a:pt x="8938" y="8659"/>
                  <a:pt x="9054" y="8706"/>
                </a:cubicBezTo>
                <a:cubicBezTo>
                  <a:pt x="9136" y="8739"/>
                  <a:pt x="9297" y="8667"/>
                  <a:pt x="9327" y="8582"/>
                </a:cubicBezTo>
                <a:cubicBezTo>
                  <a:pt x="9327" y="8516"/>
                  <a:pt x="9327" y="8499"/>
                  <a:pt x="9327" y="8458"/>
                </a:cubicBezTo>
                <a:cubicBezTo>
                  <a:pt x="9327" y="8392"/>
                  <a:pt x="9327" y="8541"/>
                  <a:pt x="9327" y="8607"/>
                </a:cubicBezTo>
                <a:cubicBezTo>
                  <a:pt x="9327" y="8718"/>
                  <a:pt x="9302" y="8819"/>
                  <a:pt x="9302" y="8930"/>
                </a:cubicBezTo>
                <a:cubicBezTo>
                  <a:pt x="9302" y="8938"/>
                  <a:pt x="9302" y="8946"/>
                  <a:pt x="9302" y="8954"/>
                </a:cubicBezTo>
              </a:path>
              <a:path w="7269" h="1911">
                <a:moveTo>
                  <a:pt x="3423" y="9351"/>
                </a:moveTo>
                <a:cubicBezTo>
                  <a:pt x="3531" y="9326"/>
                  <a:pt x="3595" y="9305"/>
                  <a:pt x="3721" y="9302"/>
                </a:cubicBezTo>
                <a:cubicBezTo>
                  <a:pt x="4226" y="9291"/>
                  <a:pt x="4760" y="9361"/>
                  <a:pt x="5259" y="9277"/>
                </a:cubicBezTo>
                <a:cubicBezTo>
                  <a:pt x="5441" y="9246"/>
                  <a:pt x="5622" y="9247"/>
                  <a:pt x="5804" y="9227"/>
                </a:cubicBezTo>
                <a:cubicBezTo>
                  <a:pt x="6011" y="9204"/>
                  <a:pt x="6217" y="9196"/>
                  <a:pt x="6424" y="9178"/>
                </a:cubicBezTo>
                <a:cubicBezTo>
                  <a:pt x="6672" y="9157"/>
                  <a:pt x="6922" y="9152"/>
                  <a:pt x="7169" y="9128"/>
                </a:cubicBezTo>
                <a:cubicBezTo>
                  <a:pt x="7393" y="9107"/>
                  <a:pt x="7613" y="9082"/>
                  <a:pt x="7838" y="9079"/>
                </a:cubicBezTo>
                <a:cubicBezTo>
                  <a:pt x="8789" y="9065"/>
                  <a:pt x="9740" y="9079"/>
                  <a:pt x="10691" y="9079"/>
                </a:cubicBezTo>
              </a:path>
              <a:path w="7269" h="1911">
                <a:moveTo>
                  <a:pt x="5879" y="7565"/>
                </a:moveTo>
                <a:cubicBezTo>
                  <a:pt x="5856" y="7543"/>
                  <a:pt x="5848" y="7538"/>
                  <a:pt x="5854" y="7516"/>
                </a:cubicBezTo>
                <a:cubicBezTo>
                  <a:pt x="5968" y="7677"/>
                  <a:pt x="6109" y="7783"/>
                  <a:pt x="6276" y="7913"/>
                </a:cubicBezTo>
                <a:cubicBezTo>
                  <a:pt x="6549" y="8126"/>
                  <a:pt x="6807" y="8369"/>
                  <a:pt x="7020" y="8632"/>
                </a:cubicBezTo>
                <a:cubicBezTo>
                  <a:pt x="7068" y="8692"/>
                  <a:pt x="7072" y="8717"/>
                  <a:pt x="7119" y="8756"/>
                </a:cubicBezTo>
              </a:path>
              <a:path w="7269" h="1911">
                <a:moveTo>
                  <a:pt x="7218" y="7441"/>
                </a:moveTo>
                <a:cubicBezTo>
                  <a:pt x="7081" y="7542"/>
                  <a:pt x="7009" y="7669"/>
                  <a:pt x="6896" y="7813"/>
                </a:cubicBezTo>
                <a:cubicBezTo>
                  <a:pt x="6658" y="8117"/>
                  <a:pt x="6430" y="8441"/>
                  <a:pt x="6176" y="8731"/>
                </a:cubicBezTo>
                <a:cubicBezTo>
                  <a:pt x="6128" y="8786"/>
                  <a:pt x="6039" y="8891"/>
                  <a:pt x="6003" y="8930"/>
                </a:cubicBezTo>
                <a:cubicBezTo>
                  <a:pt x="5991" y="8944"/>
                  <a:pt x="5991" y="8966"/>
                  <a:pt x="5978" y="897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28880" y="3348000"/>
            <a:ext cx="446040" cy="223920"/>
          </a:xfrm>
          <a:custGeom>
            <a:avLst/>
            <a:gdLst/>
            <a:ahLst/>
            <a:rect l="l" t="t" r="r" b="b"/>
            <a:pathLst>
              <a:path w="1241" h="621">
                <a:moveTo>
                  <a:pt x="5358" y="9699"/>
                </a:moveTo>
                <a:cubicBezTo>
                  <a:pt x="5448" y="9654"/>
                  <a:pt x="5573" y="9674"/>
                  <a:pt x="5680" y="9674"/>
                </a:cubicBezTo>
                <a:cubicBezTo>
                  <a:pt x="5735" y="9674"/>
                  <a:pt x="5790" y="9656"/>
                  <a:pt x="5804" y="9699"/>
                </a:cubicBezTo>
              </a:path>
              <a:path w="1241" h="621">
                <a:moveTo>
                  <a:pt x="6003" y="9401"/>
                </a:moveTo>
                <a:cubicBezTo>
                  <a:pt x="6107" y="9422"/>
                  <a:pt x="6192" y="9512"/>
                  <a:pt x="6276" y="9575"/>
                </a:cubicBezTo>
                <a:cubicBezTo>
                  <a:pt x="6359" y="9637"/>
                  <a:pt x="6497" y="9729"/>
                  <a:pt x="6548" y="9823"/>
                </a:cubicBezTo>
                <a:cubicBezTo>
                  <a:pt x="6548" y="9847"/>
                  <a:pt x="6548" y="9855"/>
                  <a:pt x="6573" y="9847"/>
                </a:cubicBezTo>
              </a:path>
              <a:path w="1241" h="621">
                <a:moveTo>
                  <a:pt x="6598" y="9302"/>
                </a:moveTo>
                <a:cubicBezTo>
                  <a:pt x="6460" y="9409"/>
                  <a:pt x="6400" y="9576"/>
                  <a:pt x="6300" y="9723"/>
                </a:cubicBezTo>
                <a:cubicBezTo>
                  <a:pt x="6254" y="9791"/>
                  <a:pt x="6204" y="9859"/>
                  <a:pt x="6152" y="992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08200" y="3419640"/>
            <a:ext cx="123840" cy="90360"/>
          </a:xfrm>
          <a:custGeom>
            <a:avLst/>
            <a:gdLst/>
            <a:ahLst/>
            <a:rect l="l" t="t" r="r" b="b"/>
            <a:pathLst>
              <a:path w="348" h="249">
                <a:moveTo>
                  <a:pt x="7243" y="9525"/>
                </a:moveTo>
                <a:cubicBezTo>
                  <a:pt x="7318" y="9525"/>
                  <a:pt x="7393" y="9483"/>
                  <a:pt x="7466" y="9500"/>
                </a:cubicBezTo>
                <a:cubicBezTo>
                  <a:pt x="7507" y="9510"/>
                  <a:pt x="7505" y="9503"/>
                  <a:pt x="7516" y="9525"/>
                </a:cubicBezTo>
              </a:path>
              <a:path w="348" h="249">
                <a:moveTo>
                  <a:pt x="7268" y="9748"/>
                </a:moveTo>
                <a:cubicBezTo>
                  <a:pt x="7351" y="9731"/>
                  <a:pt x="7426" y="9723"/>
                  <a:pt x="7516" y="9723"/>
                </a:cubicBezTo>
                <a:cubicBezTo>
                  <a:pt x="7557" y="9723"/>
                  <a:pt x="7565" y="9723"/>
                  <a:pt x="7590" y="972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1320" y="3313080"/>
            <a:ext cx="196920" cy="285840"/>
          </a:xfrm>
          <a:custGeom>
            <a:avLst/>
            <a:gdLst/>
            <a:ahLst/>
            <a:rect l="l" t="t" r="r" b="b"/>
            <a:pathLst>
              <a:path w="547" h="794">
                <a:moveTo>
                  <a:pt x="8235" y="9351"/>
                </a:moveTo>
                <a:cubicBezTo>
                  <a:pt x="8235" y="9343"/>
                  <a:pt x="8235" y="9335"/>
                  <a:pt x="8235" y="9327"/>
                </a:cubicBezTo>
              </a:path>
              <a:path w="547" h="794">
                <a:moveTo>
                  <a:pt x="8260" y="9327"/>
                </a:moveTo>
                <a:lnTo>
                  <a:pt x="8260" y="9327"/>
                </a:lnTo>
              </a:path>
              <a:path w="547" h="794">
                <a:moveTo>
                  <a:pt x="8235" y="9351"/>
                </a:moveTo>
                <a:lnTo>
                  <a:pt x="8235" y="9351"/>
                </a:lnTo>
              </a:path>
              <a:path w="547" h="794">
                <a:moveTo>
                  <a:pt x="8235" y="9351"/>
                </a:moveTo>
                <a:cubicBezTo>
                  <a:pt x="8235" y="9379"/>
                  <a:pt x="8233" y="9390"/>
                  <a:pt x="8210" y="9401"/>
                </a:cubicBezTo>
                <a:cubicBezTo>
                  <a:pt x="8299" y="9365"/>
                  <a:pt x="8389" y="9272"/>
                  <a:pt x="8483" y="9227"/>
                </a:cubicBezTo>
                <a:cubicBezTo>
                  <a:pt x="8549" y="9206"/>
                  <a:pt x="8564" y="9198"/>
                  <a:pt x="8607" y="9203"/>
                </a:cubicBezTo>
                <a:cubicBezTo>
                  <a:pt x="8596" y="9316"/>
                  <a:pt x="8568" y="9440"/>
                  <a:pt x="8483" y="9525"/>
                </a:cubicBezTo>
                <a:cubicBezTo>
                  <a:pt x="8467" y="9533"/>
                  <a:pt x="8450" y="9542"/>
                  <a:pt x="8434" y="9550"/>
                </a:cubicBezTo>
                <a:cubicBezTo>
                  <a:pt x="8465" y="9486"/>
                  <a:pt x="8550" y="9444"/>
                  <a:pt x="8607" y="9525"/>
                </a:cubicBezTo>
                <a:cubicBezTo>
                  <a:pt x="8708" y="9669"/>
                  <a:pt x="8516" y="9832"/>
                  <a:pt x="8409" y="9897"/>
                </a:cubicBezTo>
                <a:cubicBezTo>
                  <a:pt x="8308" y="9959"/>
                  <a:pt x="8185" y="9974"/>
                  <a:pt x="8111" y="9947"/>
                </a:cubicBezTo>
                <a:cubicBezTo>
                  <a:pt x="8086" y="9947"/>
                  <a:pt x="8078" y="9947"/>
                  <a:pt x="8086" y="9922"/>
                </a:cubicBezTo>
                <a:cubicBezTo>
                  <a:pt x="8140" y="9922"/>
                  <a:pt x="8169" y="9934"/>
                  <a:pt x="8210" y="9971"/>
                </a:cubicBezTo>
                <a:cubicBezTo>
                  <a:pt x="8218" y="9979"/>
                  <a:pt x="8227" y="9988"/>
                  <a:pt x="8235" y="999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66960" y="3670200"/>
            <a:ext cx="534960" cy="250920"/>
          </a:xfrm>
          <a:custGeom>
            <a:avLst/>
            <a:gdLst/>
            <a:ahLst/>
            <a:rect l="l" t="t" r="r" b="b"/>
            <a:pathLst>
              <a:path w="1489" h="695">
                <a:moveTo>
                  <a:pt x="5184" y="10344"/>
                </a:moveTo>
                <a:cubicBezTo>
                  <a:pt x="5184" y="10286"/>
                  <a:pt x="5196" y="10265"/>
                  <a:pt x="5259" y="10244"/>
                </a:cubicBezTo>
                <a:cubicBezTo>
                  <a:pt x="5443" y="10184"/>
                  <a:pt x="5711" y="10202"/>
                  <a:pt x="5904" y="10195"/>
                </a:cubicBezTo>
                <a:cubicBezTo>
                  <a:pt x="6147" y="10186"/>
                  <a:pt x="6385" y="10214"/>
                  <a:pt x="6623" y="10244"/>
                </a:cubicBezTo>
                <a:cubicBezTo>
                  <a:pt x="6648" y="10244"/>
                  <a:pt x="6656" y="10244"/>
                  <a:pt x="6672" y="10244"/>
                </a:cubicBezTo>
              </a:path>
              <a:path w="1489" h="695">
                <a:moveTo>
                  <a:pt x="5804" y="10542"/>
                </a:moveTo>
                <a:cubicBezTo>
                  <a:pt x="5905" y="10542"/>
                  <a:pt x="5978" y="10491"/>
                  <a:pt x="6077" y="10468"/>
                </a:cubicBezTo>
                <a:cubicBezTo>
                  <a:pt x="6116" y="10459"/>
                  <a:pt x="6118" y="10465"/>
                  <a:pt x="6127" y="10492"/>
                </a:cubicBezTo>
              </a:path>
              <a:path w="1489" h="695">
                <a:moveTo>
                  <a:pt x="6499" y="10393"/>
                </a:moveTo>
                <a:cubicBezTo>
                  <a:pt x="6499" y="10368"/>
                  <a:pt x="6499" y="10360"/>
                  <a:pt x="6499" y="10344"/>
                </a:cubicBezTo>
                <a:cubicBezTo>
                  <a:pt x="6499" y="10479"/>
                  <a:pt x="6484" y="10607"/>
                  <a:pt x="6474" y="10740"/>
                </a:cubicBezTo>
                <a:cubicBezTo>
                  <a:pt x="6470" y="10787"/>
                  <a:pt x="6474" y="10840"/>
                  <a:pt x="6474" y="1088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03680" y="3643200"/>
            <a:ext cx="384120" cy="268560"/>
          </a:xfrm>
          <a:custGeom>
            <a:avLst/>
            <a:gdLst/>
            <a:ahLst/>
            <a:rect l="l" t="t" r="r" b="b"/>
            <a:pathLst>
              <a:path w="1067" h="745">
                <a:moveTo>
                  <a:pt x="7888" y="10220"/>
                </a:moveTo>
                <a:cubicBezTo>
                  <a:pt x="8039" y="10220"/>
                  <a:pt x="8184" y="10223"/>
                  <a:pt x="8334" y="10195"/>
                </a:cubicBezTo>
                <a:cubicBezTo>
                  <a:pt x="8502" y="10164"/>
                  <a:pt x="8661" y="10134"/>
                  <a:pt x="8830" y="10120"/>
                </a:cubicBezTo>
                <a:cubicBezTo>
                  <a:pt x="8838" y="10120"/>
                  <a:pt x="8847" y="10120"/>
                  <a:pt x="8855" y="10120"/>
                </a:cubicBezTo>
              </a:path>
              <a:path w="1067" h="745">
                <a:moveTo>
                  <a:pt x="7789" y="10641"/>
                </a:moveTo>
                <a:cubicBezTo>
                  <a:pt x="7886" y="10641"/>
                  <a:pt x="7993" y="10621"/>
                  <a:pt x="8086" y="10592"/>
                </a:cubicBezTo>
                <a:cubicBezTo>
                  <a:pt x="8142" y="10575"/>
                  <a:pt x="8145" y="10543"/>
                  <a:pt x="8161" y="10592"/>
                </a:cubicBezTo>
              </a:path>
              <a:path w="1067" h="745">
                <a:moveTo>
                  <a:pt x="8657" y="10294"/>
                </a:moveTo>
                <a:cubicBezTo>
                  <a:pt x="8657" y="10416"/>
                  <a:pt x="8698" y="10547"/>
                  <a:pt x="8682" y="10666"/>
                </a:cubicBezTo>
                <a:cubicBezTo>
                  <a:pt x="8673" y="10733"/>
                  <a:pt x="8657" y="10931"/>
                  <a:pt x="8657" y="10864"/>
                </a:cubicBezTo>
                <a:cubicBezTo>
                  <a:pt x="8657" y="10856"/>
                  <a:pt x="8657" y="10848"/>
                  <a:pt x="8657" y="1084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27720" y="3463920"/>
            <a:ext cx="1231560" cy="528480"/>
          </a:xfrm>
          <a:custGeom>
            <a:avLst/>
            <a:gdLst/>
            <a:ahLst/>
            <a:rect l="l" t="t" r="r" b="b"/>
            <a:pathLst>
              <a:path w="3424" h="1465">
                <a:moveTo>
                  <a:pt x="12576" y="9996"/>
                </a:moveTo>
                <a:cubicBezTo>
                  <a:pt x="12708" y="9996"/>
                  <a:pt x="12788" y="10101"/>
                  <a:pt x="12874" y="10195"/>
                </a:cubicBezTo>
                <a:cubicBezTo>
                  <a:pt x="12958" y="10286"/>
                  <a:pt x="13129" y="10427"/>
                  <a:pt x="13196" y="10517"/>
                </a:cubicBezTo>
                <a:cubicBezTo>
                  <a:pt x="13196" y="10525"/>
                  <a:pt x="13196" y="10534"/>
                  <a:pt x="13196" y="10542"/>
                </a:cubicBezTo>
              </a:path>
              <a:path w="3424" h="1465">
                <a:moveTo>
                  <a:pt x="13196" y="9847"/>
                </a:moveTo>
                <a:cubicBezTo>
                  <a:pt x="13039" y="10054"/>
                  <a:pt x="12908" y="10277"/>
                  <a:pt x="12750" y="10492"/>
                </a:cubicBezTo>
                <a:cubicBezTo>
                  <a:pt x="12710" y="10547"/>
                  <a:pt x="12664" y="10584"/>
                  <a:pt x="12650" y="10641"/>
                </a:cubicBezTo>
              </a:path>
              <a:path w="3424" h="1465">
                <a:moveTo>
                  <a:pt x="13519" y="10071"/>
                </a:moveTo>
                <a:cubicBezTo>
                  <a:pt x="13597" y="10071"/>
                  <a:pt x="13666" y="10090"/>
                  <a:pt x="13742" y="10096"/>
                </a:cubicBezTo>
                <a:cubicBezTo>
                  <a:pt x="13823" y="10102"/>
                  <a:pt x="13909" y="10096"/>
                  <a:pt x="13990" y="10096"/>
                </a:cubicBezTo>
              </a:path>
              <a:path w="3424" h="1465">
                <a:moveTo>
                  <a:pt x="13593" y="10319"/>
                </a:moveTo>
                <a:cubicBezTo>
                  <a:pt x="13726" y="10309"/>
                  <a:pt x="13882" y="10263"/>
                  <a:pt x="14015" y="10294"/>
                </a:cubicBezTo>
                <a:cubicBezTo>
                  <a:pt x="14037" y="10316"/>
                  <a:pt x="14048" y="10325"/>
                  <a:pt x="14015" y="10319"/>
                </a:cubicBezTo>
              </a:path>
              <a:path w="3424" h="1465">
                <a:moveTo>
                  <a:pt x="14982" y="9723"/>
                </a:moveTo>
                <a:cubicBezTo>
                  <a:pt x="14987" y="9698"/>
                  <a:pt x="15007" y="9591"/>
                  <a:pt x="15007" y="9649"/>
                </a:cubicBezTo>
                <a:cubicBezTo>
                  <a:pt x="14986" y="9711"/>
                  <a:pt x="14997" y="9823"/>
                  <a:pt x="14932" y="9823"/>
                </a:cubicBezTo>
                <a:cubicBezTo>
                  <a:pt x="14831" y="9823"/>
                  <a:pt x="15081" y="9695"/>
                  <a:pt x="15180" y="9674"/>
                </a:cubicBezTo>
                <a:cubicBezTo>
                  <a:pt x="15197" y="9674"/>
                  <a:pt x="15213" y="9674"/>
                  <a:pt x="15230" y="9674"/>
                </a:cubicBezTo>
                <a:cubicBezTo>
                  <a:pt x="15257" y="9793"/>
                  <a:pt x="15204" y="9884"/>
                  <a:pt x="15106" y="9971"/>
                </a:cubicBezTo>
                <a:cubicBezTo>
                  <a:pt x="15081" y="9988"/>
                  <a:pt x="15057" y="10004"/>
                  <a:pt x="15032" y="10021"/>
                </a:cubicBezTo>
                <a:cubicBezTo>
                  <a:pt x="15054" y="10067"/>
                  <a:pt x="15097" y="9966"/>
                  <a:pt x="15180" y="9996"/>
                </a:cubicBezTo>
                <a:cubicBezTo>
                  <a:pt x="15402" y="10077"/>
                  <a:pt x="15265" y="10266"/>
                  <a:pt x="15156" y="10368"/>
                </a:cubicBezTo>
                <a:cubicBezTo>
                  <a:pt x="15032" y="10485"/>
                  <a:pt x="14929" y="10477"/>
                  <a:pt x="14784" y="10418"/>
                </a:cubicBezTo>
              </a:path>
              <a:path w="3424" h="1465">
                <a:moveTo>
                  <a:pt x="14387" y="9847"/>
                </a:moveTo>
                <a:cubicBezTo>
                  <a:pt x="14457" y="9847"/>
                  <a:pt x="14516" y="9828"/>
                  <a:pt x="14585" y="9823"/>
                </a:cubicBezTo>
                <a:cubicBezTo>
                  <a:pt x="14626" y="9820"/>
                  <a:pt x="14574" y="9840"/>
                  <a:pt x="14536" y="9872"/>
                </a:cubicBezTo>
              </a:path>
              <a:path w="3424" h="1465">
                <a:moveTo>
                  <a:pt x="14833" y="10765"/>
                </a:moveTo>
                <a:cubicBezTo>
                  <a:pt x="14855" y="10774"/>
                  <a:pt x="14854" y="10691"/>
                  <a:pt x="14908" y="10864"/>
                </a:cubicBezTo>
                <a:cubicBezTo>
                  <a:pt x="14934" y="10949"/>
                  <a:pt x="14951" y="11012"/>
                  <a:pt x="14982" y="11088"/>
                </a:cubicBezTo>
                <a:cubicBezTo>
                  <a:pt x="15102" y="10943"/>
                  <a:pt x="15189" y="10800"/>
                  <a:pt x="15329" y="10666"/>
                </a:cubicBezTo>
                <a:cubicBezTo>
                  <a:pt x="15382" y="10615"/>
                  <a:pt x="15891" y="10144"/>
                  <a:pt x="15999" y="10269"/>
                </a:cubicBezTo>
                <a:cubicBezTo>
                  <a:pt x="15991" y="10286"/>
                  <a:pt x="15982" y="10302"/>
                  <a:pt x="15974" y="1031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72120" y="2544840"/>
            <a:ext cx="893880" cy="563400"/>
          </a:xfrm>
          <a:custGeom>
            <a:avLst/>
            <a:gdLst/>
            <a:ahLst/>
            <a:rect l="l" t="t" r="r" b="b"/>
            <a:pathLst>
              <a:path w="2482" h="1564">
                <a:moveTo>
                  <a:pt x="16867" y="7913"/>
                </a:moveTo>
                <a:cubicBezTo>
                  <a:pt x="16992" y="7913"/>
                  <a:pt x="17112" y="7890"/>
                  <a:pt x="17239" y="7888"/>
                </a:cubicBezTo>
                <a:cubicBezTo>
                  <a:pt x="17346" y="7886"/>
                  <a:pt x="17434" y="7913"/>
                  <a:pt x="17537" y="7913"/>
                </a:cubicBezTo>
              </a:path>
              <a:path w="2482" h="1564">
                <a:moveTo>
                  <a:pt x="18281" y="7144"/>
                </a:moveTo>
                <a:cubicBezTo>
                  <a:pt x="18281" y="7049"/>
                  <a:pt x="18196" y="7255"/>
                  <a:pt x="18157" y="7342"/>
                </a:cubicBezTo>
                <a:cubicBezTo>
                  <a:pt x="18037" y="7615"/>
                  <a:pt x="17912" y="7894"/>
                  <a:pt x="18008" y="8186"/>
                </a:cubicBezTo>
                <a:cubicBezTo>
                  <a:pt x="18035" y="8268"/>
                  <a:pt x="18113" y="8333"/>
                  <a:pt x="18132" y="8409"/>
                </a:cubicBezTo>
              </a:path>
              <a:path w="2482" h="1564">
                <a:moveTo>
                  <a:pt x="18281" y="7714"/>
                </a:moveTo>
                <a:cubicBezTo>
                  <a:pt x="18355" y="7714"/>
                  <a:pt x="18447" y="7806"/>
                  <a:pt x="18479" y="7739"/>
                </a:cubicBezTo>
                <a:cubicBezTo>
                  <a:pt x="18479" y="7731"/>
                  <a:pt x="18479" y="7722"/>
                  <a:pt x="18479" y="7714"/>
                </a:cubicBezTo>
              </a:path>
              <a:path w="2482" h="1564">
                <a:moveTo>
                  <a:pt x="18728" y="7441"/>
                </a:moveTo>
                <a:cubicBezTo>
                  <a:pt x="18774" y="7381"/>
                  <a:pt x="18844" y="7392"/>
                  <a:pt x="18926" y="7392"/>
                </a:cubicBezTo>
                <a:cubicBezTo>
                  <a:pt x="18963" y="7513"/>
                  <a:pt x="18941" y="7635"/>
                  <a:pt x="18852" y="7739"/>
                </a:cubicBezTo>
                <a:cubicBezTo>
                  <a:pt x="18808" y="7791"/>
                  <a:pt x="18756" y="7775"/>
                  <a:pt x="18802" y="7764"/>
                </a:cubicBezTo>
                <a:cubicBezTo>
                  <a:pt x="18907" y="7738"/>
                  <a:pt x="19000" y="7796"/>
                  <a:pt x="19000" y="7913"/>
                </a:cubicBezTo>
                <a:cubicBezTo>
                  <a:pt x="19000" y="8094"/>
                  <a:pt x="18841" y="8224"/>
                  <a:pt x="18678" y="8260"/>
                </a:cubicBezTo>
                <a:cubicBezTo>
                  <a:pt x="18603" y="8276"/>
                  <a:pt x="18597" y="8253"/>
                  <a:pt x="18554" y="8210"/>
                </a:cubicBezTo>
              </a:path>
              <a:path w="2482" h="1564">
                <a:moveTo>
                  <a:pt x="19124" y="7069"/>
                </a:moveTo>
                <a:cubicBezTo>
                  <a:pt x="19323" y="7201"/>
                  <a:pt x="19348" y="7446"/>
                  <a:pt x="19348" y="7689"/>
                </a:cubicBezTo>
                <a:cubicBezTo>
                  <a:pt x="19348" y="8026"/>
                  <a:pt x="19265" y="8278"/>
                  <a:pt x="19050" y="8533"/>
                </a:cubicBezTo>
                <a:cubicBezTo>
                  <a:pt x="18982" y="8614"/>
                  <a:pt x="18972" y="8596"/>
                  <a:pt x="18901" y="863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197840" y="2643120"/>
            <a:ext cx="1214280" cy="330120"/>
          </a:xfrm>
          <a:custGeom>
            <a:avLst/>
            <a:gdLst/>
            <a:ahLst/>
            <a:rect l="l" t="t" r="r" b="b"/>
            <a:pathLst>
              <a:path w="3374" h="919">
                <a:moveTo>
                  <a:pt x="20191" y="7466"/>
                </a:moveTo>
                <a:cubicBezTo>
                  <a:pt x="20191" y="7601"/>
                  <a:pt x="20174" y="7730"/>
                  <a:pt x="20166" y="7863"/>
                </a:cubicBezTo>
                <a:cubicBezTo>
                  <a:pt x="20159" y="7976"/>
                  <a:pt x="20182" y="8066"/>
                  <a:pt x="20067" y="8111"/>
                </a:cubicBezTo>
              </a:path>
              <a:path w="3374" h="919">
                <a:moveTo>
                  <a:pt x="19993" y="7888"/>
                </a:moveTo>
                <a:cubicBezTo>
                  <a:pt x="20120" y="7841"/>
                  <a:pt x="20255" y="7828"/>
                  <a:pt x="20389" y="7813"/>
                </a:cubicBezTo>
                <a:cubicBezTo>
                  <a:pt x="20431" y="7813"/>
                  <a:pt x="20447" y="7805"/>
                  <a:pt x="20439" y="7838"/>
                </a:cubicBezTo>
              </a:path>
              <a:path w="3374" h="919">
                <a:moveTo>
                  <a:pt x="21059" y="7665"/>
                </a:moveTo>
                <a:cubicBezTo>
                  <a:pt x="21076" y="7597"/>
                  <a:pt x="21111" y="7550"/>
                  <a:pt x="21059" y="7466"/>
                </a:cubicBezTo>
                <a:cubicBezTo>
                  <a:pt x="20964" y="7314"/>
                  <a:pt x="20831" y="7325"/>
                  <a:pt x="20712" y="7441"/>
                </a:cubicBezTo>
                <a:cubicBezTo>
                  <a:pt x="20622" y="7529"/>
                  <a:pt x="20586" y="7763"/>
                  <a:pt x="20786" y="7739"/>
                </a:cubicBezTo>
                <a:cubicBezTo>
                  <a:pt x="20880" y="7728"/>
                  <a:pt x="20971" y="7624"/>
                  <a:pt x="21034" y="7565"/>
                </a:cubicBezTo>
                <a:cubicBezTo>
                  <a:pt x="21053" y="7508"/>
                  <a:pt x="21062" y="7465"/>
                  <a:pt x="21059" y="7516"/>
                </a:cubicBezTo>
                <a:cubicBezTo>
                  <a:pt x="21048" y="7721"/>
                  <a:pt x="21002" y="7910"/>
                  <a:pt x="20960" y="8111"/>
                </a:cubicBezTo>
                <a:cubicBezTo>
                  <a:pt x="20941" y="8205"/>
                  <a:pt x="20954" y="8225"/>
                  <a:pt x="20910" y="8260"/>
                </a:cubicBezTo>
              </a:path>
              <a:path w="3374" h="919">
                <a:moveTo>
                  <a:pt x="21555" y="7665"/>
                </a:moveTo>
                <a:cubicBezTo>
                  <a:pt x="21654" y="7653"/>
                  <a:pt x="21747" y="7640"/>
                  <a:pt x="21853" y="7640"/>
                </a:cubicBezTo>
                <a:cubicBezTo>
                  <a:pt x="21921" y="7640"/>
                  <a:pt x="21948" y="7634"/>
                  <a:pt x="21903" y="7689"/>
                </a:cubicBezTo>
              </a:path>
              <a:path w="3374" h="919">
                <a:moveTo>
                  <a:pt x="21431" y="7888"/>
                </a:moveTo>
                <a:cubicBezTo>
                  <a:pt x="21580" y="7869"/>
                  <a:pt x="21728" y="7857"/>
                  <a:pt x="21878" y="7838"/>
                </a:cubicBezTo>
              </a:path>
              <a:path w="3374" h="919">
                <a:moveTo>
                  <a:pt x="22324" y="7367"/>
                </a:moveTo>
                <a:cubicBezTo>
                  <a:pt x="22324" y="7593"/>
                  <a:pt x="22334" y="7813"/>
                  <a:pt x="22349" y="8037"/>
                </a:cubicBezTo>
                <a:cubicBezTo>
                  <a:pt x="22349" y="8111"/>
                  <a:pt x="22349" y="8120"/>
                  <a:pt x="22349" y="8161"/>
                </a:cubicBezTo>
              </a:path>
              <a:path w="3374" h="919">
                <a:moveTo>
                  <a:pt x="22746" y="7417"/>
                </a:moveTo>
                <a:cubicBezTo>
                  <a:pt x="22854" y="7369"/>
                  <a:pt x="22950" y="7321"/>
                  <a:pt x="23068" y="7367"/>
                </a:cubicBezTo>
                <a:cubicBezTo>
                  <a:pt x="23093" y="7384"/>
                  <a:pt x="23118" y="7400"/>
                  <a:pt x="23143" y="7417"/>
                </a:cubicBezTo>
                <a:cubicBezTo>
                  <a:pt x="23112" y="7634"/>
                  <a:pt x="22980" y="7743"/>
                  <a:pt x="22845" y="7913"/>
                </a:cubicBezTo>
                <a:cubicBezTo>
                  <a:pt x="22806" y="7962"/>
                  <a:pt x="22744" y="8031"/>
                  <a:pt x="22721" y="8086"/>
                </a:cubicBezTo>
                <a:cubicBezTo>
                  <a:pt x="22880" y="8075"/>
                  <a:pt x="23031" y="8062"/>
                  <a:pt x="23192" y="8062"/>
                </a:cubicBezTo>
                <a:cubicBezTo>
                  <a:pt x="23258" y="8062"/>
                  <a:pt x="23407" y="8062"/>
                  <a:pt x="23341" y="806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38960" y="3313080"/>
            <a:ext cx="1098360" cy="347760"/>
          </a:xfrm>
          <a:custGeom>
            <a:avLst/>
            <a:gdLst/>
            <a:ahLst/>
            <a:rect l="l" t="t" r="r" b="b"/>
            <a:pathLst>
              <a:path w="3052" h="968">
                <a:moveTo>
                  <a:pt x="18157" y="9327"/>
                </a:moveTo>
                <a:cubicBezTo>
                  <a:pt x="18243" y="9292"/>
                  <a:pt x="18318" y="9203"/>
                  <a:pt x="18430" y="9203"/>
                </a:cubicBezTo>
                <a:cubicBezTo>
                  <a:pt x="18637" y="9202"/>
                  <a:pt x="18443" y="9502"/>
                  <a:pt x="18405" y="9550"/>
                </a:cubicBezTo>
                <a:cubicBezTo>
                  <a:pt x="18334" y="9640"/>
                  <a:pt x="18287" y="9649"/>
                  <a:pt x="18207" y="9699"/>
                </a:cubicBezTo>
                <a:cubicBezTo>
                  <a:pt x="18226" y="9621"/>
                  <a:pt x="18374" y="9627"/>
                  <a:pt x="18430" y="9674"/>
                </a:cubicBezTo>
                <a:cubicBezTo>
                  <a:pt x="18624" y="9839"/>
                  <a:pt x="18436" y="10038"/>
                  <a:pt x="18281" y="10120"/>
                </a:cubicBezTo>
                <a:cubicBezTo>
                  <a:pt x="18238" y="10143"/>
                  <a:pt x="17789" y="10184"/>
                  <a:pt x="17884" y="10046"/>
                </a:cubicBezTo>
                <a:cubicBezTo>
                  <a:pt x="17917" y="10021"/>
                  <a:pt x="17950" y="9996"/>
                  <a:pt x="17983" y="9971"/>
                </a:cubicBezTo>
              </a:path>
              <a:path w="3052" h="968">
                <a:moveTo>
                  <a:pt x="19050" y="9277"/>
                </a:moveTo>
                <a:cubicBezTo>
                  <a:pt x="19050" y="9495"/>
                  <a:pt x="19048" y="9708"/>
                  <a:pt x="19025" y="9922"/>
                </a:cubicBezTo>
                <a:cubicBezTo>
                  <a:pt x="19025" y="9963"/>
                  <a:pt x="19033" y="9979"/>
                  <a:pt x="19000" y="9971"/>
                </a:cubicBezTo>
              </a:path>
              <a:path w="3052" h="968">
                <a:moveTo>
                  <a:pt x="18951" y="9599"/>
                </a:moveTo>
                <a:cubicBezTo>
                  <a:pt x="19045" y="9599"/>
                  <a:pt x="19327" y="9550"/>
                  <a:pt x="19397" y="9649"/>
                </a:cubicBezTo>
                <a:cubicBezTo>
                  <a:pt x="19397" y="9666"/>
                  <a:pt x="19397" y="9682"/>
                  <a:pt x="19397" y="9699"/>
                </a:cubicBezTo>
              </a:path>
              <a:path w="3052" h="968">
                <a:moveTo>
                  <a:pt x="19968" y="9575"/>
                </a:moveTo>
                <a:cubicBezTo>
                  <a:pt x="19968" y="9484"/>
                  <a:pt x="19980" y="9388"/>
                  <a:pt x="19943" y="9302"/>
                </a:cubicBezTo>
                <a:cubicBezTo>
                  <a:pt x="19861" y="9114"/>
                  <a:pt x="19681" y="9237"/>
                  <a:pt x="19596" y="9351"/>
                </a:cubicBezTo>
                <a:cubicBezTo>
                  <a:pt x="19488" y="9496"/>
                  <a:pt x="19511" y="9560"/>
                  <a:pt x="19571" y="9699"/>
                </a:cubicBezTo>
                <a:cubicBezTo>
                  <a:pt x="19810" y="9656"/>
                  <a:pt x="19832" y="9576"/>
                  <a:pt x="19943" y="9376"/>
                </a:cubicBezTo>
                <a:cubicBezTo>
                  <a:pt x="19965" y="9354"/>
                  <a:pt x="19974" y="9349"/>
                  <a:pt x="19968" y="9327"/>
                </a:cubicBezTo>
                <a:cubicBezTo>
                  <a:pt x="19968" y="9608"/>
                  <a:pt x="19848" y="10374"/>
                  <a:pt x="19968" y="10120"/>
                </a:cubicBezTo>
                <a:cubicBezTo>
                  <a:pt x="19984" y="10087"/>
                  <a:pt x="20001" y="10054"/>
                  <a:pt x="20017" y="10021"/>
                </a:cubicBezTo>
              </a:path>
              <a:path w="3052" h="968">
                <a:moveTo>
                  <a:pt x="20513" y="9500"/>
                </a:moveTo>
                <a:cubicBezTo>
                  <a:pt x="20627" y="9500"/>
                  <a:pt x="20750" y="9503"/>
                  <a:pt x="20861" y="9525"/>
                </a:cubicBezTo>
                <a:cubicBezTo>
                  <a:pt x="20935" y="9550"/>
                  <a:pt x="20960" y="9558"/>
                  <a:pt x="20910" y="9624"/>
                </a:cubicBezTo>
              </a:path>
              <a:path w="3052" h="968">
                <a:moveTo>
                  <a:pt x="20464" y="9798"/>
                </a:moveTo>
                <a:cubicBezTo>
                  <a:pt x="20588" y="9798"/>
                  <a:pt x="20712" y="9798"/>
                  <a:pt x="20836" y="979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69160" y="3251160"/>
            <a:ext cx="419040" cy="347760"/>
          </a:xfrm>
          <a:custGeom>
            <a:avLst/>
            <a:gdLst/>
            <a:ahLst/>
            <a:rect l="l" t="t" r="r" b="b"/>
            <a:pathLst>
              <a:path w="1167" h="968">
                <a:moveTo>
                  <a:pt x="21654" y="9178"/>
                </a:moveTo>
                <a:cubicBezTo>
                  <a:pt x="21654" y="9148"/>
                  <a:pt x="21607" y="9531"/>
                  <a:pt x="21605" y="9550"/>
                </a:cubicBezTo>
                <a:cubicBezTo>
                  <a:pt x="21590" y="9671"/>
                  <a:pt x="21580" y="9756"/>
                  <a:pt x="21580" y="9872"/>
                </a:cubicBezTo>
              </a:path>
              <a:path w="1167" h="968">
                <a:moveTo>
                  <a:pt x="22101" y="9227"/>
                </a:moveTo>
                <a:cubicBezTo>
                  <a:pt x="22122" y="9156"/>
                  <a:pt x="22143" y="9148"/>
                  <a:pt x="22225" y="9103"/>
                </a:cubicBezTo>
                <a:cubicBezTo>
                  <a:pt x="22332" y="9044"/>
                  <a:pt x="22404" y="9036"/>
                  <a:pt x="22523" y="9029"/>
                </a:cubicBezTo>
                <a:cubicBezTo>
                  <a:pt x="22612" y="9142"/>
                  <a:pt x="22542" y="9261"/>
                  <a:pt x="22473" y="9376"/>
                </a:cubicBezTo>
                <a:cubicBezTo>
                  <a:pt x="22353" y="9576"/>
                  <a:pt x="22181" y="9750"/>
                  <a:pt x="22027" y="9922"/>
                </a:cubicBezTo>
                <a:cubicBezTo>
                  <a:pt x="21953" y="10005"/>
                  <a:pt x="21967" y="9972"/>
                  <a:pt x="22002" y="9971"/>
                </a:cubicBezTo>
                <a:cubicBezTo>
                  <a:pt x="22059" y="9857"/>
                  <a:pt x="22090" y="9779"/>
                  <a:pt x="22225" y="9748"/>
                </a:cubicBezTo>
                <a:cubicBezTo>
                  <a:pt x="22326" y="9725"/>
                  <a:pt x="22343" y="9838"/>
                  <a:pt x="22423" y="9872"/>
                </a:cubicBezTo>
                <a:cubicBezTo>
                  <a:pt x="22507" y="9908"/>
                  <a:pt x="22668" y="9924"/>
                  <a:pt x="22721" y="9823"/>
                </a:cubicBezTo>
                <a:cubicBezTo>
                  <a:pt x="22742" y="9739"/>
                  <a:pt x="22758" y="9719"/>
                  <a:pt x="22721" y="967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106640" y="838080"/>
          <a:ext cx="213012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838080"/>
                    <a:ext cx="21301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542960" y="1811160"/>
          <a:ext cx="1517760" cy="12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2960" y="1811160"/>
                    <a:ext cx="151776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384200" y="3657600"/>
          <a:ext cx="164952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4200" y="3657600"/>
                    <a:ext cx="164952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247760" y="4843440"/>
          <a:ext cx="2181240" cy="54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47760" y="4843440"/>
                    <a:ext cx="21812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589040" y="884160"/>
            <a:ext cx="795240" cy="1125720"/>
          </a:xfrm>
          <a:custGeom>
            <a:avLst/>
            <a:gdLst/>
            <a:ahLst/>
            <a:rect l="l" t="t" r="r" b="b"/>
            <a:pathLst>
              <a:path w="2209" h="3126">
                <a:moveTo>
                  <a:pt x="4589" y="4068"/>
                </a:moveTo>
                <a:cubicBezTo>
                  <a:pt x="4516" y="4068"/>
                  <a:pt x="4818" y="4020"/>
                  <a:pt x="4837" y="4018"/>
                </a:cubicBezTo>
                <a:cubicBezTo>
                  <a:pt x="4875" y="4014"/>
                  <a:pt x="4921" y="4018"/>
                  <a:pt x="4961" y="4018"/>
                </a:cubicBezTo>
              </a:path>
              <a:path w="2209" h="3126">
                <a:moveTo>
                  <a:pt x="5655" y="3994"/>
                </a:moveTo>
                <a:cubicBezTo>
                  <a:pt x="5640" y="3930"/>
                  <a:pt x="5599" y="3899"/>
                  <a:pt x="5531" y="3894"/>
                </a:cubicBezTo>
                <a:cubicBezTo>
                  <a:pt x="5420" y="3886"/>
                  <a:pt x="5294" y="3883"/>
                  <a:pt x="5209" y="3969"/>
                </a:cubicBezTo>
                <a:cubicBezTo>
                  <a:pt x="5143" y="4036"/>
                  <a:pt x="5268" y="4125"/>
                  <a:pt x="5308" y="4142"/>
                </a:cubicBezTo>
                <a:cubicBezTo>
                  <a:pt x="5411" y="4187"/>
                  <a:pt x="5501" y="4185"/>
                  <a:pt x="5581" y="4118"/>
                </a:cubicBezTo>
                <a:cubicBezTo>
                  <a:pt x="5648" y="4062"/>
                  <a:pt x="5615" y="4024"/>
                  <a:pt x="5606" y="3969"/>
                </a:cubicBezTo>
                <a:cubicBezTo>
                  <a:pt x="5606" y="4109"/>
                  <a:pt x="5624" y="4229"/>
                  <a:pt x="5655" y="4366"/>
                </a:cubicBezTo>
                <a:cubicBezTo>
                  <a:pt x="5669" y="4428"/>
                  <a:pt x="5693" y="4481"/>
                  <a:pt x="5705" y="4539"/>
                </a:cubicBezTo>
              </a:path>
              <a:path w="2209" h="3126">
                <a:moveTo>
                  <a:pt x="4415" y="2977"/>
                </a:moveTo>
                <a:cubicBezTo>
                  <a:pt x="4457" y="3038"/>
                  <a:pt x="4493" y="3107"/>
                  <a:pt x="4539" y="3175"/>
                </a:cubicBezTo>
                <a:cubicBezTo>
                  <a:pt x="4751" y="3486"/>
                  <a:pt x="4880" y="3721"/>
                  <a:pt x="5209" y="3919"/>
                </a:cubicBezTo>
                <a:cubicBezTo>
                  <a:pt x="5294" y="3970"/>
                  <a:pt x="5418" y="4033"/>
                  <a:pt x="5507" y="4068"/>
                </a:cubicBezTo>
                <a:cubicBezTo>
                  <a:pt x="5515" y="4068"/>
                  <a:pt x="5523" y="4068"/>
                  <a:pt x="5531" y="4068"/>
                </a:cubicBezTo>
              </a:path>
              <a:path w="2209" h="3126">
                <a:moveTo>
                  <a:pt x="5531" y="2456"/>
                </a:moveTo>
                <a:cubicBezTo>
                  <a:pt x="5380" y="2809"/>
                  <a:pt x="5223" y="3146"/>
                  <a:pt x="5060" y="3497"/>
                </a:cubicBezTo>
                <a:cubicBezTo>
                  <a:pt x="4956" y="3721"/>
                  <a:pt x="4878" y="3974"/>
                  <a:pt x="4762" y="4192"/>
                </a:cubicBezTo>
                <a:cubicBezTo>
                  <a:pt x="4725" y="4248"/>
                  <a:pt x="4708" y="4252"/>
                  <a:pt x="4713" y="4291"/>
                </a:cubicBezTo>
              </a:path>
              <a:path w="2209" h="3126">
                <a:moveTo>
                  <a:pt x="5730" y="5482"/>
                </a:moveTo>
                <a:cubicBezTo>
                  <a:pt x="5730" y="5388"/>
                  <a:pt x="5741" y="5295"/>
                  <a:pt x="5705" y="5209"/>
                </a:cubicBezTo>
                <a:cubicBezTo>
                  <a:pt x="5679" y="5146"/>
                  <a:pt x="5613" y="5073"/>
                  <a:pt x="5556" y="5035"/>
                </a:cubicBezTo>
                <a:cubicBezTo>
                  <a:pt x="5460" y="4971"/>
                  <a:pt x="5388" y="5030"/>
                  <a:pt x="5333" y="5110"/>
                </a:cubicBezTo>
                <a:cubicBezTo>
                  <a:pt x="5224" y="5269"/>
                  <a:pt x="5212" y="5390"/>
                  <a:pt x="5283" y="5556"/>
                </a:cubicBezTo>
                <a:cubicBezTo>
                  <a:pt x="5463" y="5557"/>
                  <a:pt x="5597" y="5422"/>
                  <a:pt x="5705" y="5259"/>
                </a:cubicBezTo>
                <a:cubicBezTo>
                  <a:pt x="5713" y="5234"/>
                  <a:pt x="5722" y="5209"/>
                  <a:pt x="5730" y="5184"/>
                </a:cubicBezTo>
              </a:path>
              <a:path w="2209" h="3126">
                <a:moveTo>
                  <a:pt x="5581" y="4589"/>
                </a:moveTo>
                <a:cubicBezTo>
                  <a:pt x="5599" y="4754"/>
                  <a:pt x="5626" y="4921"/>
                  <a:pt x="5655" y="5085"/>
                </a:cubicBezTo>
                <a:cubicBezTo>
                  <a:pt x="5668" y="5160"/>
                  <a:pt x="5691" y="5215"/>
                  <a:pt x="5705" y="5283"/>
                </a:cubicBezTo>
              </a:path>
              <a:path w="2209" h="3126">
                <a:moveTo>
                  <a:pt x="6325" y="4762"/>
                </a:moveTo>
                <a:cubicBezTo>
                  <a:pt x="6421" y="4794"/>
                  <a:pt x="6475" y="4769"/>
                  <a:pt x="6573" y="4762"/>
                </a:cubicBezTo>
                <a:cubicBezTo>
                  <a:pt x="6598" y="4762"/>
                  <a:pt x="6606" y="4762"/>
                  <a:pt x="6623" y="4762"/>
                </a:cubicBezTo>
              </a:path>
              <a:path w="2209" h="3126">
                <a:moveTo>
                  <a:pt x="6300" y="5085"/>
                </a:moveTo>
                <a:cubicBezTo>
                  <a:pt x="6409" y="5074"/>
                  <a:pt x="6517" y="5060"/>
                  <a:pt x="6623" y="503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62120" y="1401840"/>
            <a:ext cx="135000" cy="9360"/>
          </a:xfrm>
          <a:custGeom>
            <a:avLst/>
            <a:gdLst/>
            <a:ahLst/>
            <a:rect l="l" t="t" r="r" b="b"/>
            <a:pathLst>
              <a:path w="373" h="26">
                <a:moveTo>
                  <a:pt x="7119" y="3919"/>
                </a:moveTo>
                <a:cubicBezTo>
                  <a:pt x="7221" y="3919"/>
                  <a:pt x="7314" y="3897"/>
                  <a:pt x="7417" y="3894"/>
                </a:cubicBezTo>
                <a:cubicBezTo>
                  <a:pt x="7442" y="3894"/>
                  <a:pt x="7466" y="3894"/>
                  <a:pt x="7491" y="389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94040" y="1295280"/>
            <a:ext cx="142920" cy="196920"/>
          </a:xfrm>
          <a:custGeom>
            <a:avLst/>
            <a:gdLst/>
            <a:ahLst/>
            <a:rect l="l" t="t" r="r" b="b"/>
            <a:pathLst>
              <a:path w="398" h="546">
                <a:moveTo>
                  <a:pt x="8434" y="3746"/>
                </a:moveTo>
                <a:cubicBezTo>
                  <a:pt x="8434" y="3681"/>
                  <a:pt x="8453" y="3653"/>
                  <a:pt x="8384" y="3621"/>
                </a:cubicBezTo>
                <a:cubicBezTo>
                  <a:pt x="8268" y="3566"/>
                  <a:pt x="8148" y="3604"/>
                  <a:pt x="8062" y="3696"/>
                </a:cubicBezTo>
                <a:cubicBezTo>
                  <a:pt x="7981" y="3782"/>
                  <a:pt x="8072" y="3892"/>
                  <a:pt x="8161" y="3919"/>
                </a:cubicBezTo>
                <a:cubicBezTo>
                  <a:pt x="8270" y="3952"/>
                  <a:pt x="8335" y="3909"/>
                  <a:pt x="8384" y="3820"/>
                </a:cubicBezTo>
                <a:cubicBezTo>
                  <a:pt x="8404" y="3780"/>
                  <a:pt x="8413" y="3773"/>
                  <a:pt x="8409" y="3746"/>
                </a:cubicBezTo>
                <a:cubicBezTo>
                  <a:pt x="8409" y="3882"/>
                  <a:pt x="8403" y="4011"/>
                  <a:pt x="8434" y="414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33640" y="1482840"/>
            <a:ext cx="2581200" cy="4108320"/>
          </a:xfrm>
          <a:custGeom>
            <a:avLst/>
            <a:gdLst/>
            <a:ahLst/>
            <a:rect l="l" t="t" r="r" b="b"/>
            <a:pathLst>
              <a:path w="7170" h="11411">
                <a:moveTo>
                  <a:pt x="3150" y="5135"/>
                </a:moveTo>
                <a:cubicBezTo>
                  <a:pt x="3238" y="5111"/>
                  <a:pt x="3332" y="5083"/>
                  <a:pt x="3423" y="5060"/>
                </a:cubicBezTo>
                <a:cubicBezTo>
                  <a:pt x="3679" y="4995"/>
                  <a:pt x="3933" y="4910"/>
                  <a:pt x="4192" y="4862"/>
                </a:cubicBezTo>
                <a:cubicBezTo>
                  <a:pt x="4360" y="4831"/>
                  <a:pt x="4522" y="4833"/>
                  <a:pt x="4688" y="4787"/>
                </a:cubicBezTo>
                <a:cubicBezTo>
                  <a:pt x="4944" y="4716"/>
                  <a:pt x="5194" y="4663"/>
                  <a:pt x="5457" y="4614"/>
                </a:cubicBezTo>
                <a:cubicBezTo>
                  <a:pt x="5584" y="4590"/>
                  <a:pt x="5704" y="4559"/>
                  <a:pt x="5829" y="4539"/>
                </a:cubicBezTo>
                <a:cubicBezTo>
                  <a:pt x="5962" y="4518"/>
                  <a:pt x="6090" y="4525"/>
                  <a:pt x="6226" y="4514"/>
                </a:cubicBezTo>
                <a:cubicBezTo>
                  <a:pt x="6373" y="4502"/>
                  <a:pt x="6553" y="4492"/>
                  <a:pt x="6697" y="4465"/>
                </a:cubicBezTo>
                <a:cubicBezTo>
                  <a:pt x="6925" y="4422"/>
                  <a:pt x="7138" y="4392"/>
                  <a:pt x="7367" y="4366"/>
                </a:cubicBezTo>
                <a:cubicBezTo>
                  <a:pt x="7559" y="4344"/>
                  <a:pt x="7744" y="4341"/>
                  <a:pt x="7938" y="4341"/>
                </a:cubicBezTo>
                <a:cubicBezTo>
                  <a:pt x="8139" y="4341"/>
                  <a:pt x="8334" y="4354"/>
                  <a:pt x="8533" y="4366"/>
                </a:cubicBezTo>
                <a:cubicBezTo>
                  <a:pt x="8855" y="4386"/>
                  <a:pt x="9182" y="4356"/>
                  <a:pt x="9500" y="4341"/>
                </a:cubicBezTo>
                <a:cubicBezTo>
                  <a:pt x="9593" y="4337"/>
                  <a:pt x="9664" y="4359"/>
                  <a:pt x="9748" y="4366"/>
                </a:cubicBezTo>
              </a:path>
              <a:path w="7170" h="11411">
                <a:moveTo>
                  <a:pt x="4589" y="8285"/>
                </a:moveTo>
                <a:cubicBezTo>
                  <a:pt x="4589" y="8549"/>
                  <a:pt x="4583" y="8816"/>
                  <a:pt x="4564" y="9079"/>
                </a:cubicBezTo>
                <a:cubicBezTo>
                  <a:pt x="4551" y="9259"/>
                  <a:pt x="4536" y="9401"/>
                  <a:pt x="4564" y="9575"/>
                </a:cubicBezTo>
                <a:cubicBezTo>
                  <a:pt x="4838" y="9494"/>
                  <a:pt x="5110" y="9358"/>
                  <a:pt x="5383" y="9277"/>
                </a:cubicBezTo>
                <a:cubicBezTo>
                  <a:pt x="5788" y="9157"/>
                  <a:pt x="6216" y="9117"/>
                  <a:pt x="6623" y="9004"/>
                </a:cubicBezTo>
                <a:cubicBezTo>
                  <a:pt x="6941" y="8916"/>
                  <a:pt x="7252" y="8812"/>
                  <a:pt x="7565" y="8706"/>
                </a:cubicBezTo>
                <a:cubicBezTo>
                  <a:pt x="7759" y="8640"/>
                  <a:pt x="7946" y="8575"/>
                  <a:pt x="8136" y="8508"/>
                </a:cubicBezTo>
                <a:cubicBezTo>
                  <a:pt x="8211" y="8481"/>
                  <a:pt x="8200" y="8506"/>
                  <a:pt x="8260" y="8483"/>
                </a:cubicBezTo>
                <a:cubicBezTo>
                  <a:pt x="8306" y="8465"/>
                  <a:pt x="8331" y="8441"/>
                  <a:pt x="8384" y="8434"/>
                </a:cubicBezTo>
                <a:cubicBezTo>
                  <a:pt x="8476" y="8421"/>
                  <a:pt x="8566" y="8428"/>
                  <a:pt x="8657" y="8409"/>
                </a:cubicBezTo>
                <a:cubicBezTo>
                  <a:pt x="8685" y="8403"/>
                  <a:pt x="8726" y="8391"/>
                  <a:pt x="8756" y="8384"/>
                </a:cubicBezTo>
                <a:cubicBezTo>
                  <a:pt x="8729" y="8278"/>
                  <a:pt x="8721" y="8201"/>
                  <a:pt x="8706" y="8086"/>
                </a:cubicBezTo>
                <a:cubicBezTo>
                  <a:pt x="8687" y="7941"/>
                  <a:pt x="8674" y="7778"/>
                  <a:pt x="8632" y="7640"/>
                </a:cubicBezTo>
                <a:cubicBezTo>
                  <a:pt x="8631" y="7637"/>
                  <a:pt x="8583" y="7517"/>
                  <a:pt x="8582" y="7516"/>
                </a:cubicBezTo>
                <a:cubicBezTo>
                  <a:pt x="8489" y="7423"/>
                  <a:pt x="8344" y="7557"/>
                  <a:pt x="8260" y="7590"/>
                </a:cubicBezTo>
                <a:cubicBezTo>
                  <a:pt x="7892" y="7734"/>
                  <a:pt x="7517" y="7857"/>
                  <a:pt x="7144" y="7987"/>
                </a:cubicBezTo>
                <a:cubicBezTo>
                  <a:pt x="6843" y="8092"/>
                  <a:pt x="6531" y="8162"/>
                  <a:pt x="6251" y="8310"/>
                </a:cubicBezTo>
                <a:cubicBezTo>
                  <a:pt x="6032" y="8426"/>
                  <a:pt x="5789" y="8551"/>
                  <a:pt x="5556" y="8632"/>
                </a:cubicBezTo>
                <a:cubicBezTo>
                  <a:pt x="5417" y="8680"/>
                  <a:pt x="5275" y="8734"/>
                  <a:pt x="5135" y="8781"/>
                </a:cubicBezTo>
                <a:cubicBezTo>
                  <a:pt x="5007" y="8824"/>
                  <a:pt x="4896" y="8867"/>
                  <a:pt x="4762" y="8880"/>
                </a:cubicBezTo>
                <a:cubicBezTo>
                  <a:pt x="4716" y="8885"/>
                  <a:pt x="4625" y="8903"/>
                  <a:pt x="4614" y="8905"/>
                </a:cubicBezTo>
              </a:path>
              <a:path w="7170" h="11411">
                <a:moveTo>
                  <a:pt x="4961" y="4837"/>
                </a:moveTo>
                <a:cubicBezTo>
                  <a:pt x="4980" y="4961"/>
                  <a:pt x="4998" y="5081"/>
                  <a:pt x="4986" y="5209"/>
                </a:cubicBezTo>
                <a:cubicBezTo>
                  <a:pt x="4969" y="5397"/>
                  <a:pt x="4902" y="5692"/>
                  <a:pt x="4961" y="5879"/>
                </a:cubicBezTo>
                <a:cubicBezTo>
                  <a:pt x="4983" y="5949"/>
                  <a:pt x="4969" y="5924"/>
                  <a:pt x="5035" y="5978"/>
                </a:cubicBezTo>
                <a:cubicBezTo>
                  <a:pt x="5101" y="6032"/>
                  <a:pt x="5148" y="6050"/>
                  <a:pt x="5234" y="6052"/>
                </a:cubicBezTo>
                <a:cubicBezTo>
                  <a:pt x="5341" y="6054"/>
                  <a:pt x="5446" y="6030"/>
                  <a:pt x="5556" y="6028"/>
                </a:cubicBezTo>
                <a:cubicBezTo>
                  <a:pt x="5780" y="6024"/>
                  <a:pt x="6002" y="5990"/>
                  <a:pt x="6226" y="5978"/>
                </a:cubicBezTo>
                <a:cubicBezTo>
                  <a:pt x="6406" y="5968"/>
                  <a:pt x="6593" y="5971"/>
                  <a:pt x="6772" y="5953"/>
                </a:cubicBezTo>
                <a:cubicBezTo>
                  <a:pt x="6947" y="5936"/>
                  <a:pt x="7116" y="5928"/>
                  <a:pt x="7293" y="5928"/>
                </a:cubicBezTo>
                <a:cubicBezTo>
                  <a:pt x="7421" y="5928"/>
                  <a:pt x="7560" y="5916"/>
                  <a:pt x="7689" y="5904"/>
                </a:cubicBezTo>
                <a:cubicBezTo>
                  <a:pt x="7876" y="5887"/>
                  <a:pt x="8075" y="5857"/>
                  <a:pt x="8260" y="5829"/>
                </a:cubicBezTo>
                <a:cubicBezTo>
                  <a:pt x="8419" y="5805"/>
                  <a:pt x="8571" y="5819"/>
                  <a:pt x="8731" y="5804"/>
                </a:cubicBezTo>
                <a:cubicBezTo>
                  <a:pt x="8859" y="5792"/>
                  <a:pt x="9014" y="5742"/>
                  <a:pt x="9128" y="5730"/>
                </a:cubicBezTo>
                <a:cubicBezTo>
                  <a:pt x="9168" y="5726"/>
                  <a:pt x="9223" y="5706"/>
                  <a:pt x="9227" y="5705"/>
                </a:cubicBezTo>
                <a:cubicBezTo>
                  <a:pt x="9235" y="5705"/>
                  <a:pt x="9244" y="5705"/>
                  <a:pt x="9252" y="5705"/>
                </a:cubicBezTo>
                <a:cubicBezTo>
                  <a:pt x="9252" y="5463"/>
                  <a:pt x="9260" y="5224"/>
                  <a:pt x="9277" y="4986"/>
                </a:cubicBezTo>
                <a:cubicBezTo>
                  <a:pt x="9291" y="4796"/>
                  <a:pt x="9290" y="4630"/>
                  <a:pt x="9277" y="4440"/>
                </a:cubicBezTo>
                <a:cubicBezTo>
                  <a:pt x="9270" y="4345"/>
                  <a:pt x="9262" y="4259"/>
                  <a:pt x="9252" y="4167"/>
                </a:cubicBezTo>
                <a:cubicBezTo>
                  <a:pt x="9252" y="4142"/>
                  <a:pt x="9252" y="4134"/>
                  <a:pt x="9252" y="4118"/>
                </a:cubicBezTo>
                <a:cubicBezTo>
                  <a:pt x="9065" y="4125"/>
                  <a:pt x="8892" y="4157"/>
                  <a:pt x="8706" y="4192"/>
                </a:cubicBezTo>
                <a:cubicBezTo>
                  <a:pt x="8408" y="4248"/>
                  <a:pt x="8113" y="4294"/>
                  <a:pt x="7813" y="4316"/>
                </a:cubicBezTo>
                <a:cubicBezTo>
                  <a:pt x="7680" y="4326"/>
                  <a:pt x="7547" y="4313"/>
                  <a:pt x="7417" y="4341"/>
                </a:cubicBezTo>
                <a:cubicBezTo>
                  <a:pt x="7282" y="4370"/>
                  <a:pt x="7167" y="4429"/>
                  <a:pt x="7045" y="4490"/>
                </a:cubicBezTo>
                <a:cubicBezTo>
                  <a:pt x="6880" y="4572"/>
                  <a:pt x="6677" y="4613"/>
                  <a:pt x="6499" y="4663"/>
                </a:cubicBezTo>
                <a:cubicBezTo>
                  <a:pt x="6250" y="4733"/>
                  <a:pt x="6007" y="4804"/>
                  <a:pt x="5755" y="4862"/>
                </a:cubicBezTo>
                <a:cubicBezTo>
                  <a:pt x="5626" y="4891"/>
                  <a:pt x="5514" y="4908"/>
                  <a:pt x="5383" y="4911"/>
                </a:cubicBezTo>
                <a:cubicBezTo>
                  <a:pt x="5293" y="4913"/>
                  <a:pt x="5222" y="4892"/>
                  <a:pt x="5135" y="4887"/>
                </a:cubicBezTo>
                <a:cubicBezTo>
                  <a:pt x="5016" y="4880"/>
                  <a:pt x="4954" y="4888"/>
                  <a:pt x="4837" y="4911"/>
                </a:cubicBezTo>
              </a:path>
              <a:path w="7170" h="11411">
                <a:moveTo>
                  <a:pt x="3547" y="15528"/>
                </a:moveTo>
                <a:cubicBezTo>
                  <a:pt x="3754" y="15520"/>
                  <a:pt x="3960" y="15501"/>
                  <a:pt x="4167" y="15478"/>
                </a:cubicBezTo>
                <a:cubicBezTo>
                  <a:pt x="5289" y="15356"/>
                  <a:pt x="6411" y="15274"/>
                  <a:pt x="7541" y="15255"/>
                </a:cubicBezTo>
                <a:cubicBezTo>
                  <a:pt x="8243" y="15243"/>
                  <a:pt x="8926" y="15275"/>
                  <a:pt x="9624" y="15329"/>
                </a:cubicBezTo>
                <a:cubicBezTo>
                  <a:pt x="9856" y="15347"/>
                  <a:pt x="10091" y="15366"/>
                  <a:pt x="10319" y="15404"/>
                </a:cubicBezTo>
                <a:cubicBezTo>
                  <a:pt x="10311" y="15404"/>
                  <a:pt x="10302" y="15404"/>
                  <a:pt x="10294" y="1540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77000" y="3152880"/>
            <a:ext cx="1009800" cy="776160"/>
          </a:xfrm>
          <a:custGeom>
            <a:avLst/>
            <a:gdLst/>
            <a:ahLst/>
            <a:rect l="l" t="t" r="r" b="b"/>
            <a:pathLst>
              <a:path w="2804" h="2159">
                <a:moveTo>
                  <a:pt x="20439" y="9922"/>
                </a:moveTo>
                <a:cubicBezTo>
                  <a:pt x="20427" y="9969"/>
                  <a:pt x="20405" y="9980"/>
                  <a:pt x="20365" y="10021"/>
                </a:cubicBezTo>
                <a:cubicBezTo>
                  <a:pt x="20365" y="10047"/>
                  <a:pt x="20368" y="9971"/>
                  <a:pt x="20439" y="9922"/>
                </a:cubicBezTo>
                <a:cubicBezTo>
                  <a:pt x="20676" y="9758"/>
                  <a:pt x="20698" y="10126"/>
                  <a:pt x="20638" y="10269"/>
                </a:cubicBezTo>
                <a:cubicBezTo>
                  <a:pt x="20556" y="10463"/>
                  <a:pt x="20397" y="10528"/>
                  <a:pt x="20216" y="10517"/>
                </a:cubicBezTo>
                <a:cubicBezTo>
                  <a:pt x="20157" y="10401"/>
                  <a:pt x="20239" y="10336"/>
                  <a:pt x="20365" y="10319"/>
                </a:cubicBezTo>
                <a:cubicBezTo>
                  <a:pt x="20533" y="10297"/>
                  <a:pt x="20681" y="10354"/>
                  <a:pt x="20786" y="10468"/>
                </a:cubicBezTo>
                <a:cubicBezTo>
                  <a:pt x="20794" y="10476"/>
                  <a:pt x="20803" y="10484"/>
                  <a:pt x="20811" y="10492"/>
                </a:cubicBezTo>
              </a:path>
              <a:path w="2804" h="2159">
                <a:moveTo>
                  <a:pt x="21406" y="10046"/>
                </a:moveTo>
                <a:cubicBezTo>
                  <a:pt x="21406" y="9911"/>
                  <a:pt x="21392" y="9819"/>
                  <a:pt x="21258" y="9748"/>
                </a:cubicBezTo>
                <a:cubicBezTo>
                  <a:pt x="21072" y="9649"/>
                  <a:pt x="20963" y="9928"/>
                  <a:pt x="20960" y="10071"/>
                </a:cubicBezTo>
                <a:cubicBezTo>
                  <a:pt x="20968" y="10104"/>
                  <a:pt x="20977" y="10137"/>
                  <a:pt x="20985" y="10170"/>
                </a:cubicBezTo>
                <a:cubicBezTo>
                  <a:pt x="21201" y="10201"/>
                  <a:pt x="21238" y="10120"/>
                  <a:pt x="21357" y="9947"/>
                </a:cubicBezTo>
                <a:cubicBezTo>
                  <a:pt x="21376" y="9889"/>
                  <a:pt x="21385" y="9882"/>
                  <a:pt x="21382" y="9847"/>
                </a:cubicBezTo>
                <a:cubicBezTo>
                  <a:pt x="21402" y="9989"/>
                  <a:pt x="21406" y="10123"/>
                  <a:pt x="21406" y="10269"/>
                </a:cubicBezTo>
                <a:cubicBezTo>
                  <a:pt x="21406" y="10388"/>
                  <a:pt x="21409" y="10456"/>
                  <a:pt x="21307" y="10368"/>
                </a:cubicBezTo>
              </a:path>
              <a:path w="2804" h="2159">
                <a:moveTo>
                  <a:pt x="19075" y="10269"/>
                </a:moveTo>
                <a:cubicBezTo>
                  <a:pt x="19193" y="10320"/>
                  <a:pt x="19313" y="10445"/>
                  <a:pt x="19372" y="10567"/>
                </a:cubicBezTo>
                <a:cubicBezTo>
                  <a:pt x="19428" y="10682"/>
                  <a:pt x="19415" y="10689"/>
                  <a:pt x="19348" y="10666"/>
                </a:cubicBezTo>
              </a:path>
              <a:path w="2804" h="2159">
                <a:moveTo>
                  <a:pt x="19273" y="10244"/>
                </a:moveTo>
                <a:cubicBezTo>
                  <a:pt x="19208" y="10418"/>
                  <a:pt x="19146" y="10586"/>
                  <a:pt x="19100" y="10765"/>
                </a:cubicBezTo>
              </a:path>
              <a:path w="2804" h="2159">
                <a:moveTo>
                  <a:pt x="19298" y="9699"/>
                </a:moveTo>
                <a:cubicBezTo>
                  <a:pt x="19298" y="9756"/>
                  <a:pt x="19287" y="9799"/>
                  <a:pt x="19323" y="9823"/>
                </a:cubicBezTo>
                <a:cubicBezTo>
                  <a:pt x="19323" y="9774"/>
                  <a:pt x="19327" y="9761"/>
                  <a:pt x="19298" y="9723"/>
                </a:cubicBezTo>
              </a:path>
              <a:path w="2804" h="2159">
                <a:moveTo>
                  <a:pt x="19596" y="9103"/>
                </a:moveTo>
                <a:cubicBezTo>
                  <a:pt x="19615" y="9198"/>
                  <a:pt x="19595" y="9228"/>
                  <a:pt x="19571" y="9327"/>
                </a:cubicBezTo>
                <a:cubicBezTo>
                  <a:pt x="19571" y="9335"/>
                  <a:pt x="19571" y="9343"/>
                  <a:pt x="19571" y="9351"/>
                </a:cubicBezTo>
                <a:cubicBezTo>
                  <a:pt x="19673" y="9351"/>
                  <a:pt x="19771" y="9330"/>
                  <a:pt x="19869" y="9302"/>
                </a:cubicBezTo>
                <a:cubicBezTo>
                  <a:pt x="19894" y="9294"/>
                  <a:pt x="19918" y="9285"/>
                  <a:pt x="19943" y="9277"/>
                </a:cubicBezTo>
              </a:path>
              <a:path w="2804" h="2159">
                <a:moveTo>
                  <a:pt x="19918" y="8954"/>
                </a:moveTo>
                <a:cubicBezTo>
                  <a:pt x="19918" y="9154"/>
                  <a:pt x="19934" y="9354"/>
                  <a:pt x="19893" y="9550"/>
                </a:cubicBezTo>
                <a:cubicBezTo>
                  <a:pt x="19874" y="9607"/>
                  <a:pt x="19866" y="9614"/>
                  <a:pt x="19869" y="9649"/>
                </a:cubicBezTo>
              </a:path>
              <a:path w="2804" h="2159">
                <a:moveTo>
                  <a:pt x="20216" y="9029"/>
                </a:moveTo>
                <a:cubicBezTo>
                  <a:pt x="20171" y="9102"/>
                  <a:pt x="20131" y="9175"/>
                  <a:pt x="20092" y="9252"/>
                </a:cubicBezTo>
                <a:cubicBezTo>
                  <a:pt x="20156" y="9330"/>
                  <a:pt x="20233" y="9325"/>
                  <a:pt x="20340" y="9302"/>
                </a:cubicBezTo>
                <a:cubicBezTo>
                  <a:pt x="20452" y="9278"/>
                  <a:pt x="20465" y="9274"/>
                  <a:pt x="20489" y="9178"/>
                </a:cubicBezTo>
              </a:path>
              <a:path w="2804" h="2159">
                <a:moveTo>
                  <a:pt x="20365" y="8880"/>
                </a:moveTo>
                <a:cubicBezTo>
                  <a:pt x="20316" y="9111"/>
                  <a:pt x="20274" y="9343"/>
                  <a:pt x="20241" y="9575"/>
                </a:cubicBezTo>
                <a:cubicBezTo>
                  <a:pt x="20241" y="9567"/>
                  <a:pt x="20241" y="9558"/>
                  <a:pt x="20241" y="9550"/>
                </a:cubicBezTo>
              </a:path>
              <a:path w="2804" h="2159">
                <a:moveTo>
                  <a:pt x="20910" y="8830"/>
                </a:moveTo>
                <a:cubicBezTo>
                  <a:pt x="20791" y="8902"/>
                  <a:pt x="20703" y="8954"/>
                  <a:pt x="20613" y="9054"/>
                </a:cubicBezTo>
                <a:cubicBezTo>
                  <a:pt x="20681" y="9190"/>
                  <a:pt x="20821" y="9221"/>
                  <a:pt x="20886" y="9351"/>
                </a:cubicBezTo>
                <a:cubicBezTo>
                  <a:pt x="20886" y="9408"/>
                  <a:pt x="20881" y="9429"/>
                  <a:pt x="20836" y="9451"/>
                </a:cubicBezTo>
                <a:cubicBezTo>
                  <a:pt x="20595" y="9347"/>
                  <a:pt x="20718" y="9219"/>
                  <a:pt x="20811" y="9004"/>
                </a:cubicBezTo>
                <a:cubicBezTo>
                  <a:pt x="20870" y="8867"/>
                  <a:pt x="20985" y="8746"/>
                  <a:pt x="20811" y="8781"/>
                </a:cubicBezTo>
              </a:path>
              <a:path w="2804" h="2159">
                <a:moveTo>
                  <a:pt x="18827" y="10914"/>
                </a:moveTo>
                <a:cubicBezTo>
                  <a:pt x="19129" y="10836"/>
                  <a:pt x="19435" y="10775"/>
                  <a:pt x="19745" y="10716"/>
                </a:cubicBezTo>
                <a:cubicBezTo>
                  <a:pt x="20320" y="10607"/>
                  <a:pt x="20896" y="10505"/>
                  <a:pt x="21481" y="10468"/>
                </a:cubicBezTo>
                <a:cubicBezTo>
                  <a:pt x="21575" y="10468"/>
                  <a:pt x="21596" y="10489"/>
                  <a:pt x="21630" y="1044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71840" y="1697040"/>
            <a:ext cx="590400" cy="347760"/>
          </a:xfrm>
          <a:custGeom>
            <a:avLst/>
            <a:gdLst/>
            <a:ahLst/>
            <a:rect l="l" t="t" r="r" b="b"/>
            <a:pathLst>
              <a:path w="1638" h="968">
                <a:moveTo>
                  <a:pt x="7144" y="5085"/>
                </a:moveTo>
                <a:cubicBezTo>
                  <a:pt x="7224" y="5085"/>
                  <a:pt x="7290" y="5071"/>
                  <a:pt x="7367" y="5060"/>
                </a:cubicBezTo>
                <a:cubicBezTo>
                  <a:pt x="7384" y="5060"/>
                  <a:pt x="7400" y="5060"/>
                  <a:pt x="7417" y="5060"/>
                </a:cubicBezTo>
              </a:path>
              <a:path w="1638" h="968">
                <a:moveTo>
                  <a:pt x="7813" y="4787"/>
                </a:moveTo>
                <a:cubicBezTo>
                  <a:pt x="7796" y="4858"/>
                  <a:pt x="7784" y="4846"/>
                  <a:pt x="7888" y="4812"/>
                </a:cubicBezTo>
                <a:cubicBezTo>
                  <a:pt x="8024" y="4768"/>
                  <a:pt x="8108" y="4865"/>
                  <a:pt x="8111" y="5011"/>
                </a:cubicBezTo>
                <a:cubicBezTo>
                  <a:pt x="8115" y="5230"/>
                  <a:pt x="7893" y="5456"/>
                  <a:pt x="7714" y="5556"/>
                </a:cubicBezTo>
                <a:cubicBezTo>
                  <a:pt x="7681" y="5564"/>
                  <a:pt x="7648" y="5573"/>
                  <a:pt x="7615" y="5581"/>
                </a:cubicBezTo>
                <a:cubicBezTo>
                  <a:pt x="7561" y="5528"/>
                  <a:pt x="7604" y="5363"/>
                  <a:pt x="7689" y="5308"/>
                </a:cubicBezTo>
                <a:cubicBezTo>
                  <a:pt x="7864" y="5195"/>
                  <a:pt x="8034" y="5254"/>
                  <a:pt x="8111" y="5432"/>
                </a:cubicBezTo>
                <a:cubicBezTo>
                  <a:pt x="8130" y="5506"/>
                  <a:pt x="8138" y="5513"/>
                  <a:pt x="8136" y="5556"/>
                </a:cubicBezTo>
              </a:path>
              <a:path w="1638" h="968">
                <a:moveTo>
                  <a:pt x="8334" y="4936"/>
                </a:moveTo>
                <a:cubicBezTo>
                  <a:pt x="8355" y="4989"/>
                  <a:pt x="8334" y="5082"/>
                  <a:pt x="8334" y="5159"/>
                </a:cubicBezTo>
                <a:cubicBezTo>
                  <a:pt x="8334" y="5176"/>
                  <a:pt x="8334" y="5192"/>
                  <a:pt x="8334" y="5209"/>
                </a:cubicBezTo>
                <a:cubicBezTo>
                  <a:pt x="8478" y="5209"/>
                  <a:pt x="8553" y="5174"/>
                  <a:pt x="8682" y="5110"/>
                </a:cubicBezTo>
                <a:cubicBezTo>
                  <a:pt x="8764" y="5068"/>
                  <a:pt x="8806" y="5068"/>
                  <a:pt x="8756" y="5011"/>
                </a:cubicBezTo>
              </a:path>
              <a:path w="1638" h="968">
                <a:moveTo>
                  <a:pt x="8632" y="4713"/>
                </a:moveTo>
                <a:cubicBezTo>
                  <a:pt x="8616" y="4889"/>
                  <a:pt x="8607" y="5055"/>
                  <a:pt x="8607" y="5234"/>
                </a:cubicBezTo>
                <a:cubicBezTo>
                  <a:pt x="8607" y="5332"/>
                  <a:pt x="8586" y="5606"/>
                  <a:pt x="8607" y="5680"/>
                </a:cubicBezTo>
                <a:cubicBezTo>
                  <a:pt x="8615" y="5680"/>
                  <a:pt x="8624" y="5680"/>
                  <a:pt x="8632" y="568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71880" y="2187720"/>
            <a:ext cx="330120" cy="304560"/>
          </a:xfrm>
          <a:custGeom>
            <a:avLst/>
            <a:gdLst/>
            <a:ahLst/>
            <a:rect l="l" t="t" r="r" b="b"/>
            <a:pathLst>
              <a:path w="919" h="845">
                <a:moveTo>
                  <a:pt x="8533" y="6573"/>
                </a:moveTo>
                <a:cubicBezTo>
                  <a:pt x="8562" y="6648"/>
                  <a:pt x="8638" y="6720"/>
                  <a:pt x="8682" y="6796"/>
                </a:cubicBezTo>
                <a:cubicBezTo>
                  <a:pt x="8702" y="6837"/>
                  <a:pt x="8699" y="6854"/>
                  <a:pt x="8731" y="6846"/>
                </a:cubicBezTo>
              </a:path>
              <a:path w="919" h="845">
                <a:moveTo>
                  <a:pt x="8706" y="6573"/>
                </a:moveTo>
                <a:cubicBezTo>
                  <a:pt x="8659" y="6662"/>
                  <a:pt x="8598" y="6756"/>
                  <a:pt x="8558" y="6846"/>
                </a:cubicBezTo>
                <a:cubicBezTo>
                  <a:pt x="8547" y="6870"/>
                  <a:pt x="8540" y="6894"/>
                  <a:pt x="8533" y="6921"/>
                </a:cubicBezTo>
              </a:path>
              <a:path w="919" h="845">
                <a:moveTo>
                  <a:pt x="8979" y="6152"/>
                </a:moveTo>
                <a:cubicBezTo>
                  <a:pt x="9075" y="6152"/>
                  <a:pt x="9184" y="6122"/>
                  <a:pt x="9277" y="6102"/>
                </a:cubicBezTo>
                <a:cubicBezTo>
                  <a:pt x="9367" y="6079"/>
                  <a:pt x="9391" y="6071"/>
                  <a:pt x="9451" y="6077"/>
                </a:cubicBezTo>
                <a:cubicBezTo>
                  <a:pt x="9388" y="6276"/>
                  <a:pt x="9313" y="6472"/>
                  <a:pt x="9252" y="6672"/>
                </a:cubicBezTo>
                <a:cubicBezTo>
                  <a:pt x="9238" y="6718"/>
                  <a:pt x="9190" y="6837"/>
                  <a:pt x="9252" y="679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08080" y="2178000"/>
            <a:ext cx="874800" cy="839880"/>
          </a:xfrm>
          <a:custGeom>
            <a:avLst/>
            <a:gdLst/>
            <a:ahLst/>
            <a:rect l="l" t="t" r="r" b="b"/>
            <a:pathLst>
              <a:path w="2432" h="2333">
                <a:moveTo>
                  <a:pt x="4986" y="8384"/>
                </a:moveTo>
                <a:cubicBezTo>
                  <a:pt x="4978" y="8384"/>
                  <a:pt x="4969" y="8384"/>
                  <a:pt x="4961" y="8384"/>
                </a:cubicBezTo>
              </a:path>
              <a:path w="2432" h="2333">
                <a:moveTo>
                  <a:pt x="4018" y="6548"/>
                </a:moveTo>
                <a:cubicBezTo>
                  <a:pt x="4018" y="6515"/>
                  <a:pt x="4092" y="6683"/>
                  <a:pt x="4118" y="6722"/>
                </a:cubicBezTo>
                <a:cubicBezTo>
                  <a:pt x="4157" y="6781"/>
                  <a:pt x="4242" y="6847"/>
                  <a:pt x="4266" y="6896"/>
                </a:cubicBezTo>
                <a:cubicBezTo>
                  <a:pt x="4266" y="6904"/>
                  <a:pt x="4266" y="6913"/>
                  <a:pt x="4266" y="6921"/>
                </a:cubicBezTo>
              </a:path>
              <a:path w="2432" h="2333">
                <a:moveTo>
                  <a:pt x="4291" y="6449"/>
                </a:moveTo>
                <a:cubicBezTo>
                  <a:pt x="4240" y="6602"/>
                  <a:pt x="4184" y="6785"/>
                  <a:pt x="4093" y="6921"/>
                </a:cubicBezTo>
                <a:cubicBezTo>
                  <a:pt x="4054" y="6959"/>
                  <a:pt x="4037" y="6961"/>
                  <a:pt x="4043" y="6995"/>
                </a:cubicBezTo>
              </a:path>
              <a:path w="2432" h="2333">
                <a:moveTo>
                  <a:pt x="3299" y="6077"/>
                </a:moveTo>
                <a:cubicBezTo>
                  <a:pt x="3376" y="6062"/>
                  <a:pt x="3421" y="6052"/>
                  <a:pt x="3497" y="6052"/>
                </a:cubicBezTo>
                <a:cubicBezTo>
                  <a:pt x="3497" y="6183"/>
                  <a:pt x="3465" y="6320"/>
                  <a:pt x="3448" y="6449"/>
                </a:cubicBezTo>
                <a:cubicBezTo>
                  <a:pt x="3430" y="6590"/>
                  <a:pt x="3398" y="6729"/>
                  <a:pt x="3398" y="6871"/>
                </a:cubicBezTo>
                <a:cubicBezTo>
                  <a:pt x="3398" y="6879"/>
                  <a:pt x="3398" y="6888"/>
                  <a:pt x="3398" y="6896"/>
                </a:cubicBezTo>
              </a:path>
              <a:path w="2432" h="2333">
                <a:moveTo>
                  <a:pt x="3076" y="6102"/>
                </a:moveTo>
                <a:cubicBezTo>
                  <a:pt x="3134" y="6139"/>
                  <a:pt x="3101" y="6104"/>
                  <a:pt x="3175" y="6176"/>
                </a:cubicBezTo>
                <a:cubicBezTo>
                  <a:pt x="3285" y="6282"/>
                  <a:pt x="3373" y="6440"/>
                  <a:pt x="3448" y="6573"/>
                </a:cubicBezTo>
                <a:cubicBezTo>
                  <a:pt x="3504" y="6673"/>
                  <a:pt x="3571" y="6781"/>
                  <a:pt x="3646" y="6871"/>
                </a:cubicBezTo>
                <a:cubicBezTo>
                  <a:pt x="3717" y="6957"/>
                  <a:pt x="3814" y="7030"/>
                  <a:pt x="3919" y="7069"/>
                </a:cubicBezTo>
                <a:cubicBezTo>
                  <a:pt x="4048" y="7117"/>
                  <a:pt x="4207" y="7179"/>
                  <a:pt x="4316" y="7268"/>
                </a:cubicBezTo>
                <a:cubicBezTo>
                  <a:pt x="4412" y="7346"/>
                  <a:pt x="4476" y="7460"/>
                  <a:pt x="4564" y="7541"/>
                </a:cubicBezTo>
                <a:cubicBezTo>
                  <a:pt x="4629" y="7602"/>
                  <a:pt x="4718" y="7655"/>
                  <a:pt x="4787" y="7714"/>
                </a:cubicBezTo>
                <a:cubicBezTo>
                  <a:pt x="4875" y="7789"/>
                  <a:pt x="4963" y="7827"/>
                  <a:pt x="5060" y="7888"/>
                </a:cubicBezTo>
                <a:cubicBezTo>
                  <a:pt x="5149" y="7944"/>
                  <a:pt x="5243" y="8017"/>
                  <a:pt x="5333" y="8062"/>
                </a:cubicBezTo>
                <a:cubicBezTo>
                  <a:pt x="5390" y="8090"/>
                  <a:pt x="5407" y="8079"/>
                  <a:pt x="5432" y="8062"/>
                </a:cubicBezTo>
                <a:cubicBezTo>
                  <a:pt x="5457" y="8029"/>
                  <a:pt x="5482" y="7995"/>
                  <a:pt x="5507" y="796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24040" y="3071880"/>
            <a:ext cx="330120" cy="277920"/>
          </a:xfrm>
          <a:custGeom>
            <a:avLst/>
            <a:gdLst/>
            <a:ahLst/>
            <a:rect l="l" t="t" r="r" b="b"/>
            <a:pathLst>
              <a:path w="919" h="770">
                <a:moveTo>
                  <a:pt x="4887" y="8830"/>
                </a:moveTo>
                <a:cubicBezTo>
                  <a:pt x="4870" y="8913"/>
                  <a:pt x="4857" y="8946"/>
                  <a:pt x="4837" y="9029"/>
                </a:cubicBezTo>
                <a:cubicBezTo>
                  <a:pt x="4818" y="9110"/>
                  <a:pt x="4803" y="9196"/>
                  <a:pt x="4787" y="9277"/>
                </a:cubicBezTo>
                <a:cubicBezTo>
                  <a:pt x="4787" y="9175"/>
                  <a:pt x="4810" y="9127"/>
                  <a:pt x="4837" y="9029"/>
                </a:cubicBezTo>
                <a:cubicBezTo>
                  <a:pt x="4888" y="8842"/>
                  <a:pt x="4927" y="8741"/>
                  <a:pt x="5060" y="8607"/>
                </a:cubicBezTo>
                <a:cubicBezTo>
                  <a:pt x="5238" y="8696"/>
                  <a:pt x="5239" y="8789"/>
                  <a:pt x="5283" y="8979"/>
                </a:cubicBezTo>
                <a:cubicBezTo>
                  <a:pt x="5291" y="9012"/>
                  <a:pt x="5300" y="9046"/>
                  <a:pt x="5308" y="9079"/>
                </a:cubicBezTo>
                <a:cubicBezTo>
                  <a:pt x="5227" y="9279"/>
                  <a:pt x="5329" y="8947"/>
                  <a:pt x="5333" y="8930"/>
                </a:cubicBezTo>
                <a:cubicBezTo>
                  <a:pt x="5367" y="8786"/>
                  <a:pt x="5459" y="8666"/>
                  <a:pt x="5556" y="8558"/>
                </a:cubicBezTo>
                <a:cubicBezTo>
                  <a:pt x="5584" y="8530"/>
                  <a:pt x="5598" y="8521"/>
                  <a:pt x="5631" y="8533"/>
                </a:cubicBezTo>
                <a:cubicBezTo>
                  <a:pt x="5709" y="8702"/>
                  <a:pt x="5705" y="8842"/>
                  <a:pt x="5705" y="9029"/>
                </a:cubicBezTo>
                <a:cubicBezTo>
                  <a:pt x="5705" y="9087"/>
                  <a:pt x="5705" y="9095"/>
                  <a:pt x="5705" y="912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32000" y="3098880"/>
            <a:ext cx="108000" cy="108000"/>
          </a:xfrm>
          <a:custGeom>
            <a:avLst/>
            <a:gdLst/>
            <a:ahLst/>
            <a:rect l="l" t="t" r="r" b="b"/>
            <a:pathLst>
              <a:path w="299" h="299">
                <a:moveTo>
                  <a:pt x="6251" y="8632"/>
                </a:moveTo>
                <a:cubicBezTo>
                  <a:pt x="6333" y="8632"/>
                  <a:pt x="6394" y="8612"/>
                  <a:pt x="6474" y="8607"/>
                </a:cubicBezTo>
                <a:cubicBezTo>
                  <a:pt x="6482" y="8607"/>
                  <a:pt x="6491" y="8607"/>
                  <a:pt x="6499" y="8607"/>
                </a:cubicBezTo>
              </a:path>
              <a:path w="299" h="299">
                <a:moveTo>
                  <a:pt x="6201" y="8905"/>
                </a:moveTo>
                <a:cubicBezTo>
                  <a:pt x="6280" y="8849"/>
                  <a:pt x="6380" y="8787"/>
                  <a:pt x="6474" y="8756"/>
                </a:cubicBezTo>
                <a:cubicBezTo>
                  <a:pt x="6482" y="8756"/>
                  <a:pt x="6491" y="8756"/>
                  <a:pt x="6499" y="875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17840" y="2857680"/>
            <a:ext cx="546120" cy="401400"/>
          </a:xfrm>
          <a:custGeom>
            <a:avLst/>
            <a:gdLst/>
            <a:ahLst/>
            <a:rect l="l" t="t" r="r" b="b"/>
            <a:pathLst>
              <a:path w="1514" h="1117">
                <a:moveTo>
                  <a:pt x="7466" y="8136"/>
                </a:moveTo>
                <a:cubicBezTo>
                  <a:pt x="7437" y="8295"/>
                  <a:pt x="7396" y="8452"/>
                  <a:pt x="7367" y="8607"/>
                </a:cubicBezTo>
                <a:cubicBezTo>
                  <a:pt x="7481" y="8636"/>
                  <a:pt x="7611" y="8570"/>
                  <a:pt x="7739" y="8558"/>
                </a:cubicBezTo>
                <a:cubicBezTo>
                  <a:pt x="7849" y="8547"/>
                  <a:pt x="7850" y="8533"/>
                  <a:pt x="7863" y="8607"/>
                </a:cubicBezTo>
              </a:path>
              <a:path w="1514" h="1117">
                <a:moveTo>
                  <a:pt x="7813" y="7962"/>
                </a:moveTo>
                <a:cubicBezTo>
                  <a:pt x="7749" y="8275"/>
                  <a:pt x="7703" y="8591"/>
                  <a:pt x="7640" y="8905"/>
                </a:cubicBezTo>
                <a:cubicBezTo>
                  <a:pt x="7635" y="8929"/>
                  <a:pt x="7622" y="9093"/>
                  <a:pt x="7590" y="9029"/>
                </a:cubicBezTo>
              </a:path>
              <a:path w="1514" h="1117">
                <a:moveTo>
                  <a:pt x="8483" y="8186"/>
                </a:moveTo>
                <a:cubicBezTo>
                  <a:pt x="8511" y="8120"/>
                  <a:pt x="8517" y="8046"/>
                  <a:pt x="8458" y="7987"/>
                </a:cubicBezTo>
                <a:cubicBezTo>
                  <a:pt x="8343" y="7872"/>
                  <a:pt x="8217" y="7995"/>
                  <a:pt x="8161" y="8111"/>
                </a:cubicBezTo>
                <a:cubicBezTo>
                  <a:pt x="8094" y="8251"/>
                  <a:pt x="8044" y="8534"/>
                  <a:pt x="8235" y="8607"/>
                </a:cubicBezTo>
                <a:cubicBezTo>
                  <a:pt x="8383" y="8663"/>
                  <a:pt x="8466" y="8436"/>
                  <a:pt x="8483" y="8334"/>
                </a:cubicBezTo>
                <a:cubicBezTo>
                  <a:pt x="8483" y="8301"/>
                  <a:pt x="8483" y="8268"/>
                  <a:pt x="8483" y="8235"/>
                </a:cubicBezTo>
                <a:cubicBezTo>
                  <a:pt x="8483" y="8134"/>
                  <a:pt x="8442" y="8382"/>
                  <a:pt x="8434" y="8483"/>
                </a:cubicBezTo>
                <a:cubicBezTo>
                  <a:pt x="8419" y="8661"/>
                  <a:pt x="8409" y="8849"/>
                  <a:pt x="8409" y="9029"/>
                </a:cubicBezTo>
              </a:path>
              <a:path w="1514" h="1117">
                <a:moveTo>
                  <a:pt x="6995" y="8210"/>
                </a:moveTo>
                <a:cubicBezTo>
                  <a:pt x="7060" y="8197"/>
                  <a:pt x="7159" y="8185"/>
                  <a:pt x="7218" y="8161"/>
                </a:cubicBezTo>
                <a:cubicBezTo>
                  <a:pt x="7241" y="8138"/>
                  <a:pt x="7249" y="8127"/>
                  <a:pt x="7243" y="816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91200" y="2894040"/>
            <a:ext cx="322560" cy="258840"/>
          </a:xfrm>
          <a:custGeom>
            <a:avLst/>
            <a:gdLst/>
            <a:ahLst/>
            <a:rect l="l" t="t" r="r" b="b"/>
            <a:pathLst>
              <a:path w="894" h="720">
                <a:moveTo>
                  <a:pt x="19993" y="8384"/>
                </a:moveTo>
                <a:cubicBezTo>
                  <a:pt x="20087" y="8346"/>
                  <a:pt x="20192" y="8311"/>
                  <a:pt x="20290" y="8285"/>
                </a:cubicBezTo>
                <a:cubicBezTo>
                  <a:pt x="20298" y="8285"/>
                  <a:pt x="20307" y="8285"/>
                  <a:pt x="20315" y="8285"/>
                </a:cubicBezTo>
                <a:cubicBezTo>
                  <a:pt x="20303" y="8376"/>
                  <a:pt x="20270" y="8468"/>
                  <a:pt x="20241" y="8558"/>
                </a:cubicBezTo>
                <a:cubicBezTo>
                  <a:pt x="20233" y="8583"/>
                  <a:pt x="20224" y="8607"/>
                  <a:pt x="20216" y="8632"/>
                </a:cubicBezTo>
              </a:path>
              <a:path w="894" h="720">
                <a:moveTo>
                  <a:pt x="19447" y="8409"/>
                </a:moveTo>
                <a:cubicBezTo>
                  <a:pt x="19407" y="8435"/>
                  <a:pt x="19413" y="8491"/>
                  <a:pt x="19472" y="8508"/>
                </a:cubicBezTo>
                <a:cubicBezTo>
                  <a:pt x="19593" y="8544"/>
                  <a:pt x="19605" y="8528"/>
                  <a:pt x="19695" y="8458"/>
                </a:cubicBezTo>
              </a:path>
              <a:path w="894" h="720">
                <a:moveTo>
                  <a:pt x="19645" y="8285"/>
                </a:moveTo>
                <a:cubicBezTo>
                  <a:pt x="19645" y="8447"/>
                  <a:pt x="19636" y="8598"/>
                  <a:pt x="19621" y="8756"/>
                </a:cubicBezTo>
              </a:path>
              <a:path w="894" h="720">
                <a:moveTo>
                  <a:pt x="19993" y="8161"/>
                </a:moveTo>
                <a:cubicBezTo>
                  <a:pt x="20012" y="8115"/>
                  <a:pt x="20039" y="7996"/>
                  <a:pt x="20067" y="8037"/>
                </a:cubicBezTo>
                <a:cubicBezTo>
                  <a:pt x="20127" y="8124"/>
                  <a:pt x="20129" y="8421"/>
                  <a:pt x="20141" y="8533"/>
                </a:cubicBezTo>
                <a:cubicBezTo>
                  <a:pt x="20141" y="8558"/>
                  <a:pt x="20141" y="8582"/>
                  <a:pt x="20141" y="8607"/>
                </a:cubicBezTo>
                <a:cubicBezTo>
                  <a:pt x="20141" y="8599"/>
                  <a:pt x="20141" y="8590"/>
                  <a:pt x="20141" y="8582"/>
                </a:cubicBezTo>
                <a:cubicBezTo>
                  <a:pt x="20163" y="8419"/>
                  <a:pt x="20137" y="8253"/>
                  <a:pt x="20117" y="8086"/>
                </a:cubicBezTo>
                <a:cubicBezTo>
                  <a:pt x="20117" y="8078"/>
                  <a:pt x="20117" y="8070"/>
                  <a:pt x="20117" y="8062"/>
                </a:cubicBezTo>
                <a:cubicBezTo>
                  <a:pt x="20117" y="8258"/>
                  <a:pt x="20138" y="8439"/>
                  <a:pt x="20166" y="8632"/>
                </a:cubicBezTo>
                <a:cubicBezTo>
                  <a:pt x="20178" y="8715"/>
                  <a:pt x="20189" y="8598"/>
                  <a:pt x="20191" y="858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77960" y="3724200"/>
            <a:ext cx="1314360" cy="1116000"/>
          </a:xfrm>
          <a:custGeom>
            <a:avLst/>
            <a:gdLst/>
            <a:ahLst/>
            <a:rect l="l" t="t" r="r" b="b"/>
            <a:pathLst>
              <a:path w="3648" h="3101">
                <a:moveTo>
                  <a:pt x="4663" y="10344"/>
                </a:moveTo>
                <a:cubicBezTo>
                  <a:pt x="4729" y="10588"/>
                  <a:pt x="4788" y="10955"/>
                  <a:pt x="4812" y="11237"/>
                </a:cubicBezTo>
                <a:cubicBezTo>
                  <a:pt x="4834" y="11495"/>
                  <a:pt x="4803" y="11872"/>
                  <a:pt x="4887" y="12129"/>
                </a:cubicBezTo>
                <a:cubicBezTo>
                  <a:pt x="4887" y="12154"/>
                  <a:pt x="4887" y="12162"/>
                  <a:pt x="4911" y="12154"/>
                </a:cubicBezTo>
              </a:path>
              <a:path w="3648" h="3101">
                <a:moveTo>
                  <a:pt x="5482" y="12799"/>
                </a:moveTo>
                <a:cubicBezTo>
                  <a:pt x="5577" y="12856"/>
                  <a:pt x="5635" y="12989"/>
                  <a:pt x="5680" y="13097"/>
                </a:cubicBezTo>
                <a:cubicBezTo>
                  <a:pt x="5700" y="13145"/>
                  <a:pt x="5720" y="13197"/>
                  <a:pt x="5730" y="13246"/>
                </a:cubicBezTo>
              </a:path>
              <a:path w="3648" h="3101">
                <a:moveTo>
                  <a:pt x="5755" y="12700"/>
                </a:moveTo>
                <a:cubicBezTo>
                  <a:pt x="5682" y="12890"/>
                  <a:pt x="5626" y="13073"/>
                  <a:pt x="5581" y="13271"/>
                </a:cubicBezTo>
                <a:cubicBezTo>
                  <a:pt x="5568" y="13328"/>
                  <a:pt x="5558" y="13420"/>
                  <a:pt x="5531" y="13395"/>
                </a:cubicBezTo>
              </a:path>
              <a:path w="3648" h="3101">
                <a:moveTo>
                  <a:pt x="6052" y="12874"/>
                </a:moveTo>
                <a:cubicBezTo>
                  <a:pt x="6161" y="12889"/>
                  <a:pt x="6261" y="12874"/>
                  <a:pt x="6375" y="12874"/>
                </a:cubicBezTo>
                <a:cubicBezTo>
                  <a:pt x="6400" y="12874"/>
                  <a:pt x="6408" y="12874"/>
                  <a:pt x="6400" y="12898"/>
                </a:cubicBezTo>
              </a:path>
              <a:path w="3648" h="3101">
                <a:moveTo>
                  <a:pt x="6102" y="13097"/>
                </a:moveTo>
                <a:cubicBezTo>
                  <a:pt x="6234" y="13097"/>
                  <a:pt x="6367" y="13097"/>
                  <a:pt x="6499" y="13097"/>
                </a:cubicBezTo>
              </a:path>
              <a:path w="3648" h="3101">
                <a:moveTo>
                  <a:pt x="6995" y="12750"/>
                </a:moveTo>
                <a:cubicBezTo>
                  <a:pt x="7025" y="12839"/>
                  <a:pt x="7087" y="12916"/>
                  <a:pt x="7069" y="13022"/>
                </a:cubicBezTo>
                <a:cubicBezTo>
                  <a:pt x="7061" y="13039"/>
                  <a:pt x="7053" y="13055"/>
                  <a:pt x="7045" y="13072"/>
                </a:cubicBezTo>
                <a:cubicBezTo>
                  <a:pt x="7045" y="12972"/>
                  <a:pt x="7070" y="12976"/>
                  <a:pt x="7169" y="12973"/>
                </a:cubicBezTo>
                <a:cubicBezTo>
                  <a:pt x="7235" y="12971"/>
                  <a:pt x="7301" y="12973"/>
                  <a:pt x="7367" y="12973"/>
                </a:cubicBezTo>
              </a:path>
              <a:path w="3648" h="3101">
                <a:moveTo>
                  <a:pt x="7218" y="12626"/>
                </a:moveTo>
                <a:cubicBezTo>
                  <a:pt x="7249" y="12797"/>
                  <a:pt x="7367" y="13028"/>
                  <a:pt x="7367" y="13196"/>
                </a:cubicBezTo>
                <a:cubicBezTo>
                  <a:pt x="7359" y="13221"/>
                  <a:pt x="7350" y="13246"/>
                  <a:pt x="7342" y="13271"/>
                </a:cubicBezTo>
              </a:path>
              <a:path w="3648" h="3101">
                <a:moveTo>
                  <a:pt x="6871" y="13444"/>
                </a:moveTo>
                <a:cubicBezTo>
                  <a:pt x="6871" y="13436"/>
                  <a:pt x="6871" y="13427"/>
                  <a:pt x="6871" y="13419"/>
                </a:cubicBezTo>
              </a:path>
              <a:path w="3648" h="3101">
                <a:moveTo>
                  <a:pt x="7565" y="12700"/>
                </a:moveTo>
                <a:cubicBezTo>
                  <a:pt x="7600" y="12781"/>
                  <a:pt x="7590" y="12878"/>
                  <a:pt x="7590" y="12973"/>
                </a:cubicBezTo>
                <a:cubicBezTo>
                  <a:pt x="7590" y="12981"/>
                  <a:pt x="7590" y="12990"/>
                  <a:pt x="7590" y="12998"/>
                </a:cubicBezTo>
                <a:cubicBezTo>
                  <a:pt x="7672" y="12991"/>
                  <a:pt x="7736" y="12964"/>
                  <a:pt x="7813" y="12948"/>
                </a:cubicBezTo>
              </a:path>
              <a:path w="3648" h="3101">
                <a:moveTo>
                  <a:pt x="7640" y="12650"/>
                </a:moveTo>
                <a:cubicBezTo>
                  <a:pt x="7681" y="12832"/>
                  <a:pt x="7761" y="13013"/>
                  <a:pt x="7789" y="13196"/>
                </a:cubicBezTo>
                <a:cubicBezTo>
                  <a:pt x="7789" y="13254"/>
                  <a:pt x="7772" y="13279"/>
                  <a:pt x="7813" y="13271"/>
                </a:cubicBezTo>
              </a:path>
              <a:path w="3648" h="3101">
                <a:moveTo>
                  <a:pt x="7987" y="12650"/>
                </a:moveTo>
                <a:cubicBezTo>
                  <a:pt x="7947" y="12757"/>
                  <a:pt x="7871" y="12881"/>
                  <a:pt x="8012" y="12923"/>
                </a:cubicBezTo>
                <a:cubicBezTo>
                  <a:pt x="8165" y="12968"/>
                  <a:pt x="8272" y="12925"/>
                  <a:pt x="8310" y="13097"/>
                </a:cubicBezTo>
                <a:cubicBezTo>
                  <a:pt x="8142" y="13036"/>
                  <a:pt x="8165" y="12883"/>
                  <a:pt x="8161" y="12700"/>
                </a:cubicBezTo>
                <a:cubicBezTo>
                  <a:pt x="8158" y="12578"/>
                  <a:pt x="8176" y="12587"/>
                  <a:pt x="8086" y="1262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42080" y="4133880"/>
            <a:ext cx="1303200" cy="339840"/>
          </a:xfrm>
          <a:custGeom>
            <a:avLst/>
            <a:gdLst/>
            <a:ahLst/>
            <a:rect l="l" t="t" r="r" b="b"/>
            <a:pathLst>
              <a:path w="3622" h="943">
                <a:moveTo>
                  <a:pt x="19993" y="11708"/>
                </a:moveTo>
                <a:cubicBezTo>
                  <a:pt x="20043" y="11691"/>
                  <a:pt x="20049" y="11616"/>
                  <a:pt x="20017" y="11559"/>
                </a:cubicBezTo>
                <a:cubicBezTo>
                  <a:pt x="19971" y="11512"/>
                  <a:pt x="19959" y="11498"/>
                  <a:pt x="19918" y="11485"/>
                </a:cubicBezTo>
                <a:cubicBezTo>
                  <a:pt x="19817" y="11569"/>
                  <a:pt x="19670" y="11700"/>
                  <a:pt x="19720" y="11857"/>
                </a:cubicBezTo>
                <a:cubicBezTo>
                  <a:pt x="19736" y="11873"/>
                  <a:pt x="19753" y="11890"/>
                  <a:pt x="19769" y="11906"/>
                </a:cubicBezTo>
                <a:cubicBezTo>
                  <a:pt x="19914" y="11848"/>
                  <a:pt x="19967" y="11814"/>
                  <a:pt x="19993" y="11658"/>
                </a:cubicBezTo>
                <a:cubicBezTo>
                  <a:pt x="20053" y="11700"/>
                  <a:pt x="20006" y="11899"/>
                  <a:pt x="20017" y="11981"/>
                </a:cubicBezTo>
                <a:cubicBezTo>
                  <a:pt x="20028" y="12061"/>
                  <a:pt x="20068" y="12174"/>
                  <a:pt x="20017" y="12005"/>
                </a:cubicBezTo>
              </a:path>
              <a:path w="3622" h="943">
                <a:moveTo>
                  <a:pt x="19298" y="11609"/>
                </a:moveTo>
                <a:cubicBezTo>
                  <a:pt x="19226" y="11555"/>
                  <a:pt x="19181" y="11629"/>
                  <a:pt x="19124" y="11683"/>
                </a:cubicBezTo>
                <a:cubicBezTo>
                  <a:pt x="19116" y="11691"/>
                  <a:pt x="19108" y="11700"/>
                  <a:pt x="19100" y="11708"/>
                </a:cubicBezTo>
                <a:cubicBezTo>
                  <a:pt x="19243" y="11825"/>
                  <a:pt x="19442" y="11832"/>
                  <a:pt x="19571" y="11956"/>
                </a:cubicBezTo>
                <a:cubicBezTo>
                  <a:pt x="19579" y="11981"/>
                  <a:pt x="19588" y="12005"/>
                  <a:pt x="19596" y="12030"/>
                </a:cubicBezTo>
                <a:cubicBezTo>
                  <a:pt x="19544" y="12082"/>
                  <a:pt x="19334" y="12243"/>
                  <a:pt x="19323" y="12055"/>
                </a:cubicBezTo>
                <a:cubicBezTo>
                  <a:pt x="19312" y="11874"/>
                  <a:pt x="19550" y="11730"/>
                  <a:pt x="19496" y="11559"/>
                </a:cubicBezTo>
                <a:cubicBezTo>
                  <a:pt x="19468" y="11470"/>
                  <a:pt x="19353" y="11542"/>
                  <a:pt x="19323" y="11559"/>
                </a:cubicBezTo>
              </a:path>
              <a:path w="3622" h="943">
                <a:moveTo>
                  <a:pt x="19050" y="12427"/>
                </a:moveTo>
                <a:cubicBezTo>
                  <a:pt x="19443" y="12265"/>
                  <a:pt x="19844" y="12199"/>
                  <a:pt x="20265" y="12129"/>
                </a:cubicBezTo>
                <a:cubicBezTo>
                  <a:pt x="20846" y="12033"/>
                  <a:pt x="21425" y="11946"/>
                  <a:pt x="22002" y="11832"/>
                </a:cubicBezTo>
                <a:cubicBezTo>
                  <a:pt x="22213" y="11793"/>
                  <a:pt x="22252" y="11811"/>
                  <a:pt x="22349" y="11733"/>
                </a:cubicBezTo>
              </a:path>
              <a:path w="3622" h="943">
                <a:moveTo>
                  <a:pt x="18852" y="11658"/>
                </a:moveTo>
                <a:cubicBezTo>
                  <a:pt x="18884" y="11765"/>
                  <a:pt x="18918" y="11870"/>
                  <a:pt x="18926" y="11981"/>
                </a:cubicBezTo>
                <a:cubicBezTo>
                  <a:pt x="18926" y="11989"/>
                  <a:pt x="18926" y="11997"/>
                  <a:pt x="18926" y="12005"/>
                </a:cubicBezTo>
              </a:path>
              <a:path w="3622" h="943">
                <a:moveTo>
                  <a:pt x="18728" y="11956"/>
                </a:moveTo>
                <a:cubicBezTo>
                  <a:pt x="18849" y="11907"/>
                  <a:pt x="19043" y="11782"/>
                  <a:pt x="19174" y="11782"/>
                </a:cubicBezTo>
                <a:cubicBezTo>
                  <a:pt x="19182" y="11790"/>
                  <a:pt x="19191" y="11799"/>
                  <a:pt x="19199" y="1180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38200" y="4098960"/>
            <a:ext cx="490680" cy="349200"/>
          </a:xfrm>
          <a:custGeom>
            <a:avLst/>
            <a:gdLst/>
            <a:ahLst/>
            <a:rect l="l" t="t" r="r" b="b"/>
            <a:pathLst>
              <a:path w="1365" h="969">
                <a:moveTo>
                  <a:pt x="3994" y="11509"/>
                </a:moveTo>
                <a:cubicBezTo>
                  <a:pt x="4025" y="11501"/>
                  <a:pt x="4062" y="11496"/>
                  <a:pt x="4093" y="11485"/>
                </a:cubicBezTo>
                <a:cubicBezTo>
                  <a:pt x="4203" y="11445"/>
                  <a:pt x="4296" y="11482"/>
                  <a:pt x="4415" y="11485"/>
                </a:cubicBezTo>
                <a:cubicBezTo>
                  <a:pt x="4608" y="11490"/>
                  <a:pt x="4820" y="11459"/>
                  <a:pt x="5011" y="11435"/>
                </a:cubicBezTo>
                <a:cubicBezTo>
                  <a:pt x="5124" y="11421"/>
                  <a:pt x="5219" y="11385"/>
                  <a:pt x="5333" y="11385"/>
                </a:cubicBezTo>
                <a:cubicBezTo>
                  <a:pt x="5341" y="11385"/>
                  <a:pt x="5350" y="11385"/>
                  <a:pt x="5358" y="11385"/>
                </a:cubicBezTo>
              </a:path>
              <a:path w="1365" h="969">
                <a:moveTo>
                  <a:pt x="4167" y="11733"/>
                </a:moveTo>
                <a:cubicBezTo>
                  <a:pt x="4167" y="11749"/>
                  <a:pt x="4167" y="11766"/>
                  <a:pt x="4167" y="11782"/>
                </a:cubicBezTo>
                <a:cubicBezTo>
                  <a:pt x="4153" y="11747"/>
                  <a:pt x="4098" y="11628"/>
                  <a:pt x="4192" y="11633"/>
                </a:cubicBezTo>
                <a:cubicBezTo>
                  <a:pt x="4385" y="11642"/>
                  <a:pt x="4347" y="11991"/>
                  <a:pt x="4316" y="12105"/>
                </a:cubicBezTo>
                <a:cubicBezTo>
                  <a:pt x="4265" y="12295"/>
                  <a:pt x="4223" y="12328"/>
                  <a:pt x="4068" y="12328"/>
                </a:cubicBezTo>
                <a:cubicBezTo>
                  <a:pt x="4009" y="12172"/>
                  <a:pt x="3969" y="12044"/>
                  <a:pt x="4192" y="12055"/>
                </a:cubicBezTo>
                <a:cubicBezTo>
                  <a:pt x="4355" y="12063"/>
                  <a:pt x="4442" y="12146"/>
                  <a:pt x="4514" y="12278"/>
                </a:cubicBezTo>
              </a:path>
              <a:path w="1365" h="969">
                <a:moveTo>
                  <a:pt x="5035" y="11708"/>
                </a:moveTo>
                <a:lnTo>
                  <a:pt x="4986" y="11683"/>
                </a:lnTo>
                <a:lnTo>
                  <a:pt x="4936" y="11633"/>
                </a:lnTo>
                <a:lnTo>
                  <a:pt x="4862" y="11633"/>
                </a:lnTo>
                <a:lnTo>
                  <a:pt x="4762" y="11683"/>
                </a:lnTo>
                <a:lnTo>
                  <a:pt x="4663" y="11733"/>
                </a:lnTo>
                <a:lnTo>
                  <a:pt x="4614" y="11832"/>
                </a:lnTo>
                <a:lnTo>
                  <a:pt x="4589" y="11906"/>
                </a:lnTo>
                <a:lnTo>
                  <a:pt x="4638" y="11981"/>
                </a:lnTo>
                <a:lnTo>
                  <a:pt x="4688" y="11981"/>
                </a:lnTo>
                <a:lnTo>
                  <a:pt x="4787" y="11956"/>
                </a:lnTo>
                <a:lnTo>
                  <a:pt x="4887" y="11881"/>
                </a:lnTo>
                <a:lnTo>
                  <a:pt x="4986" y="11757"/>
                </a:lnTo>
                <a:lnTo>
                  <a:pt x="5011" y="11683"/>
                </a:lnTo>
                <a:lnTo>
                  <a:pt x="5035" y="11633"/>
                </a:lnTo>
                <a:lnTo>
                  <a:pt x="5035" y="11658"/>
                </a:lnTo>
                <a:lnTo>
                  <a:pt x="5035" y="11708"/>
                </a:lnTo>
                <a:lnTo>
                  <a:pt x="5060" y="11857"/>
                </a:lnTo>
                <a:lnTo>
                  <a:pt x="5085" y="12005"/>
                </a:lnTo>
                <a:lnTo>
                  <a:pt x="5110" y="12129"/>
                </a:lnTo>
                <a:lnTo>
                  <a:pt x="5110" y="12204"/>
                </a:lnTo>
                <a:lnTo>
                  <a:pt x="5110" y="12204"/>
                </a:lnTo>
                <a:lnTo>
                  <a:pt x="5110" y="12179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44840" y="4062240"/>
            <a:ext cx="428400" cy="339840"/>
          </a:xfrm>
          <a:custGeom>
            <a:avLst/>
            <a:gdLst/>
            <a:ahLst/>
            <a:rect l="l" t="t" r="r" b="b"/>
            <a:pathLst>
              <a:path w="1192" h="944">
                <a:moveTo>
                  <a:pt x="7094" y="11410"/>
                </a:moveTo>
                <a:cubicBezTo>
                  <a:pt x="7225" y="11410"/>
                  <a:pt x="7361" y="11397"/>
                  <a:pt x="7491" y="11385"/>
                </a:cubicBezTo>
                <a:cubicBezTo>
                  <a:pt x="7703" y="11366"/>
                  <a:pt x="7904" y="11304"/>
                  <a:pt x="8111" y="11286"/>
                </a:cubicBezTo>
                <a:cubicBezTo>
                  <a:pt x="8119" y="11286"/>
                  <a:pt x="8128" y="11286"/>
                  <a:pt x="8136" y="11286"/>
                </a:cubicBezTo>
              </a:path>
              <a:path w="1192" h="944">
                <a:moveTo>
                  <a:pt x="7317" y="11633"/>
                </a:moveTo>
                <a:cubicBezTo>
                  <a:pt x="7317" y="11695"/>
                  <a:pt x="7322" y="11748"/>
                  <a:pt x="7293" y="11807"/>
                </a:cubicBezTo>
                <a:cubicBezTo>
                  <a:pt x="7293" y="11799"/>
                  <a:pt x="7293" y="11790"/>
                  <a:pt x="7293" y="11782"/>
                </a:cubicBezTo>
                <a:cubicBezTo>
                  <a:pt x="7324" y="11702"/>
                  <a:pt x="7351" y="11634"/>
                  <a:pt x="7392" y="11559"/>
                </a:cubicBezTo>
                <a:cubicBezTo>
                  <a:pt x="7494" y="11580"/>
                  <a:pt x="7495" y="11712"/>
                  <a:pt x="7466" y="11807"/>
                </a:cubicBezTo>
                <a:cubicBezTo>
                  <a:pt x="7405" y="12008"/>
                  <a:pt x="7272" y="12140"/>
                  <a:pt x="7094" y="12229"/>
                </a:cubicBezTo>
                <a:cubicBezTo>
                  <a:pt x="7080" y="12092"/>
                  <a:pt x="7144" y="12010"/>
                  <a:pt x="7293" y="11981"/>
                </a:cubicBezTo>
                <a:cubicBezTo>
                  <a:pt x="7437" y="11953"/>
                  <a:pt x="7463" y="12114"/>
                  <a:pt x="7516" y="12204"/>
                </a:cubicBezTo>
                <a:cubicBezTo>
                  <a:pt x="7544" y="12232"/>
                  <a:pt x="7553" y="12236"/>
                  <a:pt x="7541" y="12179"/>
                </a:cubicBezTo>
              </a:path>
              <a:path w="1192" h="944">
                <a:moveTo>
                  <a:pt x="8260" y="11609"/>
                </a:moveTo>
                <a:cubicBezTo>
                  <a:pt x="8182" y="11546"/>
                  <a:pt x="8141" y="11522"/>
                  <a:pt x="8037" y="11559"/>
                </a:cubicBezTo>
                <a:cubicBezTo>
                  <a:pt x="7880" y="11615"/>
                  <a:pt x="7798" y="11708"/>
                  <a:pt x="7764" y="11857"/>
                </a:cubicBezTo>
                <a:cubicBezTo>
                  <a:pt x="7926" y="11953"/>
                  <a:pt x="7995" y="11876"/>
                  <a:pt x="8111" y="11733"/>
                </a:cubicBezTo>
                <a:cubicBezTo>
                  <a:pt x="8149" y="11686"/>
                  <a:pt x="8161" y="11528"/>
                  <a:pt x="8161" y="11633"/>
                </a:cubicBezTo>
                <a:cubicBezTo>
                  <a:pt x="8176" y="11809"/>
                  <a:pt x="8163" y="11957"/>
                  <a:pt x="8136" y="12129"/>
                </a:cubicBezTo>
                <a:cubicBezTo>
                  <a:pt x="8136" y="12137"/>
                  <a:pt x="8136" y="12146"/>
                  <a:pt x="8136" y="1215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67360" y="3857760"/>
            <a:ext cx="1035360" cy="465120"/>
          </a:xfrm>
          <a:custGeom>
            <a:avLst/>
            <a:gdLst/>
            <a:ahLst/>
            <a:rect l="l" t="t" r="r" b="b"/>
            <a:pathLst>
              <a:path w="2878" h="1290">
                <a:moveTo>
                  <a:pt x="21456" y="10716"/>
                </a:moveTo>
                <a:cubicBezTo>
                  <a:pt x="21494" y="10766"/>
                  <a:pt x="21469" y="10761"/>
                  <a:pt x="21456" y="10815"/>
                </a:cubicBezTo>
                <a:cubicBezTo>
                  <a:pt x="21356" y="10782"/>
                  <a:pt x="21558" y="10719"/>
                  <a:pt x="21580" y="10716"/>
                </a:cubicBezTo>
                <a:cubicBezTo>
                  <a:pt x="21856" y="10676"/>
                  <a:pt x="21735" y="11029"/>
                  <a:pt x="21630" y="11137"/>
                </a:cubicBezTo>
                <a:cubicBezTo>
                  <a:pt x="21542" y="11228"/>
                  <a:pt x="21327" y="11357"/>
                  <a:pt x="21233" y="11286"/>
                </a:cubicBezTo>
                <a:cubicBezTo>
                  <a:pt x="21365" y="11129"/>
                  <a:pt x="21495" y="11121"/>
                  <a:pt x="21704" y="11187"/>
                </a:cubicBezTo>
                <a:cubicBezTo>
                  <a:pt x="21779" y="11210"/>
                  <a:pt x="21766" y="11241"/>
                  <a:pt x="21779" y="11162"/>
                </a:cubicBezTo>
              </a:path>
              <a:path w="2878" h="1290">
                <a:moveTo>
                  <a:pt x="20513" y="10864"/>
                </a:moveTo>
                <a:cubicBezTo>
                  <a:pt x="20454" y="10864"/>
                  <a:pt x="20631" y="10796"/>
                  <a:pt x="20662" y="10790"/>
                </a:cubicBezTo>
                <a:cubicBezTo>
                  <a:pt x="20811" y="10762"/>
                  <a:pt x="20819" y="10890"/>
                  <a:pt x="20737" y="10988"/>
                </a:cubicBezTo>
                <a:cubicBezTo>
                  <a:pt x="20677" y="11028"/>
                  <a:pt x="20665" y="11031"/>
                  <a:pt x="20638" y="11063"/>
                </a:cubicBezTo>
                <a:cubicBezTo>
                  <a:pt x="20735" y="11024"/>
                  <a:pt x="20908" y="10975"/>
                  <a:pt x="20886" y="11162"/>
                </a:cubicBezTo>
                <a:cubicBezTo>
                  <a:pt x="20860" y="11380"/>
                  <a:pt x="20510" y="11412"/>
                  <a:pt x="20365" y="11336"/>
                </a:cubicBezTo>
                <a:cubicBezTo>
                  <a:pt x="20324" y="11295"/>
                  <a:pt x="20282" y="11253"/>
                  <a:pt x="20241" y="11212"/>
                </a:cubicBezTo>
              </a:path>
              <a:path w="2878" h="1290">
                <a:moveTo>
                  <a:pt x="19124" y="10964"/>
                </a:moveTo>
                <a:cubicBezTo>
                  <a:pt x="19178" y="11034"/>
                  <a:pt x="19145" y="11129"/>
                  <a:pt x="19124" y="11212"/>
                </a:cubicBezTo>
                <a:cubicBezTo>
                  <a:pt x="19092" y="11340"/>
                  <a:pt x="19042" y="11300"/>
                  <a:pt x="19174" y="11261"/>
                </a:cubicBezTo>
                <a:cubicBezTo>
                  <a:pt x="19266" y="11234"/>
                  <a:pt x="19416" y="11305"/>
                  <a:pt x="19472" y="11286"/>
                </a:cubicBezTo>
                <a:cubicBezTo>
                  <a:pt x="19472" y="11278"/>
                  <a:pt x="19472" y="11269"/>
                  <a:pt x="19472" y="11261"/>
                </a:cubicBezTo>
              </a:path>
              <a:path w="2878" h="1290">
                <a:moveTo>
                  <a:pt x="19397" y="11013"/>
                </a:moveTo>
                <a:cubicBezTo>
                  <a:pt x="19381" y="11158"/>
                  <a:pt x="19341" y="11329"/>
                  <a:pt x="19397" y="11460"/>
                </a:cubicBezTo>
              </a:path>
              <a:path w="2878" h="1290">
                <a:moveTo>
                  <a:pt x="19596" y="10988"/>
                </a:moveTo>
                <a:cubicBezTo>
                  <a:pt x="19546" y="11116"/>
                  <a:pt x="19445" y="11320"/>
                  <a:pt x="19621" y="11410"/>
                </a:cubicBezTo>
                <a:cubicBezTo>
                  <a:pt x="19796" y="11500"/>
                  <a:pt x="19963" y="11308"/>
                  <a:pt x="19943" y="11137"/>
                </a:cubicBezTo>
                <a:cubicBezTo>
                  <a:pt x="19919" y="10930"/>
                  <a:pt x="19758" y="10907"/>
                  <a:pt x="19596" y="10889"/>
                </a:cubicBezTo>
                <a:cubicBezTo>
                  <a:pt x="19604" y="10889"/>
                  <a:pt x="19613" y="10889"/>
                  <a:pt x="19621" y="10889"/>
                </a:cubicBezTo>
              </a:path>
              <a:path w="2878" h="1290">
                <a:moveTo>
                  <a:pt x="21679" y="11385"/>
                </a:moveTo>
                <a:cubicBezTo>
                  <a:pt x="21587" y="11440"/>
                  <a:pt x="21520" y="11575"/>
                  <a:pt x="21481" y="11683"/>
                </a:cubicBezTo>
                <a:cubicBezTo>
                  <a:pt x="21458" y="11775"/>
                  <a:pt x="21447" y="11800"/>
                  <a:pt x="21481" y="11857"/>
                </a:cubicBezTo>
                <a:cubicBezTo>
                  <a:pt x="21670" y="11887"/>
                  <a:pt x="21810" y="11912"/>
                  <a:pt x="21927" y="11733"/>
                </a:cubicBezTo>
                <a:cubicBezTo>
                  <a:pt x="22033" y="11570"/>
                  <a:pt x="21806" y="11480"/>
                  <a:pt x="21704" y="11460"/>
                </a:cubicBezTo>
              </a:path>
              <a:path w="2878" h="1290">
                <a:moveTo>
                  <a:pt x="20762" y="11460"/>
                </a:moveTo>
                <a:cubicBezTo>
                  <a:pt x="20721" y="11590"/>
                  <a:pt x="20699" y="11721"/>
                  <a:pt x="20687" y="11857"/>
                </a:cubicBezTo>
                <a:cubicBezTo>
                  <a:pt x="20673" y="12011"/>
                  <a:pt x="20818" y="12018"/>
                  <a:pt x="20935" y="11981"/>
                </a:cubicBezTo>
                <a:cubicBezTo>
                  <a:pt x="21046" y="11946"/>
                  <a:pt x="21209" y="11875"/>
                  <a:pt x="21183" y="11733"/>
                </a:cubicBezTo>
                <a:cubicBezTo>
                  <a:pt x="21175" y="11725"/>
                  <a:pt x="21166" y="11716"/>
                  <a:pt x="21158" y="11708"/>
                </a:cubicBezTo>
                <a:cubicBezTo>
                  <a:pt x="21064" y="11700"/>
                  <a:pt x="20969" y="11712"/>
                  <a:pt x="20935" y="11832"/>
                </a:cubicBezTo>
                <a:cubicBezTo>
                  <a:pt x="20935" y="11848"/>
                  <a:pt x="20935" y="11865"/>
                  <a:pt x="20935" y="1188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03240" y="4991040"/>
            <a:ext cx="482760" cy="519120"/>
          </a:xfrm>
          <a:custGeom>
            <a:avLst/>
            <a:gdLst/>
            <a:ahLst/>
            <a:rect l="l" t="t" r="r" b="b"/>
            <a:pathLst>
              <a:path w="1340" h="1439">
                <a:moveTo>
                  <a:pt x="5159" y="14759"/>
                </a:moveTo>
                <a:cubicBezTo>
                  <a:pt x="5174" y="14866"/>
                  <a:pt x="5223" y="14970"/>
                  <a:pt x="5209" y="15081"/>
                </a:cubicBezTo>
                <a:cubicBezTo>
                  <a:pt x="5196" y="15179"/>
                  <a:pt x="5191" y="15180"/>
                  <a:pt x="5110" y="15180"/>
                </a:cubicBezTo>
              </a:path>
              <a:path w="1340" h="1439">
                <a:moveTo>
                  <a:pt x="5011" y="15081"/>
                </a:moveTo>
                <a:cubicBezTo>
                  <a:pt x="5064" y="15061"/>
                  <a:pt x="5178" y="15028"/>
                  <a:pt x="5234" y="15032"/>
                </a:cubicBezTo>
                <a:cubicBezTo>
                  <a:pt x="5259" y="15040"/>
                  <a:pt x="5283" y="15048"/>
                  <a:pt x="5308" y="15056"/>
                </a:cubicBezTo>
              </a:path>
              <a:path w="1340" h="1439">
                <a:moveTo>
                  <a:pt x="5680" y="14858"/>
                </a:moveTo>
                <a:cubicBezTo>
                  <a:pt x="5702" y="14977"/>
                  <a:pt x="5705" y="15084"/>
                  <a:pt x="5705" y="15205"/>
                </a:cubicBezTo>
                <a:cubicBezTo>
                  <a:pt x="5705" y="15233"/>
                  <a:pt x="5707" y="15239"/>
                  <a:pt x="5730" y="15205"/>
                </a:cubicBezTo>
              </a:path>
              <a:path w="1340" h="1439">
                <a:moveTo>
                  <a:pt x="6028" y="14808"/>
                </a:moveTo>
                <a:cubicBezTo>
                  <a:pt x="6019" y="14834"/>
                  <a:pt x="5975" y="14881"/>
                  <a:pt x="6003" y="14932"/>
                </a:cubicBezTo>
                <a:cubicBezTo>
                  <a:pt x="6052" y="15022"/>
                  <a:pt x="6223" y="14994"/>
                  <a:pt x="6300" y="14957"/>
                </a:cubicBezTo>
                <a:cubicBezTo>
                  <a:pt x="6308" y="14949"/>
                  <a:pt x="6317" y="14940"/>
                  <a:pt x="6325" y="14932"/>
                </a:cubicBezTo>
              </a:path>
              <a:path w="1340" h="1439">
                <a:moveTo>
                  <a:pt x="6300" y="14734"/>
                </a:moveTo>
                <a:cubicBezTo>
                  <a:pt x="6274" y="14898"/>
                  <a:pt x="6303" y="15068"/>
                  <a:pt x="6276" y="15230"/>
                </a:cubicBezTo>
                <a:cubicBezTo>
                  <a:pt x="6256" y="15270"/>
                  <a:pt x="6247" y="15277"/>
                  <a:pt x="6251" y="15304"/>
                </a:cubicBezTo>
              </a:path>
              <a:path w="1340" h="1439">
                <a:moveTo>
                  <a:pt x="5085" y="14039"/>
                </a:moveTo>
                <a:cubicBezTo>
                  <a:pt x="5291" y="14324"/>
                  <a:pt x="5507" y="14628"/>
                  <a:pt x="5779" y="14858"/>
                </a:cubicBezTo>
                <a:cubicBezTo>
                  <a:pt x="5863" y="14929"/>
                  <a:pt x="6000" y="15044"/>
                  <a:pt x="6077" y="15106"/>
                </a:cubicBezTo>
                <a:cubicBezTo>
                  <a:pt x="6085" y="15106"/>
                  <a:pt x="6094" y="15106"/>
                  <a:pt x="6102" y="15106"/>
                </a:cubicBezTo>
              </a:path>
              <a:path w="1340" h="1439">
                <a:moveTo>
                  <a:pt x="6350" y="13866"/>
                </a:moveTo>
                <a:cubicBezTo>
                  <a:pt x="6278" y="13946"/>
                  <a:pt x="6106" y="14142"/>
                  <a:pt x="6028" y="14238"/>
                </a:cubicBezTo>
                <a:cubicBezTo>
                  <a:pt x="5828" y="14484"/>
                  <a:pt x="5621" y="14723"/>
                  <a:pt x="5407" y="14957"/>
                </a:cubicBezTo>
                <a:cubicBezTo>
                  <a:pt x="5345" y="15025"/>
                  <a:pt x="5331" y="15034"/>
                  <a:pt x="5308" y="15081"/>
                </a:cubicBezTo>
                <a:cubicBezTo>
                  <a:pt x="5308" y="15089"/>
                  <a:pt x="5308" y="15098"/>
                  <a:pt x="5308" y="1510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86040" y="5214960"/>
            <a:ext cx="446040" cy="285840"/>
          </a:xfrm>
          <a:custGeom>
            <a:avLst/>
            <a:gdLst/>
            <a:ahLst/>
            <a:rect l="l" t="t" r="r" b="b"/>
            <a:pathLst>
              <a:path w="1241" h="795">
                <a:moveTo>
                  <a:pt x="7838" y="14759"/>
                </a:moveTo>
                <a:cubicBezTo>
                  <a:pt x="7838" y="14869"/>
                  <a:pt x="7857" y="14972"/>
                  <a:pt x="7863" y="15081"/>
                </a:cubicBezTo>
                <a:cubicBezTo>
                  <a:pt x="7863" y="15089"/>
                  <a:pt x="7863" y="15098"/>
                  <a:pt x="7863" y="15106"/>
                </a:cubicBezTo>
              </a:path>
              <a:path w="1241" h="795">
                <a:moveTo>
                  <a:pt x="7739" y="15056"/>
                </a:moveTo>
                <a:cubicBezTo>
                  <a:pt x="7857" y="15022"/>
                  <a:pt x="7985" y="15014"/>
                  <a:pt x="8111" y="15007"/>
                </a:cubicBezTo>
              </a:path>
              <a:path w="1241" h="795">
                <a:moveTo>
                  <a:pt x="8310" y="14808"/>
                </a:moveTo>
                <a:cubicBezTo>
                  <a:pt x="8326" y="14926"/>
                  <a:pt x="8354" y="15036"/>
                  <a:pt x="8359" y="15156"/>
                </a:cubicBezTo>
                <a:cubicBezTo>
                  <a:pt x="8359" y="15172"/>
                  <a:pt x="8359" y="15189"/>
                  <a:pt x="8359" y="15205"/>
                </a:cubicBezTo>
              </a:path>
              <a:path w="1241" h="795">
                <a:moveTo>
                  <a:pt x="8558" y="14833"/>
                </a:moveTo>
                <a:cubicBezTo>
                  <a:pt x="8605" y="14893"/>
                  <a:pt x="8603" y="14951"/>
                  <a:pt x="8682" y="14957"/>
                </a:cubicBezTo>
                <a:cubicBezTo>
                  <a:pt x="8746" y="14962"/>
                  <a:pt x="8925" y="14944"/>
                  <a:pt x="8979" y="14908"/>
                </a:cubicBezTo>
                <a:cubicBezTo>
                  <a:pt x="8979" y="14900"/>
                  <a:pt x="8979" y="14891"/>
                  <a:pt x="8979" y="14883"/>
                </a:cubicBezTo>
              </a:path>
              <a:path w="1241" h="795">
                <a:moveTo>
                  <a:pt x="8830" y="14486"/>
                </a:moveTo>
                <a:cubicBezTo>
                  <a:pt x="8839" y="14706"/>
                  <a:pt x="8851" y="14938"/>
                  <a:pt x="8880" y="15156"/>
                </a:cubicBezTo>
                <a:cubicBezTo>
                  <a:pt x="8899" y="15230"/>
                  <a:pt x="8907" y="15237"/>
                  <a:pt x="8905" y="1528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35080" y="5732640"/>
            <a:ext cx="465120" cy="206280"/>
          </a:xfrm>
          <a:custGeom>
            <a:avLst/>
            <a:gdLst/>
            <a:ahLst/>
            <a:rect l="l" t="t" r="r" b="b"/>
            <a:pathLst>
              <a:path w="1291" h="571">
                <a:moveTo>
                  <a:pt x="5730" y="15925"/>
                </a:moveTo>
                <a:cubicBezTo>
                  <a:pt x="5708" y="16056"/>
                  <a:pt x="5702" y="16187"/>
                  <a:pt x="5680" y="16321"/>
                </a:cubicBezTo>
                <a:cubicBezTo>
                  <a:pt x="5657" y="16463"/>
                  <a:pt x="5633" y="16424"/>
                  <a:pt x="5705" y="16495"/>
                </a:cubicBezTo>
                <a:cubicBezTo>
                  <a:pt x="5816" y="16385"/>
                  <a:pt x="5871" y="16297"/>
                  <a:pt x="5928" y="16148"/>
                </a:cubicBezTo>
                <a:cubicBezTo>
                  <a:pt x="5953" y="16073"/>
                  <a:pt x="5961" y="16049"/>
                  <a:pt x="5978" y="15999"/>
                </a:cubicBezTo>
                <a:cubicBezTo>
                  <a:pt x="5978" y="16115"/>
                  <a:pt x="5980" y="16264"/>
                  <a:pt x="6028" y="16371"/>
                </a:cubicBezTo>
                <a:cubicBezTo>
                  <a:pt x="6089" y="16507"/>
                  <a:pt x="6255" y="16417"/>
                  <a:pt x="6300" y="16321"/>
                </a:cubicBezTo>
                <a:cubicBezTo>
                  <a:pt x="6350" y="16214"/>
                  <a:pt x="6346" y="16019"/>
                  <a:pt x="6276" y="15949"/>
                </a:cubicBezTo>
                <a:cubicBezTo>
                  <a:pt x="6253" y="15927"/>
                  <a:pt x="6248" y="15919"/>
                  <a:pt x="6226" y="15925"/>
                </a:cubicBezTo>
              </a:path>
              <a:path w="1291" h="571">
                <a:moveTo>
                  <a:pt x="6672" y="16073"/>
                </a:moveTo>
                <a:cubicBezTo>
                  <a:pt x="6747" y="16073"/>
                  <a:pt x="6821" y="16073"/>
                  <a:pt x="6896" y="16073"/>
                </a:cubicBezTo>
              </a:path>
              <a:path w="1291" h="571">
                <a:moveTo>
                  <a:pt x="6648" y="16297"/>
                </a:moveTo>
                <a:cubicBezTo>
                  <a:pt x="6734" y="16282"/>
                  <a:pt x="6806" y="16272"/>
                  <a:pt x="6896" y="16272"/>
                </a:cubicBezTo>
                <a:cubicBezTo>
                  <a:pt x="6937" y="16272"/>
                  <a:pt x="6909" y="16284"/>
                  <a:pt x="6945" y="1629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87760" y="5653080"/>
            <a:ext cx="428400" cy="320760"/>
          </a:xfrm>
          <a:custGeom>
            <a:avLst/>
            <a:gdLst/>
            <a:ahLst/>
            <a:rect l="l" t="t" r="r" b="b"/>
            <a:pathLst>
              <a:path w="1192" h="894">
                <a:moveTo>
                  <a:pt x="7665" y="15900"/>
                </a:moveTo>
                <a:cubicBezTo>
                  <a:pt x="7533" y="16008"/>
                  <a:pt x="7709" y="15873"/>
                  <a:pt x="7764" y="15850"/>
                </a:cubicBezTo>
                <a:cubicBezTo>
                  <a:pt x="7908" y="16025"/>
                  <a:pt x="7858" y="16159"/>
                  <a:pt x="7714" y="16346"/>
                </a:cubicBezTo>
                <a:cubicBezTo>
                  <a:pt x="7665" y="16410"/>
                  <a:pt x="7524" y="16529"/>
                  <a:pt x="7466" y="16446"/>
                </a:cubicBezTo>
                <a:cubicBezTo>
                  <a:pt x="7480" y="16341"/>
                  <a:pt x="7493" y="16184"/>
                  <a:pt x="7640" y="16247"/>
                </a:cubicBezTo>
                <a:cubicBezTo>
                  <a:pt x="7737" y="16289"/>
                  <a:pt x="7734" y="16374"/>
                  <a:pt x="7789" y="16421"/>
                </a:cubicBezTo>
                <a:cubicBezTo>
                  <a:pt x="7797" y="16421"/>
                  <a:pt x="7805" y="16421"/>
                  <a:pt x="7813" y="16421"/>
                </a:cubicBezTo>
              </a:path>
              <a:path w="1192" h="894">
                <a:moveTo>
                  <a:pt x="8210" y="15900"/>
                </a:moveTo>
                <a:cubicBezTo>
                  <a:pt x="8258" y="15980"/>
                  <a:pt x="8209" y="16036"/>
                  <a:pt x="8186" y="16123"/>
                </a:cubicBezTo>
                <a:cubicBezTo>
                  <a:pt x="8186" y="16148"/>
                  <a:pt x="8186" y="16156"/>
                  <a:pt x="8186" y="16173"/>
                </a:cubicBezTo>
                <a:cubicBezTo>
                  <a:pt x="8331" y="16160"/>
                  <a:pt x="8448" y="16123"/>
                  <a:pt x="8582" y="16073"/>
                </a:cubicBezTo>
                <a:cubicBezTo>
                  <a:pt x="8675" y="16038"/>
                  <a:pt x="8657" y="16061"/>
                  <a:pt x="8657" y="15974"/>
                </a:cubicBezTo>
              </a:path>
              <a:path w="1192" h="894">
                <a:moveTo>
                  <a:pt x="8607" y="15701"/>
                </a:moveTo>
                <a:cubicBezTo>
                  <a:pt x="8565" y="15900"/>
                  <a:pt x="8520" y="16097"/>
                  <a:pt x="8483" y="16297"/>
                </a:cubicBezTo>
                <a:cubicBezTo>
                  <a:pt x="8464" y="16401"/>
                  <a:pt x="8458" y="16490"/>
                  <a:pt x="8458" y="1659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71960" y="955800"/>
            <a:ext cx="679320" cy="347400"/>
          </a:xfrm>
          <a:custGeom>
            <a:avLst/>
            <a:gdLst/>
            <a:ahLst/>
            <a:rect l="l" t="t" r="r" b="b"/>
            <a:pathLst>
              <a:path w="1886" h="968">
                <a:moveTo>
                  <a:pt x="11361" y="3125"/>
                </a:moveTo>
                <a:cubicBezTo>
                  <a:pt x="11336" y="3125"/>
                  <a:pt x="11328" y="3125"/>
                  <a:pt x="11311" y="3125"/>
                </a:cubicBezTo>
                <a:cubicBezTo>
                  <a:pt x="11461" y="3104"/>
                  <a:pt x="11604" y="3101"/>
                  <a:pt x="11757" y="3101"/>
                </a:cubicBezTo>
                <a:cubicBezTo>
                  <a:pt x="11799" y="3101"/>
                  <a:pt x="11807" y="3101"/>
                  <a:pt x="11832" y="3101"/>
                </a:cubicBezTo>
              </a:path>
              <a:path w="1886" h="968">
                <a:moveTo>
                  <a:pt x="12303" y="2778"/>
                </a:moveTo>
                <a:cubicBezTo>
                  <a:pt x="12281" y="2928"/>
                  <a:pt x="12269" y="3074"/>
                  <a:pt x="12254" y="3225"/>
                </a:cubicBezTo>
                <a:cubicBezTo>
                  <a:pt x="12240" y="3370"/>
                  <a:pt x="12254" y="3479"/>
                  <a:pt x="12254" y="3621"/>
                </a:cubicBezTo>
              </a:path>
              <a:path w="1886" h="968">
                <a:moveTo>
                  <a:pt x="13196" y="2654"/>
                </a:moveTo>
                <a:cubicBezTo>
                  <a:pt x="13083" y="2695"/>
                  <a:pt x="12970" y="2722"/>
                  <a:pt x="12849" y="2729"/>
                </a:cubicBezTo>
                <a:cubicBezTo>
                  <a:pt x="12796" y="2732"/>
                  <a:pt x="12795" y="2834"/>
                  <a:pt x="12774" y="2877"/>
                </a:cubicBezTo>
                <a:cubicBezTo>
                  <a:pt x="12732" y="2941"/>
                  <a:pt x="12716" y="2952"/>
                  <a:pt x="12725" y="3001"/>
                </a:cubicBezTo>
                <a:cubicBezTo>
                  <a:pt x="12790" y="3001"/>
                  <a:pt x="12839" y="2960"/>
                  <a:pt x="12898" y="2952"/>
                </a:cubicBezTo>
                <a:cubicBezTo>
                  <a:pt x="13032" y="2934"/>
                  <a:pt x="13124" y="2954"/>
                  <a:pt x="13146" y="3101"/>
                </a:cubicBezTo>
                <a:cubicBezTo>
                  <a:pt x="13171" y="3267"/>
                  <a:pt x="13039" y="3381"/>
                  <a:pt x="12898" y="3448"/>
                </a:cubicBezTo>
                <a:cubicBezTo>
                  <a:pt x="12838" y="3477"/>
                  <a:pt x="12786" y="3473"/>
                  <a:pt x="12725" y="347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64040" y="1044720"/>
            <a:ext cx="509760" cy="285480"/>
          </a:xfrm>
          <a:custGeom>
            <a:avLst/>
            <a:gdLst/>
            <a:ahLst/>
            <a:rect l="l" t="t" r="r" b="b"/>
            <a:pathLst>
              <a:path w="1415" h="795">
                <a:moveTo>
                  <a:pt x="13791" y="3076"/>
                </a:moveTo>
                <a:cubicBezTo>
                  <a:pt x="13893" y="3093"/>
                  <a:pt x="13983" y="3101"/>
                  <a:pt x="14089" y="3101"/>
                </a:cubicBezTo>
                <a:cubicBezTo>
                  <a:pt x="14114" y="3101"/>
                  <a:pt x="14122" y="3101"/>
                  <a:pt x="14139" y="3101"/>
                </a:cubicBezTo>
              </a:path>
              <a:path w="1415" h="795">
                <a:moveTo>
                  <a:pt x="15205" y="2977"/>
                </a:moveTo>
                <a:cubicBezTo>
                  <a:pt x="15098" y="2941"/>
                  <a:pt x="15030" y="2905"/>
                  <a:pt x="14908" y="2902"/>
                </a:cubicBezTo>
                <a:cubicBezTo>
                  <a:pt x="14773" y="2898"/>
                  <a:pt x="14711" y="2920"/>
                  <a:pt x="14635" y="3026"/>
                </a:cubicBezTo>
                <a:cubicBezTo>
                  <a:pt x="14586" y="3095"/>
                  <a:pt x="14528" y="3167"/>
                  <a:pt x="14511" y="3249"/>
                </a:cubicBezTo>
                <a:cubicBezTo>
                  <a:pt x="14635" y="3259"/>
                  <a:pt x="14735" y="3277"/>
                  <a:pt x="14858" y="3225"/>
                </a:cubicBezTo>
                <a:cubicBezTo>
                  <a:pt x="14883" y="3215"/>
                  <a:pt x="14949" y="3081"/>
                  <a:pt x="14957" y="3051"/>
                </a:cubicBezTo>
                <a:cubicBezTo>
                  <a:pt x="14957" y="3034"/>
                  <a:pt x="14957" y="3018"/>
                  <a:pt x="14957" y="3001"/>
                </a:cubicBezTo>
                <a:cubicBezTo>
                  <a:pt x="14911" y="2987"/>
                  <a:pt x="14896" y="3148"/>
                  <a:pt x="14883" y="3225"/>
                </a:cubicBezTo>
                <a:cubicBezTo>
                  <a:pt x="14857" y="3375"/>
                  <a:pt x="14862" y="3527"/>
                  <a:pt x="14833" y="3671"/>
                </a:cubicBezTo>
                <a:cubicBezTo>
                  <a:pt x="14833" y="3696"/>
                  <a:pt x="14833" y="3704"/>
                  <a:pt x="14858" y="369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44960" y="1643040"/>
            <a:ext cx="162000" cy="71640"/>
          </a:xfrm>
          <a:custGeom>
            <a:avLst/>
            <a:gdLst/>
            <a:ahLst/>
            <a:rect l="l" t="t" r="r" b="b"/>
            <a:pathLst>
              <a:path w="447" h="199">
                <a:moveTo>
                  <a:pt x="11261" y="4762"/>
                </a:moveTo>
                <a:cubicBezTo>
                  <a:pt x="11253" y="4754"/>
                  <a:pt x="11245" y="4746"/>
                  <a:pt x="11237" y="4738"/>
                </a:cubicBezTo>
                <a:cubicBezTo>
                  <a:pt x="11275" y="4660"/>
                  <a:pt x="11446" y="4618"/>
                  <a:pt x="11534" y="4589"/>
                </a:cubicBezTo>
                <a:cubicBezTo>
                  <a:pt x="11600" y="4567"/>
                  <a:pt x="11625" y="4564"/>
                  <a:pt x="11683" y="456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57800" y="1482840"/>
            <a:ext cx="1027080" cy="339480"/>
          </a:xfrm>
          <a:custGeom>
            <a:avLst/>
            <a:gdLst/>
            <a:ahLst/>
            <a:rect l="l" t="t" r="r" b="b"/>
            <a:pathLst>
              <a:path w="2853" h="943">
                <a:moveTo>
                  <a:pt x="12129" y="4167"/>
                </a:moveTo>
                <a:cubicBezTo>
                  <a:pt x="12129" y="4351"/>
                  <a:pt x="12094" y="4529"/>
                  <a:pt x="12105" y="4713"/>
                </a:cubicBezTo>
                <a:cubicBezTo>
                  <a:pt x="12112" y="4829"/>
                  <a:pt x="12013" y="5061"/>
                  <a:pt x="12129" y="5060"/>
                </a:cubicBezTo>
                <a:cubicBezTo>
                  <a:pt x="12137" y="5052"/>
                  <a:pt x="12146" y="5043"/>
                  <a:pt x="12154" y="5035"/>
                </a:cubicBezTo>
              </a:path>
              <a:path w="2853" h="943">
                <a:moveTo>
                  <a:pt x="12998" y="4118"/>
                </a:moveTo>
                <a:cubicBezTo>
                  <a:pt x="12877" y="4135"/>
                  <a:pt x="12774" y="4163"/>
                  <a:pt x="12650" y="4167"/>
                </a:cubicBezTo>
                <a:cubicBezTo>
                  <a:pt x="12549" y="4171"/>
                  <a:pt x="12566" y="4359"/>
                  <a:pt x="12551" y="4440"/>
                </a:cubicBezTo>
                <a:cubicBezTo>
                  <a:pt x="12537" y="4517"/>
                  <a:pt x="12500" y="4635"/>
                  <a:pt x="12526" y="4688"/>
                </a:cubicBezTo>
                <a:cubicBezTo>
                  <a:pt x="12553" y="4607"/>
                  <a:pt x="12608" y="4552"/>
                  <a:pt x="12700" y="4539"/>
                </a:cubicBezTo>
                <a:cubicBezTo>
                  <a:pt x="12880" y="4514"/>
                  <a:pt x="13015" y="4683"/>
                  <a:pt x="13072" y="4837"/>
                </a:cubicBezTo>
                <a:cubicBezTo>
                  <a:pt x="13072" y="4862"/>
                  <a:pt x="13072" y="4886"/>
                  <a:pt x="13072" y="4911"/>
                </a:cubicBezTo>
                <a:cubicBezTo>
                  <a:pt x="12940" y="5008"/>
                  <a:pt x="12793" y="5044"/>
                  <a:pt x="12626" y="5060"/>
                </a:cubicBezTo>
                <a:cubicBezTo>
                  <a:pt x="12580" y="5064"/>
                  <a:pt x="12525" y="5060"/>
                  <a:pt x="12477" y="5060"/>
                </a:cubicBezTo>
              </a:path>
              <a:path w="2853" h="943">
                <a:moveTo>
                  <a:pt x="13494" y="4366"/>
                </a:moveTo>
                <a:cubicBezTo>
                  <a:pt x="13494" y="4297"/>
                  <a:pt x="13515" y="4591"/>
                  <a:pt x="13519" y="4614"/>
                </a:cubicBezTo>
                <a:cubicBezTo>
                  <a:pt x="13533" y="4696"/>
                  <a:pt x="13478" y="4810"/>
                  <a:pt x="13543" y="4862"/>
                </a:cubicBezTo>
                <a:cubicBezTo>
                  <a:pt x="13551" y="4862"/>
                  <a:pt x="13560" y="4862"/>
                  <a:pt x="13568" y="4862"/>
                </a:cubicBezTo>
              </a:path>
              <a:path w="2853" h="943">
                <a:moveTo>
                  <a:pt x="13295" y="4638"/>
                </a:moveTo>
                <a:cubicBezTo>
                  <a:pt x="13313" y="4691"/>
                  <a:pt x="13466" y="4663"/>
                  <a:pt x="13519" y="4663"/>
                </a:cubicBezTo>
                <a:cubicBezTo>
                  <a:pt x="13610" y="4663"/>
                  <a:pt x="13634" y="4663"/>
                  <a:pt x="13692" y="4663"/>
                </a:cubicBezTo>
              </a:path>
              <a:path w="2853" h="943">
                <a:moveTo>
                  <a:pt x="13990" y="4614"/>
                </a:moveTo>
                <a:cubicBezTo>
                  <a:pt x="14073" y="4614"/>
                  <a:pt x="14155" y="4614"/>
                  <a:pt x="14238" y="4614"/>
                </a:cubicBezTo>
              </a:path>
              <a:path w="2853" h="943">
                <a:moveTo>
                  <a:pt x="14957" y="4266"/>
                </a:moveTo>
                <a:cubicBezTo>
                  <a:pt x="14957" y="4217"/>
                  <a:pt x="14944" y="4200"/>
                  <a:pt x="14883" y="4192"/>
                </a:cubicBezTo>
                <a:cubicBezTo>
                  <a:pt x="14774" y="4177"/>
                  <a:pt x="14712" y="4193"/>
                  <a:pt x="14635" y="4266"/>
                </a:cubicBezTo>
                <a:cubicBezTo>
                  <a:pt x="14566" y="4331"/>
                  <a:pt x="14519" y="4495"/>
                  <a:pt x="14560" y="4589"/>
                </a:cubicBezTo>
                <a:cubicBezTo>
                  <a:pt x="14589" y="4654"/>
                  <a:pt x="14724" y="4695"/>
                  <a:pt x="14784" y="4663"/>
                </a:cubicBezTo>
                <a:cubicBezTo>
                  <a:pt x="14862" y="4622"/>
                  <a:pt x="14880" y="4515"/>
                  <a:pt x="14883" y="4440"/>
                </a:cubicBezTo>
                <a:cubicBezTo>
                  <a:pt x="14883" y="4374"/>
                  <a:pt x="14883" y="4357"/>
                  <a:pt x="14883" y="4316"/>
                </a:cubicBezTo>
                <a:cubicBezTo>
                  <a:pt x="14883" y="4241"/>
                  <a:pt x="14883" y="4415"/>
                  <a:pt x="14883" y="4490"/>
                </a:cubicBezTo>
                <a:cubicBezTo>
                  <a:pt x="14883" y="4639"/>
                  <a:pt x="14883" y="4787"/>
                  <a:pt x="14883" y="493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72080" y="1633680"/>
            <a:ext cx="115920" cy="90360"/>
          </a:xfrm>
          <a:custGeom>
            <a:avLst/>
            <a:gdLst/>
            <a:ahLst/>
            <a:rect l="l" t="t" r="r" b="b"/>
            <a:pathLst>
              <a:path w="324" h="249">
                <a:moveTo>
                  <a:pt x="15478" y="4564"/>
                </a:moveTo>
                <a:cubicBezTo>
                  <a:pt x="15565" y="4564"/>
                  <a:pt x="15640" y="4544"/>
                  <a:pt x="15726" y="4539"/>
                </a:cubicBezTo>
                <a:cubicBezTo>
                  <a:pt x="15751" y="4539"/>
                  <a:pt x="15759" y="4539"/>
                  <a:pt x="15776" y="4539"/>
                </a:cubicBezTo>
              </a:path>
              <a:path w="324" h="249">
                <a:moveTo>
                  <a:pt x="15528" y="4787"/>
                </a:moveTo>
                <a:cubicBezTo>
                  <a:pt x="15619" y="4787"/>
                  <a:pt x="15710" y="4787"/>
                  <a:pt x="15801" y="478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19840" y="1465200"/>
            <a:ext cx="617400" cy="339840"/>
          </a:xfrm>
          <a:custGeom>
            <a:avLst/>
            <a:gdLst/>
            <a:ahLst/>
            <a:rect l="l" t="t" r="r" b="b"/>
            <a:pathLst>
              <a:path w="1712" h="944">
                <a:moveTo>
                  <a:pt x="16446" y="4490"/>
                </a:moveTo>
                <a:cubicBezTo>
                  <a:pt x="16533" y="4490"/>
                  <a:pt x="16609" y="4451"/>
                  <a:pt x="16694" y="4440"/>
                </a:cubicBezTo>
                <a:cubicBezTo>
                  <a:pt x="16769" y="4430"/>
                  <a:pt x="16797" y="4422"/>
                  <a:pt x="16768" y="4465"/>
                </a:cubicBezTo>
              </a:path>
              <a:path w="1712" h="944">
                <a:moveTo>
                  <a:pt x="17239" y="4366"/>
                </a:moveTo>
                <a:cubicBezTo>
                  <a:pt x="17199" y="4353"/>
                  <a:pt x="17214" y="4317"/>
                  <a:pt x="17214" y="4266"/>
                </a:cubicBezTo>
                <a:cubicBezTo>
                  <a:pt x="17214" y="4176"/>
                  <a:pt x="17305" y="4154"/>
                  <a:pt x="17388" y="4142"/>
                </a:cubicBezTo>
                <a:cubicBezTo>
                  <a:pt x="17484" y="4128"/>
                  <a:pt x="17500" y="4144"/>
                  <a:pt x="17512" y="4242"/>
                </a:cubicBezTo>
                <a:cubicBezTo>
                  <a:pt x="17533" y="4416"/>
                  <a:pt x="17311" y="4616"/>
                  <a:pt x="17214" y="4738"/>
                </a:cubicBezTo>
                <a:cubicBezTo>
                  <a:pt x="17136" y="4836"/>
                  <a:pt x="17055" y="4922"/>
                  <a:pt x="16966" y="5011"/>
                </a:cubicBezTo>
                <a:cubicBezTo>
                  <a:pt x="17072" y="4993"/>
                  <a:pt x="17156" y="4929"/>
                  <a:pt x="17264" y="4911"/>
                </a:cubicBezTo>
                <a:cubicBezTo>
                  <a:pt x="17323" y="4901"/>
                  <a:pt x="17370" y="4904"/>
                  <a:pt x="17413" y="4936"/>
                </a:cubicBezTo>
              </a:path>
              <a:path w="1712" h="944">
                <a:moveTo>
                  <a:pt x="17810" y="4266"/>
                </a:moveTo>
                <a:cubicBezTo>
                  <a:pt x="17767" y="4352"/>
                  <a:pt x="17729" y="4423"/>
                  <a:pt x="17711" y="4514"/>
                </a:cubicBezTo>
                <a:cubicBezTo>
                  <a:pt x="17748" y="4570"/>
                  <a:pt x="17904" y="4562"/>
                  <a:pt x="17983" y="4564"/>
                </a:cubicBezTo>
                <a:cubicBezTo>
                  <a:pt x="18041" y="4565"/>
                  <a:pt x="18099" y="4564"/>
                  <a:pt x="18157" y="4564"/>
                </a:cubicBezTo>
              </a:path>
              <a:path w="1712" h="944">
                <a:moveTo>
                  <a:pt x="18107" y="4068"/>
                </a:moveTo>
                <a:cubicBezTo>
                  <a:pt x="18074" y="4330"/>
                  <a:pt x="18070" y="4603"/>
                  <a:pt x="18033" y="4862"/>
                </a:cubicBezTo>
                <a:cubicBezTo>
                  <a:pt x="18014" y="4919"/>
                  <a:pt x="18005" y="4926"/>
                  <a:pt x="18008" y="496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67120" y="3116160"/>
            <a:ext cx="2143080" cy="2376720"/>
          </a:xfrm>
          <a:custGeom>
            <a:avLst/>
            <a:gdLst/>
            <a:ahLst/>
            <a:rect l="l" t="t" r="r" b="b"/>
            <a:pathLst>
              <a:path w="5955" h="6599">
                <a:moveTo>
                  <a:pt x="12650" y="10269"/>
                </a:moveTo>
                <a:cubicBezTo>
                  <a:pt x="12667" y="10261"/>
                  <a:pt x="12683" y="10252"/>
                  <a:pt x="12700" y="10244"/>
                </a:cubicBezTo>
                <a:cubicBezTo>
                  <a:pt x="12728" y="10413"/>
                  <a:pt x="12674" y="10642"/>
                  <a:pt x="12626" y="10815"/>
                </a:cubicBezTo>
                <a:cubicBezTo>
                  <a:pt x="12605" y="10892"/>
                  <a:pt x="12551" y="11068"/>
                  <a:pt x="12551" y="10988"/>
                </a:cubicBezTo>
              </a:path>
              <a:path w="5955" h="6599">
                <a:moveTo>
                  <a:pt x="13122" y="10195"/>
                </a:moveTo>
                <a:cubicBezTo>
                  <a:pt x="13210" y="10086"/>
                  <a:pt x="13255" y="10058"/>
                  <a:pt x="13395" y="10046"/>
                </a:cubicBezTo>
                <a:cubicBezTo>
                  <a:pt x="13379" y="10216"/>
                  <a:pt x="13341" y="10317"/>
                  <a:pt x="13196" y="10418"/>
                </a:cubicBezTo>
                <a:cubicBezTo>
                  <a:pt x="13188" y="10418"/>
                  <a:pt x="13179" y="10418"/>
                  <a:pt x="13171" y="10418"/>
                </a:cubicBezTo>
                <a:cubicBezTo>
                  <a:pt x="13222" y="10326"/>
                  <a:pt x="13342" y="10175"/>
                  <a:pt x="13444" y="10344"/>
                </a:cubicBezTo>
                <a:cubicBezTo>
                  <a:pt x="13554" y="10526"/>
                  <a:pt x="13375" y="10702"/>
                  <a:pt x="13221" y="10765"/>
                </a:cubicBezTo>
                <a:cubicBezTo>
                  <a:pt x="13076" y="10824"/>
                  <a:pt x="13054" y="10795"/>
                  <a:pt x="13022" y="10691"/>
                </a:cubicBezTo>
              </a:path>
              <a:path w="5955" h="6599">
                <a:moveTo>
                  <a:pt x="12229" y="11410"/>
                </a:moveTo>
                <a:cubicBezTo>
                  <a:pt x="12254" y="11267"/>
                  <a:pt x="12254" y="11138"/>
                  <a:pt x="12254" y="10988"/>
                </a:cubicBezTo>
                <a:cubicBezTo>
                  <a:pt x="12254" y="10757"/>
                  <a:pt x="12246" y="10546"/>
                  <a:pt x="12204" y="10319"/>
                </a:cubicBezTo>
                <a:cubicBezTo>
                  <a:pt x="12191" y="10251"/>
                  <a:pt x="12132" y="10052"/>
                  <a:pt x="12204" y="9996"/>
                </a:cubicBezTo>
                <a:cubicBezTo>
                  <a:pt x="12331" y="9896"/>
                  <a:pt x="12813" y="9932"/>
                  <a:pt x="12948" y="9922"/>
                </a:cubicBezTo>
                <a:cubicBezTo>
                  <a:pt x="13425" y="9885"/>
                  <a:pt x="13909" y="9833"/>
                  <a:pt x="14387" y="9823"/>
                </a:cubicBezTo>
                <a:cubicBezTo>
                  <a:pt x="14420" y="9823"/>
                  <a:pt x="14453" y="9823"/>
                  <a:pt x="14486" y="9823"/>
                </a:cubicBezTo>
              </a:path>
              <a:path w="5955" h="6599">
                <a:moveTo>
                  <a:pt x="11410" y="10418"/>
                </a:moveTo>
                <a:cubicBezTo>
                  <a:pt x="11362" y="10437"/>
                  <a:pt x="11353" y="10452"/>
                  <a:pt x="11336" y="10443"/>
                </a:cubicBezTo>
                <a:cubicBezTo>
                  <a:pt x="11344" y="10424"/>
                  <a:pt x="11411" y="10276"/>
                  <a:pt x="11435" y="10344"/>
                </a:cubicBezTo>
                <a:cubicBezTo>
                  <a:pt x="11511" y="10561"/>
                  <a:pt x="11362" y="10773"/>
                  <a:pt x="11212" y="10914"/>
                </a:cubicBezTo>
                <a:cubicBezTo>
                  <a:pt x="11141" y="10961"/>
                  <a:pt x="11122" y="10978"/>
                  <a:pt x="11063" y="10964"/>
                </a:cubicBezTo>
                <a:cubicBezTo>
                  <a:pt x="11030" y="10842"/>
                  <a:pt x="11029" y="10778"/>
                  <a:pt x="11187" y="10790"/>
                </a:cubicBezTo>
                <a:cubicBezTo>
                  <a:pt x="11327" y="10801"/>
                  <a:pt x="11440" y="10846"/>
                  <a:pt x="11460" y="10988"/>
                </a:cubicBezTo>
                <a:cubicBezTo>
                  <a:pt x="11460" y="11013"/>
                  <a:pt x="11460" y="11021"/>
                  <a:pt x="11460" y="10988"/>
                </a:cubicBezTo>
              </a:path>
              <a:path w="5955" h="6599">
                <a:moveTo>
                  <a:pt x="12080" y="10368"/>
                </a:moveTo>
                <a:cubicBezTo>
                  <a:pt x="12069" y="10274"/>
                  <a:pt x="12063" y="10203"/>
                  <a:pt x="11956" y="10195"/>
                </a:cubicBezTo>
                <a:cubicBezTo>
                  <a:pt x="11770" y="10182"/>
                  <a:pt x="11675" y="10354"/>
                  <a:pt x="11633" y="10517"/>
                </a:cubicBezTo>
                <a:cubicBezTo>
                  <a:pt x="11633" y="10579"/>
                  <a:pt x="11623" y="10594"/>
                  <a:pt x="11658" y="10616"/>
                </a:cubicBezTo>
                <a:cubicBezTo>
                  <a:pt x="11814" y="10548"/>
                  <a:pt x="11904" y="10457"/>
                  <a:pt x="11981" y="10294"/>
                </a:cubicBezTo>
                <a:cubicBezTo>
                  <a:pt x="11981" y="10286"/>
                  <a:pt x="11981" y="10277"/>
                  <a:pt x="11981" y="10269"/>
                </a:cubicBezTo>
                <a:cubicBezTo>
                  <a:pt x="11981" y="10392"/>
                  <a:pt x="11958" y="10550"/>
                  <a:pt x="11931" y="10666"/>
                </a:cubicBezTo>
                <a:cubicBezTo>
                  <a:pt x="11906" y="10774"/>
                  <a:pt x="11867" y="10855"/>
                  <a:pt x="11857" y="10964"/>
                </a:cubicBezTo>
              </a:path>
              <a:path w="5955" h="6599">
                <a:moveTo>
                  <a:pt x="13717" y="10790"/>
                </a:moveTo>
                <a:cubicBezTo>
                  <a:pt x="13760" y="10790"/>
                  <a:pt x="13755" y="10800"/>
                  <a:pt x="13767" y="10765"/>
                </a:cubicBezTo>
                <a:cubicBezTo>
                  <a:pt x="13758" y="10767"/>
                  <a:pt x="13634" y="10843"/>
                  <a:pt x="13667" y="10864"/>
                </a:cubicBezTo>
                <a:cubicBezTo>
                  <a:pt x="13724" y="10900"/>
                  <a:pt x="13837" y="10778"/>
                  <a:pt x="13692" y="10840"/>
                </a:cubicBezTo>
              </a:path>
              <a:path w="5955" h="6599">
                <a:moveTo>
                  <a:pt x="13841" y="9575"/>
                </a:moveTo>
                <a:cubicBezTo>
                  <a:pt x="13830" y="9619"/>
                  <a:pt x="13787" y="9696"/>
                  <a:pt x="13816" y="9748"/>
                </a:cubicBezTo>
                <a:cubicBezTo>
                  <a:pt x="13824" y="9748"/>
                  <a:pt x="13833" y="9748"/>
                  <a:pt x="13841" y="9748"/>
                </a:cubicBezTo>
                <a:cubicBezTo>
                  <a:pt x="13914" y="9730"/>
                  <a:pt x="13938" y="9642"/>
                  <a:pt x="13891" y="9575"/>
                </a:cubicBezTo>
                <a:cubicBezTo>
                  <a:pt x="13845" y="9510"/>
                  <a:pt x="13773" y="9642"/>
                  <a:pt x="13767" y="9674"/>
                </a:cubicBezTo>
                <a:cubicBezTo>
                  <a:pt x="13806" y="9664"/>
                  <a:pt x="13875" y="9616"/>
                  <a:pt x="13816" y="9575"/>
                </a:cubicBezTo>
                <a:cubicBezTo>
                  <a:pt x="13742" y="9524"/>
                  <a:pt x="13693" y="9650"/>
                  <a:pt x="13742" y="9699"/>
                </a:cubicBezTo>
              </a:path>
              <a:path w="5955" h="6599">
                <a:moveTo>
                  <a:pt x="14213" y="10195"/>
                </a:moveTo>
                <a:cubicBezTo>
                  <a:pt x="14239" y="10160"/>
                  <a:pt x="14238" y="10164"/>
                  <a:pt x="14238" y="10120"/>
                </a:cubicBezTo>
                <a:cubicBezTo>
                  <a:pt x="14146" y="10120"/>
                  <a:pt x="14129" y="10150"/>
                  <a:pt x="14089" y="10244"/>
                </a:cubicBezTo>
                <a:cubicBezTo>
                  <a:pt x="14009" y="10433"/>
                  <a:pt x="13987" y="10555"/>
                  <a:pt x="14089" y="10716"/>
                </a:cubicBezTo>
                <a:cubicBezTo>
                  <a:pt x="14337" y="10685"/>
                  <a:pt x="14347" y="10586"/>
                  <a:pt x="14362" y="10344"/>
                </a:cubicBezTo>
                <a:cubicBezTo>
                  <a:pt x="14370" y="10216"/>
                  <a:pt x="14309" y="10154"/>
                  <a:pt x="14188" y="10145"/>
                </a:cubicBezTo>
                <a:cubicBezTo>
                  <a:pt x="14180" y="10145"/>
                  <a:pt x="14171" y="10145"/>
                  <a:pt x="14163" y="10145"/>
                </a:cubicBezTo>
              </a:path>
              <a:path w="5955" h="6599">
                <a:moveTo>
                  <a:pt x="14238" y="9054"/>
                </a:moveTo>
                <a:cubicBezTo>
                  <a:pt x="14238" y="9001"/>
                  <a:pt x="14179" y="9219"/>
                  <a:pt x="14163" y="9252"/>
                </a:cubicBezTo>
                <a:cubicBezTo>
                  <a:pt x="14125" y="9329"/>
                  <a:pt x="14126" y="9344"/>
                  <a:pt x="14089" y="9376"/>
                </a:cubicBezTo>
                <a:cubicBezTo>
                  <a:pt x="14198" y="9376"/>
                  <a:pt x="14305" y="9351"/>
                  <a:pt x="14412" y="9327"/>
                </a:cubicBezTo>
                <a:cubicBezTo>
                  <a:pt x="14494" y="9306"/>
                  <a:pt x="14509" y="9298"/>
                  <a:pt x="14560" y="9302"/>
                </a:cubicBezTo>
              </a:path>
              <a:path w="5955" h="6599">
                <a:moveTo>
                  <a:pt x="14511" y="8731"/>
                </a:moveTo>
                <a:cubicBezTo>
                  <a:pt x="14511" y="8953"/>
                  <a:pt x="14467" y="9156"/>
                  <a:pt x="14436" y="9376"/>
                </a:cubicBezTo>
                <a:cubicBezTo>
                  <a:pt x="14420" y="9493"/>
                  <a:pt x="14413" y="9598"/>
                  <a:pt x="14362" y="9699"/>
                </a:cubicBezTo>
              </a:path>
              <a:path w="5955" h="6599">
                <a:moveTo>
                  <a:pt x="12948" y="11137"/>
                </a:moveTo>
                <a:cubicBezTo>
                  <a:pt x="12948" y="11275"/>
                  <a:pt x="12911" y="11401"/>
                  <a:pt x="12874" y="11534"/>
                </a:cubicBezTo>
                <a:cubicBezTo>
                  <a:pt x="12852" y="11601"/>
                  <a:pt x="12847" y="11619"/>
                  <a:pt x="12824" y="11658"/>
                </a:cubicBezTo>
              </a:path>
              <a:path w="5955" h="6599">
                <a:moveTo>
                  <a:pt x="13419" y="11137"/>
                </a:moveTo>
                <a:cubicBezTo>
                  <a:pt x="13432" y="11175"/>
                  <a:pt x="13351" y="11394"/>
                  <a:pt x="13320" y="11485"/>
                </a:cubicBezTo>
                <a:cubicBezTo>
                  <a:pt x="13300" y="11545"/>
                  <a:pt x="13295" y="11556"/>
                  <a:pt x="13295" y="11609"/>
                </a:cubicBezTo>
              </a:path>
              <a:path w="5955" h="6599">
                <a:moveTo>
                  <a:pt x="13990" y="11038"/>
                </a:moveTo>
                <a:cubicBezTo>
                  <a:pt x="13931" y="11140"/>
                  <a:pt x="13903" y="11289"/>
                  <a:pt x="13891" y="11410"/>
                </a:cubicBezTo>
                <a:cubicBezTo>
                  <a:pt x="13876" y="11565"/>
                  <a:pt x="13998" y="11622"/>
                  <a:pt x="14139" y="11559"/>
                </a:cubicBezTo>
                <a:cubicBezTo>
                  <a:pt x="14258" y="11506"/>
                  <a:pt x="14270" y="11442"/>
                  <a:pt x="14288" y="11336"/>
                </a:cubicBezTo>
                <a:cubicBezTo>
                  <a:pt x="14191" y="11360"/>
                  <a:pt x="14138" y="11427"/>
                  <a:pt x="14114" y="11534"/>
                </a:cubicBezTo>
                <a:cubicBezTo>
                  <a:pt x="14114" y="11551"/>
                  <a:pt x="14114" y="11567"/>
                  <a:pt x="14114" y="11584"/>
                </a:cubicBezTo>
              </a:path>
              <a:path w="5955" h="6599">
                <a:moveTo>
                  <a:pt x="12179" y="11410"/>
                </a:moveTo>
                <a:cubicBezTo>
                  <a:pt x="12314" y="11396"/>
                  <a:pt x="12415" y="11386"/>
                  <a:pt x="12551" y="11410"/>
                </a:cubicBezTo>
              </a:path>
              <a:path w="5955" h="6599">
                <a:moveTo>
                  <a:pt x="12105" y="12055"/>
                </a:moveTo>
                <a:cubicBezTo>
                  <a:pt x="12461" y="12039"/>
                  <a:pt x="12813" y="12008"/>
                  <a:pt x="13171" y="12005"/>
                </a:cubicBezTo>
                <a:cubicBezTo>
                  <a:pt x="13550" y="12002"/>
                  <a:pt x="14303" y="11916"/>
                  <a:pt x="14585" y="12005"/>
                </a:cubicBezTo>
                <a:cubicBezTo>
                  <a:pt x="14585" y="12013"/>
                  <a:pt x="14585" y="12022"/>
                  <a:pt x="14585" y="12030"/>
                </a:cubicBezTo>
              </a:path>
              <a:path w="5955" h="6599">
                <a:moveTo>
                  <a:pt x="13097" y="10294"/>
                </a:moveTo>
                <a:cubicBezTo>
                  <a:pt x="13097" y="10266"/>
                  <a:pt x="13095" y="10255"/>
                  <a:pt x="13072" y="10244"/>
                </a:cubicBezTo>
                <a:cubicBezTo>
                  <a:pt x="13097" y="10370"/>
                  <a:pt x="13176" y="10517"/>
                  <a:pt x="13221" y="10641"/>
                </a:cubicBezTo>
                <a:cubicBezTo>
                  <a:pt x="13260" y="10747"/>
                  <a:pt x="13323" y="10856"/>
                  <a:pt x="13345" y="10964"/>
                </a:cubicBezTo>
              </a:path>
              <a:path w="5955" h="6599">
                <a:moveTo>
                  <a:pt x="12998" y="10864"/>
                </a:moveTo>
                <a:cubicBezTo>
                  <a:pt x="12990" y="10872"/>
                  <a:pt x="12981" y="10881"/>
                  <a:pt x="12973" y="10889"/>
                </a:cubicBezTo>
                <a:cubicBezTo>
                  <a:pt x="13027" y="10844"/>
                  <a:pt x="13151" y="10862"/>
                  <a:pt x="13122" y="10988"/>
                </a:cubicBezTo>
                <a:cubicBezTo>
                  <a:pt x="13094" y="11109"/>
                  <a:pt x="12986" y="11184"/>
                  <a:pt x="12874" y="11137"/>
                </a:cubicBezTo>
                <a:cubicBezTo>
                  <a:pt x="12852" y="11115"/>
                  <a:pt x="12843" y="11110"/>
                  <a:pt x="12849" y="11088"/>
                </a:cubicBezTo>
                <a:cubicBezTo>
                  <a:pt x="12882" y="11037"/>
                  <a:pt x="12980" y="11064"/>
                  <a:pt x="13047" y="11088"/>
                </a:cubicBezTo>
                <a:cubicBezTo>
                  <a:pt x="13116" y="11112"/>
                  <a:pt x="13135" y="11158"/>
                  <a:pt x="13196" y="11112"/>
                </a:cubicBezTo>
              </a:path>
              <a:path w="5955" h="6599">
                <a:moveTo>
                  <a:pt x="13841" y="10195"/>
                </a:moveTo>
                <a:cubicBezTo>
                  <a:pt x="13834" y="10279"/>
                  <a:pt x="13816" y="10358"/>
                  <a:pt x="13816" y="10443"/>
                </a:cubicBezTo>
              </a:path>
              <a:path w="5955" h="6599">
                <a:moveTo>
                  <a:pt x="14213" y="12303"/>
                </a:moveTo>
                <a:cubicBezTo>
                  <a:pt x="14213" y="12275"/>
                  <a:pt x="14215" y="12264"/>
                  <a:pt x="14238" y="12254"/>
                </a:cubicBezTo>
                <a:cubicBezTo>
                  <a:pt x="14258" y="12283"/>
                  <a:pt x="14208" y="12422"/>
                  <a:pt x="14163" y="12477"/>
                </a:cubicBezTo>
                <a:cubicBezTo>
                  <a:pt x="14155" y="12477"/>
                  <a:pt x="14147" y="12477"/>
                  <a:pt x="14139" y="12477"/>
                </a:cubicBezTo>
                <a:cubicBezTo>
                  <a:pt x="14235" y="12497"/>
                  <a:pt x="14361" y="12532"/>
                  <a:pt x="14461" y="12526"/>
                </a:cubicBezTo>
                <a:cubicBezTo>
                  <a:pt x="14519" y="12508"/>
                  <a:pt x="14525" y="12500"/>
                  <a:pt x="14560" y="12502"/>
                </a:cubicBezTo>
              </a:path>
              <a:path w="5955" h="6599">
                <a:moveTo>
                  <a:pt x="14536" y="12154"/>
                </a:moveTo>
                <a:cubicBezTo>
                  <a:pt x="14492" y="12319"/>
                  <a:pt x="14457" y="12486"/>
                  <a:pt x="14412" y="12650"/>
                </a:cubicBezTo>
                <a:cubicBezTo>
                  <a:pt x="14404" y="12675"/>
                  <a:pt x="14395" y="12700"/>
                  <a:pt x="14387" y="12725"/>
                </a:cubicBezTo>
              </a:path>
              <a:path w="5955" h="6599">
                <a:moveTo>
                  <a:pt x="13618" y="12278"/>
                </a:moveTo>
                <a:cubicBezTo>
                  <a:pt x="13643" y="12278"/>
                  <a:pt x="13651" y="12278"/>
                  <a:pt x="13643" y="12254"/>
                </a:cubicBezTo>
                <a:cubicBezTo>
                  <a:pt x="13643" y="12384"/>
                  <a:pt x="13582" y="12497"/>
                  <a:pt x="13568" y="12626"/>
                </a:cubicBezTo>
                <a:cubicBezTo>
                  <a:pt x="13560" y="12700"/>
                  <a:pt x="13551" y="12772"/>
                  <a:pt x="13593" y="12799"/>
                </a:cubicBezTo>
              </a:path>
              <a:path w="5955" h="6599">
                <a:moveTo>
                  <a:pt x="15056" y="10220"/>
                </a:moveTo>
                <a:cubicBezTo>
                  <a:pt x="15056" y="10181"/>
                  <a:pt x="15027" y="10118"/>
                  <a:pt x="14982" y="10120"/>
                </a:cubicBezTo>
                <a:cubicBezTo>
                  <a:pt x="14877" y="10125"/>
                  <a:pt x="14784" y="10299"/>
                  <a:pt x="14784" y="10393"/>
                </a:cubicBezTo>
                <a:cubicBezTo>
                  <a:pt x="14784" y="10518"/>
                  <a:pt x="14941" y="10619"/>
                  <a:pt x="15056" y="10567"/>
                </a:cubicBezTo>
                <a:cubicBezTo>
                  <a:pt x="15166" y="10517"/>
                  <a:pt x="15216" y="10346"/>
                  <a:pt x="15156" y="10244"/>
                </a:cubicBezTo>
                <a:cubicBezTo>
                  <a:pt x="15119" y="10181"/>
                  <a:pt x="15088" y="10161"/>
                  <a:pt x="15032" y="10145"/>
                </a:cubicBezTo>
              </a:path>
              <a:path w="5955" h="6599">
                <a:moveTo>
                  <a:pt x="15180" y="10641"/>
                </a:moveTo>
                <a:cubicBezTo>
                  <a:pt x="15162" y="10773"/>
                  <a:pt x="15151" y="10904"/>
                  <a:pt x="15131" y="11038"/>
                </a:cubicBezTo>
                <a:cubicBezTo>
                  <a:pt x="15098" y="11254"/>
                  <a:pt x="15128" y="11467"/>
                  <a:pt x="15106" y="11683"/>
                </a:cubicBezTo>
                <a:cubicBezTo>
                  <a:pt x="15097" y="11770"/>
                  <a:pt x="15081" y="11844"/>
                  <a:pt x="15081" y="11931"/>
                </a:cubicBezTo>
              </a:path>
              <a:path w="5955" h="6599">
                <a:moveTo>
                  <a:pt x="15106" y="12204"/>
                </a:moveTo>
                <a:cubicBezTo>
                  <a:pt x="14988" y="12257"/>
                  <a:pt x="14906" y="12292"/>
                  <a:pt x="14858" y="12427"/>
                </a:cubicBezTo>
                <a:cubicBezTo>
                  <a:pt x="14813" y="12554"/>
                  <a:pt x="14805" y="12741"/>
                  <a:pt x="14957" y="12799"/>
                </a:cubicBezTo>
                <a:cubicBezTo>
                  <a:pt x="15095" y="12852"/>
                  <a:pt x="15212" y="12672"/>
                  <a:pt x="15255" y="12576"/>
                </a:cubicBezTo>
                <a:cubicBezTo>
                  <a:pt x="15312" y="12449"/>
                  <a:pt x="15259" y="12326"/>
                  <a:pt x="15156" y="12254"/>
                </a:cubicBezTo>
                <a:cubicBezTo>
                  <a:pt x="15098" y="12213"/>
                  <a:pt x="15119" y="12204"/>
                  <a:pt x="15081" y="12229"/>
                </a:cubicBezTo>
              </a:path>
              <a:path w="5955" h="6599">
                <a:moveTo>
                  <a:pt x="14908" y="8905"/>
                </a:moveTo>
                <a:cubicBezTo>
                  <a:pt x="14946" y="8885"/>
                  <a:pt x="14957" y="8763"/>
                  <a:pt x="14957" y="8806"/>
                </a:cubicBezTo>
                <a:cubicBezTo>
                  <a:pt x="14957" y="8901"/>
                  <a:pt x="14901" y="9009"/>
                  <a:pt x="14883" y="9103"/>
                </a:cubicBezTo>
                <a:cubicBezTo>
                  <a:pt x="14883" y="9111"/>
                  <a:pt x="14883" y="9120"/>
                  <a:pt x="14883" y="9128"/>
                </a:cubicBezTo>
                <a:cubicBezTo>
                  <a:pt x="14988" y="9154"/>
                  <a:pt x="15056" y="9192"/>
                  <a:pt x="15156" y="9227"/>
                </a:cubicBezTo>
                <a:cubicBezTo>
                  <a:pt x="15174" y="9233"/>
                  <a:pt x="15208" y="9284"/>
                  <a:pt x="15230" y="9227"/>
                </a:cubicBezTo>
                <a:cubicBezTo>
                  <a:pt x="15238" y="9194"/>
                  <a:pt x="15247" y="9161"/>
                  <a:pt x="15255" y="9128"/>
                </a:cubicBezTo>
              </a:path>
              <a:path w="5955" h="6599">
                <a:moveTo>
                  <a:pt x="15230" y="8657"/>
                </a:moveTo>
                <a:cubicBezTo>
                  <a:pt x="15218" y="8884"/>
                  <a:pt x="15227" y="9098"/>
                  <a:pt x="15230" y="9327"/>
                </a:cubicBezTo>
                <a:cubicBezTo>
                  <a:pt x="15231" y="9392"/>
                  <a:pt x="15182" y="9667"/>
                  <a:pt x="15230" y="9699"/>
                </a:cubicBezTo>
              </a:path>
              <a:path w="5955" h="6599">
                <a:moveTo>
                  <a:pt x="13543" y="12874"/>
                </a:moveTo>
                <a:cubicBezTo>
                  <a:pt x="13608" y="12873"/>
                  <a:pt x="13626" y="13073"/>
                  <a:pt x="13618" y="13171"/>
                </a:cubicBezTo>
                <a:cubicBezTo>
                  <a:pt x="13614" y="13223"/>
                  <a:pt x="13544" y="13394"/>
                  <a:pt x="13643" y="13345"/>
                </a:cubicBezTo>
              </a:path>
              <a:path w="5955" h="6599">
                <a:moveTo>
                  <a:pt x="14263" y="12774"/>
                </a:moveTo>
                <a:cubicBezTo>
                  <a:pt x="14334" y="12828"/>
                  <a:pt x="14334" y="12950"/>
                  <a:pt x="14337" y="13047"/>
                </a:cubicBezTo>
                <a:cubicBezTo>
                  <a:pt x="14337" y="13105"/>
                  <a:pt x="14337" y="13113"/>
                  <a:pt x="14337" y="13146"/>
                </a:cubicBezTo>
              </a:path>
              <a:path w="5955" h="6599">
                <a:moveTo>
                  <a:pt x="14759" y="12774"/>
                </a:moveTo>
                <a:cubicBezTo>
                  <a:pt x="14759" y="12894"/>
                  <a:pt x="14762" y="13002"/>
                  <a:pt x="14784" y="13122"/>
                </a:cubicBezTo>
                <a:cubicBezTo>
                  <a:pt x="14813" y="13277"/>
                  <a:pt x="14904" y="13322"/>
                  <a:pt x="15056" y="13271"/>
                </a:cubicBezTo>
                <a:cubicBezTo>
                  <a:pt x="15173" y="13232"/>
                  <a:pt x="15211" y="13160"/>
                  <a:pt x="15230" y="13047"/>
                </a:cubicBezTo>
                <a:cubicBezTo>
                  <a:pt x="15088" y="13059"/>
                  <a:pt x="15036" y="13097"/>
                  <a:pt x="14957" y="13221"/>
                </a:cubicBezTo>
                <a:cubicBezTo>
                  <a:pt x="14937" y="13261"/>
                  <a:pt x="14928" y="13268"/>
                  <a:pt x="14932" y="13295"/>
                </a:cubicBezTo>
              </a:path>
              <a:path w="5955" h="6599">
                <a:moveTo>
                  <a:pt x="12601" y="13196"/>
                </a:moveTo>
                <a:cubicBezTo>
                  <a:pt x="12706" y="13178"/>
                  <a:pt x="12767" y="13144"/>
                  <a:pt x="12874" y="13171"/>
                </a:cubicBezTo>
                <a:cubicBezTo>
                  <a:pt x="12899" y="13179"/>
                  <a:pt x="12923" y="13188"/>
                  <a:pt x="12948" y="13196"/>
                </a:cubicBezTo>
              </a:path>
              <a:path w="5955" h="6599">
                <a:moveTo>
                  <a:pt x="12799" y="13643"/>
                </a:moveTo>
                <a:cubicBezTo>
                  <a:pt x="13159" y="13559"/>
                  <a:pt x="13526" y="13532"/>
                  <a:pt x="13891" y="13469"/>
                </a:cubicBezTo>
                <a:cubicBezTo>
                  <a:pt x="14314" y="13396"/>
                  <a:pt x="14731" y="13361"/>
                  <a:pt x="15156" y="13320"/>
                </a:cubicBezTo>
                <a:cubicBezTo>
                  <a:pt x="15255" y="13311"/>
                  <a:pt x="15333" y="13300"/>
                  <a:pt x="15429" y="13295"/>
                </a:cubicBezTo>
              </a:path>
              <a:path w="5955" h="6599">
                <a:moveTo>
                  <a:pt x="14163" y="12154"/>
                </a:moveTo>
                <a:cubicBezTo>
                  <a:pt x="14294" y="12274"/>
                  <a:pt x="14406" y="12420"/>
                  <a:pt x="14536" y="12551"/>
                </a:cubicBezTo>
                <a:cubicBezTo>
                  <a:pt x="14574" y="12590"/>
                  <a:pt x="14591" y="12592"/>
                  <a:pt x="14585" y="12626"/>
                </a:cubicBezTo>
              </a:path>
              <a:path w="5955" h="6599">
                <a:moveTo>
                  <a:pt x="13841" y="12551"/>
                </a:moveTo>
                <a:cubicBezTo>
                  <a:pt x="13911" y="12534"/>
                  <a:pt x="13979" y="12488"/>
                  <a:pt x="14064" y="12502"/>
                </a:cubicBezTo>
                <a:cubicBezTo>
                  <a:pt x="14207" y="12526"/>
                  <a:pt x="14050" y="12668"/>
                  <a:pt x="14015" y="12700"/>
                </a:cubicBezTo>
                <a:cubicBezTo>
                  <a:pt x="14007" y="12708"/>
                  <a:pt x="13998" y="12717"/>
                  <a:pt x="13990" y="12725"/>
                </a:cubicBezTo>
                <a:cubicBezTo>
                  <a:pt x="14050" y="12715"/>
                  <a:pt x="14101" y="12705"/>
                  <a:pt x="14163" y="12700"/>
                </a:cubicBezTo>
                <a:cubicBezTo>
                  <a:pt x="14191" y="12823"/>
                  <a:pt x="14125" y="12908"/>
                  <a:pt x="13990" y="12948"/>
                </a:cubicBezTo>
                <a:cubicBezTo>
                  <a:pt x="13917" y="12948"/>
                  <a:pt x="13893" y="12949"/>
                  <a:pt x="13866" y="12898"/>
                </a:cubicBezTo>
              </a:path>
              <a:path w="5955" h="6599">
                <a:moveTo>
                  <a:pt x="14833" y="11931"/>
                </a:moveTo>
                <a:cubicBezTo>
                  <a:pt x="14810" y="12029"/>
                  <a:pt x="14791" y="12129"/>
                  <a:pt x="14784" y="12229"/>
                </a:cubicBezTo>
                <a:cubicBezTo>
                  <a:pt x="14784" y="12237"/>
                  <a:pt x="14784" y="12246"/>
                  <a:pt x="14784" y="12254"/>
                </a:cubicBezTo>
              </a:path>
              <a:path w="5955" h="6599">
                <a:moveTo>
                  <a:pt x="15106" y="13593"/>
                </a:moveTo>
                <a:cubicBezTo>
                  <a:pt x="15106" y="13585"/>
                  <a:pt x="15106" y="13576"/>
                  <a:pt x="15106" y="13568"/>
                </a:cubicBezTo>
                <a:cubicBezTo>
                  <a:pt x="15035" y="13544"/>
                  <a:pt x="15119" y="13537"/>
                  <a:pt x="15131" y="13519"/>
                </a:cubicBezTo>
                <a:cubicBezTo>
                  <a:pt x="15131" y="13511"/>
                  <a:pt x="15131" y="13502"/>
                  <a:pt x="15131" y="13494"/>
                </a:cubicBezTo>
              </a:path>
              <a:path w="5955" h="6599">
                <a:moveTo>
                  <a:pt x="15131" y="13519"/>
                </a:moveTo>
                <a:lnTo>
                  <a:pt x="15131" y="13519"/>
                </a:lnTo>
              </a:path>
              <a:path w="5955" h="6599">
                <a:moveTo>
                  <a:pt x="15131" y="13543"/>
                </a:moveTo>
                <a:cubicBezTo>
                  <a:pt x="15124" y="13616"/>
                  <a:pt x="15116" y="13626"/>
                  <a:pt x="15106" y="13692"/>
                </a:cubicBezTo>
                <a:cubicBezTo>
                  <a:pt x="15186" y="13692"/>
                  <a:pt x="15252" y="13678"/>
                  <a:pt x="15329" y="13667"/>
                </a:cubicBezTo>
                <a:cubicBezTo>
                  <a:pt x="15369" y="13662"/>
                  <a:pt x="15413" y="13667"/>
                  <a:pt x="15453" y="13667"/>
                </a:cubicBezTo>
              </a:path>
              <a:path w="5955" h="6599">
                <a:moveTo>
                  <a:pt x="15429" y="13395"/>
                </a:moveTo>
                <a:cubicBezTo>
                  <a:pt x="15411" y="13517"/>
                  <a:pt x="15388" y="13643"/>
                  <a:pt x="15379" y="13767"/>
                </a:cubicBezTo>
                <a:cubicBezTo>
                  <a:pt x="15379" y="13849"/>
                  <a:pt x="15379" y="13866"/>
                  <a:pt x="15379" y="13915"/>
                </a:cubicBezTo>
              </a:path>
              <a:path w="5955" h="6599">
                <a:moveTo>
                  <a:pt x="14511" y="13742"/>
                </a:moveTo>
                <a:cubicBezTo>
                  <a:pt x="14511" y="13696"/>
                  <a:pt x="14540" y="13613"/>
                  <a:pt x="14585" y="13593"/>
                </a:cubicBezTo>
                <a:cubicBezTo>
                  <a:pt x="14750" y="13518"/>
                  <a:pt x="14760" y="13713"/>
                  <a:pt x="14734" y="13816"/>
                </a:cubicBezTo>
                <a:cubicBezTo>
                  <a:pt x="14708" y="13921"/>
                  <a:pt x="14582" y="14146"/>
                  <a:pt x="14436" y="14114"/>
                </a:cubicBezTo>
                <a:cubicBezTo>
                  <a:pt x="14420" y="14097"/>
                  <a:pt x="14403" y="14081"/>
                  <a:pt x="14387" y="14064"/>
                </a:cubicBezTo>
                <a:cubicBezTo>
                  <a:pt x="14418" y="13926"/>
                  <a:pt x="14489" y="13904"/>
                  <a:pt x="14635" y="13891"/>
                </a:cubicBezTo>
                <a:cubicBezTo>
                  <a:pt x="14756" y="13880"/>
                  <a:pt x="14855" y="13941"/>
                  <a:pt x="14957" y="13915"/>
                </a:cubicBezTo>
              </a:path>
              <a:path w="5955" h="6599">
                <a:moveTo>
                  <a:pt x="15652" y="10145"/>
                </a:moveTo>
                <a:cubicBezTo>
                  <a:pt x="15513" y="10296"/>
                  <a:pt x="15472" y="10406"/>
                  <a:pt x="15453" y="10616"/>
                </a:cubicBezTo>
                <a:cubicBezTo>
                  <a:pt x="15453" y="10649"/>
                  <a:pt x="15453" y="10683"/>
                  <a:pt x="15453" y="10716"/>
                </a:cubicBezTo>
                <a:cubicBezTo>
                  <a:pt x="15607" y="10750"/>
                  <a:pt x="15778" y="10721"/>
                  <a:pt x="15875" y="10567"/>
                </a:cubicBezTo>
                <a:cubicBezTo>
                  <a:pt x="15953" y="10442"/>
                  <a:pt x="15875" y="10258"/>
                  <a:pt x="15726" y="10269"/>
                </a:cubicBezTo>
                <a:cubicBezTo>
                  <a:pt x="15701" y="10277"/>
                  <a:pt x="15677" y="10286"/>
                  <a:pt x="15652" y="10294"/>
                </a:cubicBezTo>
              </a:path>
              <a:path w="5955" h="6599">
                <a:moveTo>
                  <a:pt x="15751" y="10914"/>
                </a:moveTo>
                <a:cubicBezTo>
                  <a:pt x="15751" y="11082"/>
                  <a:pt x="15754" y="11243"/>
                  <a:pt x="15776" y="11410"/>
                </a:cubicBezTo>
                <a:cubicBezTo>
                  <a:pt x="15806" y="11642"/>
                  <a:pt x="15801" y="11871"/>
                  <a:pt x="15801" y="12105"/>
                </a:cubicBezTo>
                <a:cubicBezTo>
                  <a:pt x="15801" y="12288"/>
                  <a:pt x="15825" y="12466"/>
                  <a:pt x="15825" y="12650"/>
                </a:cubicBezTo>
                <a:cubicBezTo>
                  <a:pt x="15825" y="12729"/>
                  <a:pt x="15843" y="12811"/>
                  <a:pt x="15850" y="12874"/>
                </a:cubicBezTo>
                <a:cubicBezTo>
                  <a:pt x="15863" y="12994"/>
                  <a:pt x="15835" y="13115"/>
                  <a:pt x="15875" y="13221"/>
                </a:cubicBezTo>
              </a:path>
              <a:path w="5955" h="6599">
                <a:moveTo>
                  <a:pt x="15925" y="13494"/>
                </a:moveTo>
                <a:cubicBezTo>
                  <a:pt x="15871" y="13494"/>
                  <a:pt x="15824" y="13539"/>
                  <a:pt x="15801" y="13593"/>
                </a:cubicBezTo>
                <a:cubicBezTo>
                  <a:pt x="15771" y="13662"/>
                  <a:pt x="15738" y="13820"/>
                  <a:pt x="15850" y="13841"/>
                </a:cubicBezTo>
                <a:cubicBezTo>
                  <a:pt x="15979" y="13865"/>
                  <a:pt x="16155" y="13757"/>
                  <a:pt x="16173" y="13618"/>
                </a:cubicBezTo>
                <a:cubicBezTo>
                  <a:pt x="16189" y="13496"/>
                  <a:pt x="16080" y="13428"/>
                  <a:pt x="15974" y="13444"/>
                </a:cubicBezTo>
                <a:cubicBezTo>
                  <a:pt x="15909" y="13466"/>
                  <a:pt x="15894" y="13474"/>
                  <a:pt x="15850" y="13469"/>
                </a:cubicBezTo>
              </a:path>
              <a:path w="5955" h="6599">
                <a:moveTo>
                  <a:pt x="15999" y="8756"/>
                </a:moveTo>
                <a:cubicBezTo>
                  <a:pt x="15982" y="8705"/>
                  <a:pt x="15860" y="8693"/>
                  <a:pt x="15801" y="8706"/>
                </a:cubicBezTo>
                <a:cubicBezTo>
                  <a:pt x="15676" y="8734"/>
                  <a:pt x="15595" y="8802"/>
                  <a:pt x="15503" y="8880"/>
                </a:cubicBezTo>
                <a:cubicBezTo>
                  <a:pt x="15622" y="8963"/>
                  <a:pt x="15777" y="8968"/>
                  <a:pt x="15900" y="9054"/>
                </a:cubicBezTo>
                <a:cubicBezTo>
                  <a:pt x="15994" y="9119"/>
                  <a:pt x="16085" y="9265"/>
                  <a:pt x="15949" y="9351"/>
                </a:cubicBezTo>
                <a:cubicBezTo>
                  <a:pt x="15865" y="9404"/>
                  <a:pt x="15668" y="9430"/>
                  <a:pt x="15627" y="9302"/>
                </a:cubicBezTo>
                <a:cubicBezTo>
                  <a:pt x="15575" y="9141"/>
                  <a:pt x="15756" y="9043"/>
                  <a:pt x="15850" y="8954"/>
                </a:cubicBezTo>
                <a:cubicBezTo>
                  <a:pt x="15857" y="8947"/>
                  <a:pt x="15939" y="8862"/>
                  <a:pt x="15900" y="8830"/>
                </a:cubicBezTo>
                <a:cubicBezTo>
                  <a:pt x="15892" y="8830"/>
                  <a:pt x="15883" y="8830"/>
                  <a:pt x="15875" y="8830"/>
                </a:cubicBezTo>
              </a:path>
              <a:path w="5955" h="6599">
                <a:moveTo>
                  <a:pt x="15949" y="13990"/>
                </a:moveTo>
                <a:cubicBezTo>
                  <a:pt x="16055" y="13966"/>
                  <a:pt x="16120" y="13893"/>
                  <a:pt x="16222" y="13990"/>
                </a:cubicBezTo>
                <a:cubicBezTo>
                  <a:pt x="16346" y="14108"/>
                  <a:pt x="16187" y="14264"/>
                  <a:pt x="16073" y="14312"/>
                </a:cubicBezTo>
                <a:cubicBezTo>
                  <a:pt x="15974" y="14332"/>
                  <a:pt x="15959" y="14340"/>
                  <a:pt x="15900" y="14337"/>
                </a:cubicBezTo>
                <a:cubicBezTo>
                  <a:pt x="15942" y="14252"/>
                  <a:pt x="16037" y="14163"/>
                  <a:pt x="16148" y="14163"/>
                </a:cubicBezTo>
                <a:cubicBezTo>
                  <a:pt x="16208" y="14163"/>
                  <a:pt x="16283" y="14197"/>
                  <a:pt x="16297" y="14238"/>
                </a:cubicBezTo>
              </a:path>
              <a:path w="5955" h="6599">
                <a:moveTo>
                  <a:pt x="10740" y="9426"/>
                </a:moveTo>
                <a:cubicBezTo>
                  <a:pt x="10823" y="9371"/>
                  <a:pt x="10925" y="9355"/>
                  <a:pt x="11013" y="9302"/>
                </a:cubicBezTo>
                <a:cubicBezTo>
                  <a:pt x="11036" y="9279"/>
                  <a:pt x="11040" y="9271"/>
                  <a:pt x="11063" y="9277"/>
                </a:cubicBezTo>
                <a:cubicBezTo>
                  <a:pt x="11109" y="9447"/>
                  <a:pt x="11112" y="9595"/>
                  <a:pt x="11112" y="9773"/>
                </a:cubicBezTo>
                <a:cubicBezTo>
                  <a:pt x="11112" y="9790"/>
                  <a:pt x="11112" y="9806"/>
                  <a:pt x="11112" y="9823"/>
                </a:cubicBezTo>
              </a:path>
              <a:path w="5955" h="6599">
                <a:moveTo>
                  <a:pt x="14635" y="14263"/>
                </a:moveTo>
                <a:cubicBezTo>
                  <a:pt x="14645" y="14233"/>
                  <a:pt x="14708" y="14186"/>
                  <a:pt x="14759" y="14188"/>
                </a:cubicBezTo>
                <a:cubicBezTo>
                  <a:pt x="14953" y="14196"/>
                  <a:pt x="14920" y="14396"/>
                  <a:pt x="14858" y="14511"/>
                </a:cubicBezTo>
                <a:cubicBezTo>
                  <a:pt x="14808" y="14604"/>
                  <a:pt x="14712" y="14709"/>
                  <a:pt x="14610" y="14635"/>
                </a:cubicBezTo>
                <a:cubicBezTo>
                  <a:pt x="14602" y="14627"/>
                  <a:pt x="14593" y="14618"/>
                  <a:pt x="14585" y="14610"/>
                </a:cubicBezTo>
                <a:cubicBezTo>
                  <a:pt x="14654" y="14496"/>
                  <a:pt x="14738" y="14491"/>
                  <a:pt x="14883" y="14511"/>
                </a:cubicBezTo>
                <a:cubicBezTo>
                  <a:pt x="14957" y="14530"/>
                  <a:pt x="14964" y="14538"/>
                  <a:pt x="15007" y="14536"/>
                </a:cubicBezTo>
              </a:path>
              <a:path w="5955" h="6599">
                <a:moveTo>
                  <a:pt x="15404" y="14039"/>
                </a:moveTo>
                <a:cubicBezTo>
                  <a:pt x="15431" y="13985"/>
                  <a:pt x="15465" y="13990"/>
                  <a:pt x="15528" y="13990"/>
                </a:cubicBezTo>
                <a:cubicBezTo>
                  <a:pt x="15519" y="14099"/>
                  <a:pt x="15500" y="14151"/>
                  <a:pt x="15429" y="14238"/>
                </a:cubicBezTo>
                <a:cubicBezTo>
                  <a:pt x="15443" y="14178"/>
                  <a:pt x="15508" y="14139"/>
                  <a:pt x="15577" y="14163"/>
                </a:cubicBezTo>
                <a:cubicBezTo>
                  <a:pt x="15751" y="14223"/>
                  <a:pt x="15587" y="14363"/>
                  <a:pt x="15503" y="14412"/>
                </a:cubicBezTo>
                <a:cubicBezTo>
                  <a:pt x="15437" y="14451"/>
                  <a:pt x="15387" y="14440"/>
                  <a:pt x="15329" y="14412"/>
                </a:cubicBezTo>
              </a:path>
              <a:path w="5955" h="6599">
                <a:moveTo>
                  <a:pt x="14312" y="14883"/>
                </a:moveTo>
                <a:cubicBezTo>
                  <a:pt x="14552" y="14803"/>
                  <a:pt x="14781" y="14750"/>
                  <a:pt x="15032" y="14709"/>
                </a:cubicBezTo>
                <a:cubicBezTo>
                  <a:pt x="15448" y="14641"/>
                  <a:pt x="15854" y="14625"/>
                  <a:pt x="16272" y="14585"/>
                </a:cubicBezTo>
                <a:cubicBezTo>
                  <a:pt x="16416" y="14571"/>
                  <a:pt x="16550" y="14560"/>
                  <a:pt x="16694" y="14560"/>
                </a:cubicBezTo>
              </a:path>
              <a:path w="5955" h="6599">
                <a:moveTo>
                  <a:pt x="14015" y="14412"/>
                </a:moveTo>
                <a:cubicBezTo>
                  <a:pt x="14132" y="14373"/>
                  <a:pt x="14213" y="14362"/>
                  <a:pt x="14337" y="14362"/>
                </a:cubicBezTo>
              </a:path>
              <a:path w="5955" h="6599">
                <a:moveTo>
                  <a:pt x="16396" y="14709"/>
                </a:moveTo>
                <a:cubicBezTo>
                  <a:pt x="16379" y="14657"/>
                  <a:pt x="16266" y="14705"/>
                  <a:pt x="16222" y="14734"/>
                </a:cubicBezTo>
                <a:cubicBezTo>
                  <a:pt x="16181" y="14776"/>
                  <a:pt x="16173" y="14784"/>
                  <a:pt x="16148" y="14808"/>
                </a:cubicBezTo>
                <a:cubicBezTo>
                  <a:pt x="16215" y="14914"/>
                  <a:pt x="16347" y="14952"/>
                  <a:pt x="16421" y="15056"/>
                </a:cubicBezTo>
                <a:cubicBezTo>
                  <a:pt x="16506" y="15175"/>
                  <a:pt x="16323" y="15236"/>
                  <a:pt x="16247" y="15255"/>
                </a:cubicBezTo>
                <a:cubicBezTo>
                  <a:pt x="16239" y="15255"/>
                  <a:pt x="16230" y="15255"/>
                  <a:pt x="16222" y="15255"/>
                </a:cubicBezTo>
                <a:cubicBezTo>
                  <a:pt x="16253" y="15084"/>
                  <a:pt x="16357" y="14981"/>
                  <a:pt x="16446" y="14833"/>
                </a:cubicBezTo>
                <a:cubicBezTo>
                  <a:pt x="16483" y="14771"/>
                  <a:pt x="16482" y="14759"/>
                  <a:pt x="16421" y="1475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28800" y="6456240"/>
            <a:ext cx="9360" cy="9720"/>
          </a:xfrm>
          <a:custGeom>
            <a:avLst/>
            <a:gdLst/>
            <a:ahLst/>
            <a:rect l="l" t="t" r="r" b="b"/>
            <a:pathLst>
              <a:path w="25" h="26">
                <a:moveTo>
                  <a:pt x="2604" y="17934"/>
                </a:moveTo>
                <a:cubicBezTo>
                  <a:pt x="2576" y="17934"/>
                  <a:pt x="2571" y="17937"/>
                  <a:pt x="2604" y="1795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858080" y="4367160"/>
            <a:ext cx="196920" cy="223920"/>
          </a:xfrm>
          <a:custGeom>
            <a:avLst/>
            <a:gdLst/>
            <a:ahLst/>
            <a:rect l="l" t="t" r="r" b="b"/>
            <a:pathLst>
              <a:path w="547" h="622">
                <a:moveTo>
                  <a:pt x="22101" y="12154"/>
                </a:moveTo>
                <a:cubicBezTo>
                  <a:pt x="22042" y="12134"/>
                  <a:pt x="22107" y="12130"/>
                  <a:pt x="22051" y="12204"/>
                </a:cubicBezTo>
                <a:cubicBezTo>
                  <a:pt x="22035" y="12221"/>
                  <a:pt x="22018" y="12237"/>
                  <a:pt x="22002" y="12254"/>
                </a:cubicBezTo>
                <a:cubicBezTo>
                  <a:pt x="21913" y="12311"/>
                  <a:pt x="22066" y="12160"/>
                  <a:pt x="22076" y="12154"/>
                </a:cubicBezTo>
                <a:cubicBezTo>
                  <a:pt x="22270" y="12046"/>
                  <a:pt x="22313" y="12329"/>
                  <a:pt x="22250" y="12452"/>
                </a:cubicBezTo>
                <a:cubicBezTo>
                  <a:pt x="22170" y="12609"/>
                  <a:pt x="21991" y="12717"/>
                  <a:pt x="21828" y="12750"/>
                </a:cubicBezTo>
                <a:cubicBezTo>
                  <a:pt x="21966" y="12612"/>
                  <a:pt x="22043" y="12554"/>
                  <a:pt x="22250" y="12576"/>
                </a:cubicBezTo>
                <a:cubicBezTo>
                  <a:pt x="22310" y="12582"/>
                  <a:pt x="22327" y="12614"/>
                  <a:pt x="22374" y="1262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10320" y="4438800"/>
            <a:ext cx="150840" cy="231480"/>
          </a:xfrm>
          <a:custGeom>
            <a:avLst/>
            <a:gdLst/>
            <a:ahLst/>
            <a:rect l="l" t="t" r="r" b="b"/>
            <a:pathLst>
              <a:path w="422" h="646">
                <a:moveTo>
                  <a:pt x="21258" y="12601"/>
                </a:moveTo>
                <a:cubicBezTo>
                  <a:pt x="21258" y="12630"/>
                  <a:pt x="21192" y="12520"/>
                  <a:pt x="21158" y="12477"/>
                </a:cubicBezTo>
                <a:cubicBezTo>
                  <a:pt x="21069" y="12367"/>
                  <a:pt x="21065" y="12350"/>
                  <a:pt x="20935" y="12328"/>
                </a:cubicBezTo>
                <a:cubicBezTo>
                  <a:pt x="20893" y="12426"/>
                  <a:pt x="20780" y="12694"/>
                  <a:pt x="20935" y="12774"/>
                </a:cubicBezTo>
                <a:cubicBezTo>
                  <a:pt x="21108" y="12864"/>
                  <a:pt x="21200" y="12626"/>
                  <a:pt x="21233" y="12526"/>
                </a:cubicBezTo>
                <a:cubicBezTo>
                  <a:pt x="21252" y="12469"/>
                  <a:pt x="21261" y="12426"/>
                  <a:pt x="21258" y="12477"/>
                </a:cubicBezTo>
                <a:cubicBezTo>
                  <a:pt x="21278" y="12622"/>
                  <a:pt x="21331" y="12835"/>
                  <a:pt x="21258" y="12973"/>
                </a:cubicBezTo>
                <a:cubicBezTo>
                  <a:pt x="21250" y="12973"/>
                  <a:pt x="21241" y="12973"/>
                  <a:pt x="21233" y="1297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13720" y="4500720"/>
            <a:ext cx="554040" cy="401400"/>
          </a:xfrm>
          <a:custGeom>
            <a:avLst/>
            <a:gdLst/>
            <a:ahLst/>
            <a:rect l="l" t="t" r="r" b="b"/>
            <a:pathLst>
              <a:path w="1539" h="1117">
                <a:moveTo>
                  <a:pt x="20464" y="12700"/>
                </a:moveTo>
                <a:cubicBezTo>
                  <a:pt x="20464" y="12746"/>
                  <a:pt x="20416" y="12607"/>
                  <a:pt x="20389" y="12576"/>
                </a:cubicBezTo>
                <a:cubicBezTo>
                  <a:pt x="20322" y="12509"/>
                  <a:pt x="20308" y="12485"/>
                  <a:pt x="20241" y="12502"/>
                </a:cubicBezTo>
                <a:cubicBezTo>
                  <a:pt x="20074" y="12678"/>
                  <a:pt x="20039" y="12766"/>
                  <a:pt x="20117" y="12998"/>
                </a:cubicBezTo>
                <a:cubicBezTo>
                  <a:pt x="20273" y="13009"/>
                  <a:pt x="20373" y="12949"/>
                  <a:pt x="20414" y="12774"/>
                </a:cubicBezTo>
                <a:cubicBezTo>
                  <a:pt x="20427" y="12718"/>
                  <a:pt x="20414" y="12642"/>
                  <a:pt x="20414" y="12700"/>
                </a:cubicBezTo>
                <a:cubicBezTo>
                  <a:pt x="20448" y="12894"/>
                  <a:pt x="20462" y="13055"/>
                  <a:pt x="20439" y="13246"/>
                </a:cubicBezTo>
                <a:cubicBezTo>
                  <a:pt x="20425" y="13365"/>
                  <a:pt x="20375" y="13102"/>
                  <a:pt x="20365" y="13072"/>
                </a:cubicBezTo>
              </a:path>
              <a:path w="1539" h="1117">
                <a:moveTo>
                  <a:pt x="18926" y="12849"/>
                </a:moveTo>
                <a:cubicBezTo>
                  <a:pt x="18972" y="13068"/>
                  <a:pt x="18976" y="13271"/>
                  <a:pt x="18976" y="13494"/>
                </a:cubicBezTo>
                <a:cubicBezTo>
                  <a:pt x="18976" y="13535"/>
                  <a:pt x="18976" y="13715"/>
                  <a:pt x="19000" y="13543"/>
                </a:cubicBezTo>
              </a:path>
              <a:path w="1539" h="1117">
                <a:moveTo>
                  <a:pt x="19397" y="12799"/>
                </a:moveTo>
                <a:cubicBezTo>
                  <a:pt x="19497" y="12716"/>
                  <a:pt x="19549" y="12691"/>
                  <a:pt x="19670" y="12700"/>
                </a:cubicBezTo>
                <a:cubicBezTo>
                  <a:pt x="19761" y="12944"/>
                  <a:pt x="19739" y="13059"/>
                  <a:pt x="19571" y="13271"/>
                </a:cubicBezTo>
                <a:cubicBezTo>
                  <a:pt x="19481" y="13361"/>
                  <a:pt x="19462" y="13394"/>
                  <a:pt x="19372" y="13370"/>
                </a:cubicBezTo>
                <a:cubicBezTo>
                  <a:pt x="19398" y="13199"/>
                  <a:pt x="19452" y="13092"/>
                  <a:pt x="19645" y="13097"/>
                </a:cubicBezTo>
                <a:cubicBezTo>
                  <a:pt x="19822" y="13101"/>
                  <a:pt x="19854" y="13223"/>
                  <a:pt x="19869" y="13370"/>
                </a:cubicBezTo>
              </a:path>
              <a:path w="1539" h="1117">
                <a:moveTo>
                  <a:pt x="20241" y="13370"/>
                </a:moveTo>
                <a:lnTo>
                  <a:pt x="20241" y="13370"/>
                </a:lnTo>
                <a:lnTo>
                  <a:pt x="20241" y="13370"/>
                </a:lnTo>
              </a:path>
              <a:path w="1539" h="1117">
                <a:moveTo>
                  <a:pt x="20241" y="13370"/>
                </a:moveTo>
                <a:lnTo>
                  <a:pt x="20241" y="13370"/>
                </a:lnTo>
              </a:path>
              <a:path w="1539" h="1117">
                <a:moveTo>
                  <a:pt x="20241" y="13370"/>
                </a:moveTo>
                <a:cubicBezTo>
                  <a:pt x="20221" y="13309"/>
                  <a:pt x="20208" y="13380"/>
                  <a:pt x="20191" y="13419"/>
                </a:cubicBezTo>
                <a:cubicBezTo>
                  <a:pt x="20225" y="13411"/>
                  <a:pt x="20281" y="13360"/>
                  <a:pt x="20241" y="13320"/>
                </a:cubicBezTo>
                <a:cubicBezTo>
                  <a:pt x="20186" y="13265"/>
                  <a:pt x="20124" y="13380"/>
                  <a:pt x="20117" y="13419"/>
                </a:cubicBezTo>
                <a:cubicBezTo>
                  <a:pt x="20094" y="13555"/>
                  <a:pt x="20222" y="13494"/>
                  <a:pt x="20241" y="13419"/>
                </a:cubicBezTo>
                <a:cubicBezTo>
                  <a:pt x="20241" y="13411"/>
                  <a:pt x="20241" y="13403"/>
                  <a:pt x="20241" y="13395"/>
                </a:cubicBezTo>
                <a:cubicBezTo>
                  <a:pt x="20213" y="13400"/>
                  <a:pt x="20097" y="13439"/>
                  <a:pt x="20141" y="13494"/>
                </a:cubicBezTo>
                <a:cubicBezTo>
                  <a:pt x="20169" y="13494"/>
                  <a:pt x="20180" y="13492"/>
                  <a:pt x="20191" y="1346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29200" y="350028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16470" y="9748"/>
                </a:moveTo>
                <a:cubicBezTo>
                  <a:pt x="16470" y="9740"/>
                  <a:pt x="16470" y="9731"/>
                  <a:pt x="16470" y="972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81840" y="3483000"/>
            <a:ext cx="88920" cy="17280"/>
          </a:xfrm>
          <a:custGeom>
            <a:avLst/>
            <a:gdLst/>
            <a:ahLst/>
            <a:rect l="l" t="t" r="r" b="b"/>
            <a:pathLst>
              <a:path w="249" h="50">
                <a:moveTo>
                  <a:pt x="16892" y="9674"/>
                </a:moveTo>
                <a:lnTo>
                  <a:pt x="16892" y="9674"/>
                </a:lnTo>
              </a:path>
              <a:path w="249" h="50">
                <a:moveTo>
                  <a:pt x="17090" y="9723"/>
                </a:moveTo>
                <a:cubicBezTo>
                  <a:pt x="17107" y="9723"/>
                  <a:pt x="17123" y="9723"/>
                  <a:pt x="17140" y="9723"/>
                </a:cubicBezTo>
              </a:path>
              <a:path w="249" h="50">
                <a:moveTo>
                  <a:pt x="17140" y="9723"/>
                </a:moveTo>
                <a:lnTo>
                  <a:pt x="17140" y="9723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69040" y="3490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413" y="9699"/>
                </a:moveTo>
                <a:lnTo>
                  <a:pt x="17413" y="9699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57960" y="3500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661" y="9723"/>
                </a:moveTo>
                <a:lnTo>
                  <a:pt x="17661" y="9723"/>
                </a:lnTo>
                <a:lnTo>
                  <a:pt x="17661" y="9723"/>
                </a:lnTo>
              </a:path>
              <a:path w="1" h="1">
                <a:moveTo>
                  <a:pt x="17661" y="9723"/>
                </a:moveTo>
                <a:lnTo>
                  <a:pt x="17661" y="9723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  <p:sndAc>
      <p:stSnd>
        <p:snd r:embed="rId9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870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800"/>
                </a:solidFill>
                <a:latin typeface="Comic Sans MS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200"/>
                </a:solidFill>
                <a:latin typeface="Comic Sans MS"/>
              </a:rPr>
              <a:t>E-75 Pizzazz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edge/>
    <p:sndAc>
      <p:stSnd>
        <p:snd r:embed="rId1" name="voltag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02:17:36Z</dcterms:created>
  <dc:creator>ccps</dc:creator>
  <dc:description/>
  <dc:language>en-US</dc:language>
  <cp:lastModifiedBy>deanne elizabeth mcgrath</cp:lastModifiedBy>
  <dcterms:modified xsi:type="dcterms:W3CDTF">2011-04-18T17:25:46Z</dcterms:modified>
  <cp:revision>12</cp:revision>
  <dc:subject/>
  <dc:title>Obj 7.5:  To solve two step equations.</dc:title>
</cp:coreProperties>
</file>